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87810"/>
        <c:axId val="30744532"/>
      </c:barChart>
      <c:catAx>
        <c:axId val="51587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4532"/>
        <c:crosses val="autoZero"/>
        <c:auto val="1"/>
        <c:lblAlgn val="ctr"/>
        <c:lblOffset val="100"/>
        <c:noMultiLvlLbl val="0"/>
      </c:catAx>
      <c:valAx>
        <c:axId val="30744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7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D87-F1D4-4902-B4F6-01BCEF9B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BEE-B63C-43EF-AE38-5378EDC7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E9F-3A00-491E-AD44-6C85551E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540-F4CD-4FB6-9F14-4579DB1A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AD4-94E6-4990-B5FF-EDD372F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030-2FDC-497F-B329-1A4AAFF8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55B-71D3-44F5-8E90-2CB80AB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71A-3D0B-4987-BA31-C1D2CA8A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A4D-E502-4AD2-943C-F4E084A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922-2906-4095-B6FE-FCEAEB9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CBA-FDDA-4E78-8E88-4D4EBAE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76E-305D-4AF4-A44D-F9785BD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CEBF4-C088-4D0A-8AFF-945A80A302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