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159347"/>
        <c:axId val="26544931"/>
      </c:barChart>
      <c:catAx>
        <c:axId val="861593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544931"/>
        <c:crosses val="autoZero"/>
        <c:auto val="1"/>
        <c:lblAlgn val="ctr"/>
        <c:lblOffset val="100"/>
        <c:noMultiLvlLbl val="0"/>
      </c:catAx>
      <c:valAx>
        <c:axId val="2654493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1593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321B8-C3E0-4B0E-A7A6-1E1F41A410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982A-2FF4-4D35-BDF7-3881F000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6A9D-490C-4AB2-AA1F-07586919F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13BB-34C8-4F35-A024-D3F03451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F083-13C2-4220-BDE4-2E1C1C94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0DD6-A12F-40CA-B5A3-E537F6C1F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CC39-C5A0-4273-9F6F-A553CF7D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DD6E-B029-48F3-BD93-7F4FA378E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C070-73EC-48E3-A7F8-266880522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606A-1B11-475E-A178-06F8E6AD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22F09-6B8B-4F9B-B057-B89F3F5DC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CCF3-D237-4311-A21C-54AAC778B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2A1DD1-27DA-47A2-A170-F302B1B308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