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65852"/>
        <c:axId val="42590015"/>
      </c:barChart>
      <c:catAx>
        <c:axId val="394658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90015"/>
        <c:crosses val="autoZero"/>
        <c:auto val="1"/>
        <c:lblAlgn val="ctr"/>
        <c:lblOffset val="100"/>
        <c:noMultiLvlLbl val="0"/>
      </c:catAx>
      <c:valAx>
        <c:axId val="42590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658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E44A-2046-4592-8D11-E31D82EB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A30A-D1DF-4C22-BDC5-F65B0146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D783-BF28-4947-93A4-BCC6B9B3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74E2-9FA8-42BD-A4B6-E6CFAB71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94F7-C3C7-4287-8013-C2608BF4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77F8-275B-49EF-9EA6-51DB0B82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FF9-BEBB-4270-9B1D-841093A2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1FCC-1D7E-4A90-8E05-8B7C7E2F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B646-FC78-4E63-AF31-824561FA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1D3A-4EA7-4953-851C-6C9D9D5E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4D6-1B00-49F9-AB99-FE35643A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6E27-B522-429A-A409-D72EA486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D677A-FAEB-4C38-851F-F3B175D1DC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