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51576"/>
        <c:axId val="36789948"/>
      </c:barChart>
      <c:catAx>
        <c:axId val="10051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89948"/>
        <c:crosses val="autoZero"/>
        <c:auto val="1"/>
        <c:lblAlgn val="ctr"/>
        <c:lblOffset val="100"/>
        <c:noMultiLvlLbl val="0"/>
      </c:catAx>
      <c:valAx>
        <c:axId val="36789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51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70D-23A9-4946-929E-970C9416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A3A-BACB-4218-AA7E-AD393C4F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B6D-9746-4ADE-A7E6-CD8079F9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737-7940-402A-98F3-73E73D24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A5A-C09F-4C22-AB18-AA96AC4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3BC-D023-4811-B186-DA65582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747-34F6-4723-87D9-4432C33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208-40B3-4260-9CAA-03A642A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86A-018B-4AC2-A1B8-690047E5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FE3-6B89-442A-A5F3-E5471EC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44F-0F7E-4311-9CC7-12BE3D4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2F0-7F81-4744-8412-D447349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7ED70-2A19-412A-8278-D622AB6A1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