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93943"/>
        <c:axId val="81755306"/>
      </c:barChart>
      <c:catAx>
        <c:axId val="23993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5306"/>
        <c:crosses val="autoZero"/>
        <c:auto val="1"/>
        <c:lblAlgn val="ctr"/>
        <c:lblOffset val="100"/>
        <c:noMultiLvlLbl val="0"/>
      </c:catAx>
      <c:valAx>
        <c:axId val="8175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93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5A3-985E-4E70-A01A-6880D4B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C11-8B6D-4389-88F3-2F6B3830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B9C-2F65-4D80-B7C0-437D1742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0D6-7BE2-4D55-A085-D6D949C6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FEF-6F84-43C9-8DB3-E26CD70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1CA-BEEC-42AE-94A5-B4DA440D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779-E76B-4B40-845E-6E148F5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36C-16FA-423A-816D-BE8F3255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672-B05C-4D1B-91B2-6308DF7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E97-F7E8-46F3-94D4-7C9560E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0FF-61AA-43BB-9BA9-46DD7F2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217-BE8F-4C6C-915C-14B51AF7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30E9E-183B-4657-86B3-30C3796B4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