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46372"/>
        <c:axId val="72700499"/>
      </c:barChart>
      <c:catAx>
        <c:axId val="221463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00499"/>
        <c:crosses val="autoZero"/>
        <c:auto val="1"/>
        <c:lblAlgn val="ctr"/>
        <c:lblOffset val="100"/>
        <c:noMultiLvlLbl val="0"/>
      </c:catAx>
      <c:valAx>
        <c:axId val="727004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463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404-9C32-4B27-85C1-DE75FFA1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5990-A2F4-4698-B6BA-AA34F5C4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0D57-C1A7-4868-AED4-4CDB2EF0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6369-EA21-4F07-A790-F601DBF1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5694-CC90-41E0-ACE1-29B8F662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F599-0D65-43A9-B00E-A3E9DEC7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46B9-D1F1-4EC6-9BE0-35A05914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A9E5-C76B-408D-B06B-43A33152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1E53-FD80-4F0C-BED7-45FDDA66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B79C-5D73-42F7-BAE9-6F7F6A43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EAAF-7A64-43C1-A1B8-501D7CB7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5E03-6763-4626-AD84-12AE53D1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4FAAB-9A6A-4945-8694-4543E8C4D2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