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96871"/>
        <c:axId val="42290474"/>
      </c:barChart>
      <c:catAx>
        <c:axId val="63496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90474"/>
        <c:crosses val="autoZero"/>
        <c:auto val="1"/>
        <c:lblAlgn val="ctr"/>
        <c:lblOffset val="100"/>
        <c:noMultiLvlLbl val="0"/>
      </c:catAx>
      <c:valAx>
        <c:axId val="42290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96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1FF-72CF-4BB6-94C4-0BE0CF88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C30-2C75-4225-A293-EF184A4A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16A-EA3C-4F0A-80C0-1540CF48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1B2-1D72-4FC2-B2B0-DC096637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471-7837-4577-B7B6-12227517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0BB-8FF8-4811-ACF5-547640F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229-E6C0-4C87-B0B0-5E1F5FA7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E27-8DA2-46B7-9E12-109E263B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949-F3FC-4C9C-A344-0DA5BD0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7DE-0BC7-42BA-9271-E8CC8FC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C1F-E8F2-4678-A57E-C453E41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9EF-6AA2-4F37-BEA2-241275C2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10844-ECA2-4A77-86F4-5D9BB45F75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