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12234"/>
        <c:axId val="52022579"/>
      </c:barChart>
      <c:catAx>
        <c:axId val="79112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2579"/>
        <c:crosses val="autoZero"/>
        <c:auto val="1"/>
        <c:lblAlgn val="ctr"/>
        <c:lblOffset val="100"/>
        <c:noMultiLvlLbl val="0"/>
      </c:catAx>
      <c:valAx>
        <c:axId val="52022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12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ADD-4FEB-4479-A639-C0BC7E4E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196-01F4-44E1-BC21-EC3E7BF7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CC5-0569-445C-8543-697C9ADF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FB3-6E4B-4ECF-904F-B403A364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0BD-35FE-4A62-B851-F514EF2D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92F-69D3-4E07-AA10-50537C93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845-3FC8-440C-8E7E-18E94080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F04-36F5-48A7-BA6F-73D99D68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D2D-37DE-436D-AE15-F454A760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825-2B67-4766-96B3-9C841BAD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46E-C855-4365-8AC8-B13013C0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93A-E966-4F59-800C-F146EFD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66395-FEF9-437D-8137-2D80BA57E8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