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06150"/>
        <c:axId val="85141079"/>
      </c:barChart>
      <c:catAx>
        <c:axId val="539061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41079"/>
        <c:crosses val="autoZero"/>
        <c:auto val="1"/>
        <c:lblAlgn val="ctr"/>
        <c:lblOffset val="100"/>
        <c:noMultiLvlLbl val="0"/>
      </c:catAx>
      <c:valAx>
        <c:axId val="85141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061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90AC-35A1-4A0A-9B57-0B5C0BA3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5BC-6CB7-4F8B-A2B3-90B4F013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3BF-8858-4A3E-9FCD-4B29486D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CA1-1745-438B-9484-4F90D7F4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6DFE-E8BF-4129-8D25-E6AD875A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C4FF-BDD8-4C81-BF2B-A47C2C1D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A56-8D88-4C09-A4C2-8E425563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FF2-2F6B-4B0E-8481-7290D258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F47-8417-4092-8F5D-E78FC3F9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DA38-0D55-4498-9E76-0B3B2B32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9F6-714D-4EFA-8DD3-F93510BA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99AB-446C-4BC2-B2AE-07239F23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9F879-24A6-4345-B1BF-BF053FFB0F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