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919614"/>
        <c:axId val="27050868"/>
      </c:barChart>
      <c:catAx>
        <c:axId val="62919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50868"/>
        <c:crosses val="autoZero"/>
        <c:auto val="1"/>
        <c:lblAlgn val="ctr"/>
        <c:lblOffset val="100"/>
        <c:noMultiLvlLbl val="0"/>
      </c:catAx>
      <c:valAx>
        <c:axId val="27050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19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B3DB-9E53-4485-A2D7-C900F459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1CAA-9131-4681-8383-4B5CAA22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0F90-282B-4B61-B124-219FAE49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3EFB-AA26-49C8-A68E-F81E1F48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1103-53CF-4103-96F5-E4EF2EAC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D7CF-3C7C-437D-BD9C-628F2BE2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137F-FD47-4247-BB17-943E7212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710-4B6A-41B9-A4CB-EE3C547A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101F-F222-4091-8B97-976CA175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8E33-A021-446F-9F27-18403F17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130-D3C0-4F09-B2CF-C20B41E0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875E-EF86-49D2-8B0F-86FA6015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A2281-253D-4A8B-9CAE-814E353050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