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54900"/>
        <c:axId val="35600369"/>
      </c:barChart>
      <c:catAx>
        <c:axId val="34254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0369"/>
        <c:crosses val="autoZero"/>
        <c:auto val="1"/>
        <c:lblAlgn val="ctr"/>
        <c:lblOffset val="100"/>
        <c:noMultiLvlLbl val="0"/>
      </c:catAx>
      <c:valAx>
        <c:axId val="35600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4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9D0-0644-496A-BA70-CE4E4D3F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A10-980C-4084-B54D-E4CFD7F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135-E38E-42E2-8818-59953227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854-FF4C-4B30-9010-4B32BE79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8E5-5319-44C1-B3A2-80AE0CD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199-BE7E-449F-B0D0-5ECF89C7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43E-9BC9-4BFE-974D-F7D2DB7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BF3-042C-423E-86FD-791E922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835-0D54-4DE5-BDA8-7694A82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609-585B-41E2-9D8E-78AA120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4CE-1831-430E-B4EA-4D501A2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2BE-DC6D-4892-BF0C-2D6F8B4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D4D64-8896-420E-A7C7-4B8C24433D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