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49539"/>
        <c:axId val="99217814"/>
      </c:barChart>
      <c:catAx>
        <c:axId val="12449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17814"/>
        <c:crosses val="autoZero"/>
        <c:auto val="1"/>
        <c:lblAlgn val="ctr"/>
        <c:lblOffset val="100"/>
        <c:noMultiLvlLbl val="0"/>
      </c:catAx>
      <c:valAx>
        <c:axId val="99217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49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E38-40AA-4FCC-93AA-B9D0AADF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9E6-6280-44E6-B5C9-F43870AB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D04-FD58-47AE-AC17-1FBE775A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6FD-478B-4199-873D-5781B059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79E-2648-4C70-8481-96F711A2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D55-37F8-4494-8C52-C56A99C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11E-F9E3-49CD-ABF6-874A76AC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AC6-2149-423A-B7FB-4C5A1C5E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8FE-DBB5-4FAE-A175-70DD8294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D1F-87BE-475F-B79C-58EB753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088-1551-44D9-A3CD-8F0F2D6B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639-5AA7-4CA8-887C-E455DCA5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49BD5-55C1-4DE6-866F-63A2649F84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