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45051"/>
        <c:axId val="69428738"/>
      </c:barChart>
      <c:catAx>
        <c:axId val="80345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28738"/>
        <c:crosses val="autoZero"/>
        <c:auto val="1"/>
        <c:lblAlgn val="ctr"/>
        <c:lblOffset val="100"/>
        <c:noMultiLvlLbl val="0"/>
      </c:catAx>
      <c:valAx>
        <c:axId val="69428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45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75E-B961-4D59-BD0B-2E987256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240-776A-4E39-AC0E-66C01DA4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D22-7111-46DB-AF60-BFAA8377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7F4-5383-41A4-B554-83503A8F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B0F-CC90-4E33-930F-159BAA60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F60-8CDC-4D01-82B5-42960BC5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073-BF42-4DC3-9CB8-7A9B39FB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D8A-ADE1-4595-A888-EC1E11A0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F61-5A1F-44F3-9E9C-08F18429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3E0-3E4F-49E4-AD1B-F85CBFD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305-98CC-4B62-A473-72289941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DFB-0B4D-44CB-B3EA-C80DD2A9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B6C48-915F-4011-A4DE-D34A198B1C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