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91565"/>
        <c:axId val="23679848"/>
      </c:barChart>
      <c:catAx>
        <c:axId val="90491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79848"/>
        <c:crosses val="autoZero"/>
        <c:auto val="1"/>
        <c:lblAlgn val="ctr"/>
        <c:lblOffset val="100"/>
        <c:noMultiLvlLbl val="0"/>
      </c:catAx>
      <c:valAx>
        <c:axId val="23679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91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66A-8AB6-4F1E-BE3A-2D517848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244-9CD3-4255-9B16-4268BBB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4EF-0C0E-44DE-9C53-C8B69FC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ADD-DC3A-45A1-99AD-06D3BC8B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E4F-B805-4FD6-A740-871F2D3E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346-6173-4BDF-A459-1021FC4D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0A4-A5D3-4DBB-A026-6F274E4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D9C-56A4-418A-B2EA-DFD4CCF9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0F6-AC35-4FAA-A96F-1F820CBC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F27-6EAE-4518-B5BB-7BCE728E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EB7-90A0-4AAD-826C-127F72A1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1E3-287B-4BC8-952F-B14324A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A877E-F2E0-42D9-8471-C1F7067DD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