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4370"/>
        <c:axId val="94125531"/>
      </c:barChart>
      <c:catAx>
        <c:axId val="4434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25531"/>
        <c:crosses val="autoZero"/>
        <c:auto val="1"/>
        <c:lblAlgn val="ctr"/>
        <c:lblOffset val="100"/>
        <c:noMultiLvlLbl val="0"/>
      </c:catAx>
      <c:valAx>
        <c:axId val="94125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4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ECD-4686-4002-8369-6B64D9DD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55C-F705-44FD-9473-3D9D28BE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BD8-3286-46A8-8F67-6FAA21B9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4BC-0205-42B2-9321-52417B5B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8B2-2855-4409-90F8-87DF6506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616-55E5-441D-9FE0-AA6C5525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9E1-8533-4148-831B-DA02A317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814-FF0E-448D-B8D0-FF2C7153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C1E-DF5C-4D93-8904-3F50002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786-50E1-414D-A27F-077E52AE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539-0815-413B-9F0D-3D1FC413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403-1CC1-485C-B903-3816999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B1B9E-1552-4CA6-AC3C-9568B1F57D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