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87686"/>
        <c:axId val="90258650"/>
      </c:barChart>
      <c:catAx>
        <c:axId val="51587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58650"/>
        <c:crosses val="autoZero"/>
        <c:auto val="1"/>
        <c:lblAlgn val="ctr"/>
        <c:lblOffset val="100"/>
        <c:noMultiLvlLbl val="0"/>
      </c:catAx>
      <c:valAx>
        <c:axId val="90258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7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808-64BF-4F0B-A952-CF53D801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AB8-6FEA-4679-A5C2-4DA9AD1F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093-050E-4BA2-A41C-26B976F9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7D9-1C73-4B4E-BB83-2E4C668A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B2E-242B-456D-A2E3-66BD23C4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93B-F375-4C26-AFB4-D071B32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B0B-6E8D-440F-A563-BDD256B0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975-60B8-4066-84DB-88D2FAB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D9A-F230-4304-B902-46E72D4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F9F-477C-4E77-BCCD-068E20D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F7D-3CEE-45C3-B702-51274DD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0BD-EF8E-47B9-B207-861FCF5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ED897-7F9A-4C26-BAFC-FA9D91DD6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