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081952"/>
        <c:axId val="99337780"/>
      </c:barChart>
      <c:catAx>
        <c:axId val="460819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337780"/>
        <c:crosses val="autoZero"/>
        <c:auto val="1"/>
        <c:lblAlgn val="ctr"/>
        <c:lblOffset val="100"/>
        <c:noMultiLvlLbl val="0"/>
      </c:catAx>
      <c:valAx>
        <c:axId val="993377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819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FBDE-7959-42A8-9A96-82057CD9A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7773-1BCA-4592-9F15-9431C2ED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05F1-B2DF-4DDC-A335-343A86484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0222-B4AE-414F-8AB3-5A21207D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42D7-DFFE-4226-846B-44C302EA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A516-F2D3-4F45-9E3D-06AFE1F4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986E-7308-4370-A844-EC2ADDB3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CC22-EB00-4586-9BC1-7C696F87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E6C4-6B22-4FA3-A40B-7F59FE30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FF57-1E2B-4BA2-97A6-4C27BFBF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8609-995B-4525-B30C-22CE9810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7CF7-C518-4CD9-AE18-B36A9239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5D207-1162-4429-8298-24C5ECBD50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