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774780"/>
        <c:axId val="50325855"/>
      </c:barChart>
      <c:catAx>
        <c:axId val="72774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25855"/>
        <c:crosses val="autoZero"/>
        <c:auto val="1"/>
        <c:lblAlgn val="ctr"/>
        <c:lblOffset val="100"/>
        <c:noMultiLvlLbl val="0"/>
      </c:catAx>
      <c:valAx>
        <c:axId val="50325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74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5089-FD17-47CF-93D5-EA457479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36DB-A026-415B-8F37-773C9916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81E8-6D28-4663-8E48-092AF4B0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57D-4B68-4C4A-8FF8-41E350DE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264E-C3D6-4630-9B92-EA38C3A6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BFCC-A454-46B7-88F5-5E2AB138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5FDB-2808-44CE-BADF-F919728B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2A5-B5DE-4632-885D-D0BCAE07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A20-7BA4-4745-996A-97104496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C74-CD2D-487C-819E-4B959509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771-B86C-4714-99EE-9352DD57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9DFF-17FF-4D5B-9A03-127A717C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0F080-5F39-4BD6-9DBE-A8BE8424D1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