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43004"/>
        <c:axId val="3773773"/>
      </c:barChart>
      <c:catAx>
        <c:axId val="71543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3773"/>
        <c:crosses val="autoZero"/>
        <c:auto val="1"/>
        <c:lblAlgn val="ctr"/>
        <c:lblOffset val="100"/>
        <c:noMultiLvlLbl val="0"/>
      </c:catAx>
      <c:valAx>
        <c:axId val="3773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43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E4C-138A-42EE-89EC-1782B015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954-B7C2-4A02-91D8-5EF12322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340-ADF9-4F5D-80D8-4AB07D4A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800-72CF-496B-A777-09E163F2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A1D-69C6-4359-96FD-1DAEC6D7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27D-5784-4E7B-93D4-4D25A1A9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CE1-4ADE-4DFA-864D-C4DDAF37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CC9-2BF3-46FB-923F-558DAE4A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E6C-1BFC-452B-A00C-A5AF68FD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73A-08CB-4CF7-A123-FBD95F74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589-6828-4912-BDF6-64170EC0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BF5-A97E-4323-8DC3-69E909FF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CD6D6-4BE6-4C94-A0C6-63F6AEC385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