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83812"/>
        <c:axId val="10221131"/>
      </c:barChart>
      <c:catAx>
        <c:axId val="34483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21131"/>
        <c:crosses val="autoZero"/>
        <c:auto val="1"/>
        <c:lblAlgn val="ctr"/>
        <c:lblOffset val="100"/>
        <c:noMultiLvlLbl val="0"/>
      </c:catAx>
      <c:valAx>
        <c:axId val="10221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83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567-CD31-40E2-923A-58B437C2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EEF-A523-450B-B705-0001A496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F60-29E7-4308-AE60-0A4F8E49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B54-AC30-4EEA-9E2E-B24F8611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D8F-A679-49DE-9860-48978FA6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68F-1F2C-4566-BE38-A4099D5C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04E-C40D-44F9-A43B-A0547A1C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162-45D7-4490-AF4E-9ED5FF84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9CE-224A-4FC6-9FF7-CAB16805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C0A-59A0-414A-A82B-F839F87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B26-F272-45AC-B2ED-B4795A19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8D6-2DA3-4860-AD5B-E0F5F78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81B95-E816-4735-A624-A922E8A105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