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519084"/>
        <c:axId val="16328740"/>
      </c:barChart>
      <c:catAx>
        <c:axId val="325190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328740"/>
        <c:crosses val="autoZero"/>
        <c:auto val="1"/>
        <c:lblAlgn val="ctr"/>
        <c:lblOffset val="100"/>
        <c:noMultiLvlLbl val="0"/>
      </c:catAx>
      <c:valAx>
        <c:axId val="163287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5190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9809-772E-4749-B2A3-485AFD578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2C71-5F90-48B5-B5C5-8D259F77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7022-B79D-4302-9C60-22D1650EA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E782-8C53-4C53-9553-E17B1D66D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BF0C-9131-4286-8593-447E75E6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B98A-5BF0-474E-B5BA-F7F8C1B8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CF4E-CAFF-455F-8BA1-96181AFE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7711-1BF4-4951-96CD-2A8D66D9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1EB3-BECC-4D43-B8DC-ED058673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3593-D7F9-41A1-A47B-EFA9A744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070F-4F25-4655-882C-5199811E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F332-7057-40C1-9A8B-AE03466B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41B709-D9CA-418E-8E30-BD729B2297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