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46764"/>
        <c:axId val="85974983"/>
      </c:barChart>
      <c:catAx>
        <c:axId val="520467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74983"/>
        <c:crosses val="autoZero"/>
        <c:auto val="1"/>
        <c:lblAlgn val="ctr"/>
        <c:lblOffset val="100"/>
        <c:noMultiLvlLbl val="0"/>
      </c:catAx>
      <c:valAx>
        <c:axId val="85974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467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F51-4F5E-4518-9E88-8CA3380B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7DF-7402-4D5E-AAED-AF76C7F5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216-FDFC-454A-8E44-00AAC624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561-096C-4D48-BFE5-E55C336A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F38D-C673-4EB1-A602-FD3BE760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01F-9410-4BE5-8B7C-E3EB2C76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ABB-9FC9-4C89-93C7-FB813A6B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D54-A795-4F55-9620-8F5B18A9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8FD7-9F80-4B4F-A618-C335E6E9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8D8-DBBB-4BD8-924F-9113C019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150-6F4F-4CF2-A70F-7754E2D4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3F6-FD58-4C05-830F-C5B73DE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73AC8-739A-471D-A90D-D9DB274200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