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34414"/>
        <c:axId val="50061144"/>
      </c:barChart>
      <c:catAx>
        <c:axId val="40634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1144"/>
        <c:crosses val="autoZero"/>
        <c:auto val="1"/>
        <c:lblAlgn val="ctr"/>
        <c:lblOffset val="100"/>
        <c:noMultiLvlLbl val="0"/>
      </c:catAx>
      <c:valAx>
        <c:axId val="50061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4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64B-C55D-4BE8-94E0-D801A8DA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038-CD82-4A6D-9CA8-B55A8FE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2C2-1D84-403F-9228-CA2BF6D0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2A2-0768-4C2A-AFA4-0379E523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D46-85D6-4B9B-8D99-43ECE804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27F-5CA0-41D3-9553-6ABBE65A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209-6E1A-4B30-A758-7FF9589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8E1-40ED-45FF-8E0D-DCDE0B19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DE5-025F-4F72-8E77-41B9875B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AA3-3812-48C1-A2CB-6F064B4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08F-6626-4E53-80B8-E30AD51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181-8D4B-4366-924A-0D90D0C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00FE7-5FA7-4399-BDE2-6CB2A1256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