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101812"/>
        <c:axId val="325683"/>
      </c:barChart>
      <c:catAx>
        <c:axId val="921018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683"/>
        <c:crosses val="autoZero"/>
        <c:auto val="1"/>
        <c:lblAlgn val="ctr"/>
        <c:lblOffset val="100"/>
        <c:noMultiLvlLbl val="0"/>
      </c:catAx>
      <c:valAx>
        <c:axId val="3256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1018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6751-E2FB-4B08-8C29-99C23DE7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F005-DF17-44F1-AEDF-B54978EE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E215-90B2-48E4-8151-256177DF2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81BE-E8D0-4E3D-A8F3-AD040C7C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4107-8140-48C5-874B-21C823BF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0FBA-0CC6-4B3D-9B21-83DDE32D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918E-F46D-4B80-9A15-5C4C6C59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2C7A-BDA7-45C8-9A19-E5DC27AE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6DD1-6EDA-4E6E-B48A-54682C1B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7B62-072B-4DA4-AB9D-9194C487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AC23-D70A-419B-AC63-CA2793AB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F623-69E9-47AC-AFE9-9B7CF177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489E7-BDE4-4285-B764-D0462D2499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