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00390"/>
        <c:axId val="48961664"/>
      </c:barChart>
      <c:catAx>
        <c:axId val="31800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61664"/>
        <c:crosses val="autoZero"/>
        <c:auto val="1"/>
        <c:lblAlgn val="ctr"/>
        <c:lblOffset val="100"/>
        <c:noMultiLvlLbl val="0"/>
      </c:catAx>
      <c:valAx>
        <c:axId val="48961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00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90F-AF8A-40BF-8EB4-433B0821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C20-DF67-4F7F-A436-BC59784A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10C-516D-4241-9A0F-8EADA73B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417-7DDE-4367-82C1-6AFEAD60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06F-D3C1-410D-943F-E36B62F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D1B-54E1-425A-913E-C77D5CA6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6C6-CF66-4AC1-B3AC-AEB8E2B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F8D-CDC1-42CA-A708-12C87807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B99-3E65-47E3-B6C9-9A89D702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990-B822-4F07-B11A-BC485E71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8BD-A7EB-4137-9CFD-BFE29232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F44-B536-42E3-B0F3-B1DE6C4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A19FA-CAE4-4244-A301-F05687EE80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