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80583"/>
        <c:axId val="59470815"/>
      </c:barChart>
      <c:catAx>
        <c:axId val="83380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0815"/>
        <c:crosses val="autoZero"/>
        <c:auto val="1"/>
        <c:lblAlgn val="ctr"/>
        <c:lblOffset val="100"/>
        <c:noMultiLvlLbl val="0"/>
      </c:catAx>
      <c:valAx>
        <c:axId val="59470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80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9BE-2536-4645-9DC6-D39CE441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870-D07F-4B7D-84D4-371A15CB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011-5F89-4C85-8B95-649330F6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4D7-88E8-4F12-A2DF-10EEC3E9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193-E748-484B-8743-6651A469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E94-0DF9-449E-B55F-EC63E549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82A-0563-4E9F-A1E8-E7D35EA1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847-3B1C-4D13-82DB-E20DD557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68A-60EC-4A14-9D23-9A1DF54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AF7-F1B0-472B-BB55-9F48CC1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80E-F4DD-473F-AE04-47D1DD6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0F7-1B03-4B87-9316-FA32A28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AADC2-C324-4488-8BDA-5862C7B012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