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64215"/>
        <c:axId val="32242556"/>
      </c:barChart>
      <c:catAx>
        <c:axId val="36964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42556"/>
        <c:crosses val="autoZero"/>
        <c:auto val="1"/>
        <c:lblAlgn val="ctr"/>
        <c:lblOffset val="100"/>
        <c:noMultiLvlLbl val="0"/>
      </c:catAx>
      <c:valAx>
        <c:axId val="32242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64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650-5B79-4861-94FA-770FBF6B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79D-00B1-42D7-BF76-9DBB996E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F11-82CE-4979-A34D-283DAB60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D08-EA6E-4C4F-831B-B9569E77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FD7-A82B-4DB2-B593-C364D514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068-FA75-4CB6-B9C2-13C90467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865-B399-434B-AA16-FBB9B552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AA7-EB00-4C33-99FD-BD12A7D6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FA9-6628-40A4-8DA4-D98A7198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FDD-D92A-474E-BDE0-8F4B1FA8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71F-196B-4BA7-A10D-7322330B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B3A-2D5E-4723-8F2B-67759852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12925-6802-427E-AA15-2C478FC29E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