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22332"/>
        <c:axId val="36284671"/>
      </c:barChart>
      <c:catAx>
        <c:axId val="30322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84671"/>
        <c:crosses val="autoZero"/>
        <c:auto val="1"/>
        <c:lblAlgn val="ctr"/>
        <c:lblOffset val="100"/>
        <c:noMultiLvlLbl val="0"/>
      </c:catAx>
      <c:valAx>
        <c:axId val="36284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22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3C7-303C-4088-9776-4A047703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91A-88DB-40EA-B798-C991DD1B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9DC-3A3F-440C-999E-CB572C25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B3C-AC3F-4379-ADF1-3B2B75F6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47E-D238-4A49-BA93-6C97AB9B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881-05F3-4F9B-B5C9-250825F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F46-B577-4DFA-9569-FDCF3E3D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3F5-388C-43A7-AAD1-FB074154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270-E0A1-42D1-AEA4-0904C118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594-347B-4351-BAC3-802FEED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3B5-F650-49FA-9525-A9D29BB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41C-E0F3-4304-9F24-BA15E6D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45368-514D-4005-A47C-CA1F581F40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