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CA00-55C6-48D1-9232-07A347E18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80B0-CBC1-48B3-9161-A77924F4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B4FC-AF70-4A5D-AB57-052A311E9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A146-677B-47CC-B988-99C904C4F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993B-08AB-492F-BD45-D7754577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9E4F-742E-40B0-902B-C636D715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79C9-C81C-4B87-B79A-E9AB970B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B328-08E5-4B4F-86F0-3A2EBE9F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AD22-D51B-4EC6-AFEA-CF4BCB90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17EE-6D70-4D60-A451-F7CDDE69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FB14-DD3B-4574-82E7-91BBCCBE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CACD-BB89-414B-ADE0-BA7CA0EB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B556-042E-4950-A361-0A0DFE86E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his is a ClamAV test file with embedded clam.e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92700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23:50Z</dcterms:created>
  <dc:creator>    </dc:creator>
  <dc:description/>
  <dc:language>en-US</dc:language>
  <cp:lastModifiedBy>    </cp:lastModifiedBy>
  <dcterms:modified xsi:type="dcterms:W3CDTF">2008-06-03T16:26:29Z</dcterms:modified>
  <cp:revision>1</cp:revision>
  <dc:subject/>
  <dc:title>This is a ClamAV test file with embedded clam.exe</dc:title>
</cp:coreProperties>
</file>