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7331178"/>
        <c:axId val="30324384"/>
      </c:barChart>
      <c:catAx>
        <c:axId val="6733117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324384"/>
        <c:crosses val="autoZero"/>
        <c:auto val="1"/>
        <c:lblAlgn val="ctr"/>
        <c:lblOffset val="100"/>
        <c:noMultiLvlLbl val="0"/>
      </c:catAx>
      <c:valAx>
        <c:axId val="3032438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33117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49AA5-716D-452A-87FF-22A0EF200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32553-8F10-47C7-B4DC-A87613924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60813-F953-4EA9-9A7F-B03A908DB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BC418-852C-4672-AC5A-570160052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B576D-B7D7-4717-918F-617BFD58D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4A30D-2366-4E67-9853-9A93B5D67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A21F8-18C3-4291-A468-F102E0489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A104E-5F1F-4A1C-AC0D-4FDDA6B44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27D35-30BD-4BE1-98A7-17F0B78EF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D7432-9AB9-448D-A38F-9632CDBFB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957E9-D5EF-40B5-91C5-B84C6E741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95F09-0ED8-42AB-B8B3-2CEA020CF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9347D2-52D9-4D99-970F-604CB0C9E71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