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54391"/>
        <c:axId val="15356541"/>
      </c:barChart>
      <c:catAx>
        <c:axId val="69754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56541"/>
        <c:crosses val="autoZero"/>
        <c:auto val="1"/>
        <c:lblAlgn val="ctr"/>
        <c:lblOffset val="100"/>
        <c:noMultiLvlLbl val="0"/>
      </c:catAx>
      <c:valAx>
        <c:axId val="15356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54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944-087C-42C2-B0AF-3CF6C109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45B-9033-46DC-856F-96EA2286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31E-EBBB-4E08-8C42-3B0CEB4F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13C-1611-4890-B2A9-091D0334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EF2-3BA3-4983-9928-501769D8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1E2-A5E9-45E2-A404-F96DDB6F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F8E-FB92-4C4A-B2C8-A7653A1D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33A-9FEC-4B8C-89F7-9AC450C7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394-9B12-4BDB-89CE-E71E5C4F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127-5534-4AA6-BA25-D60B5F7E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557-BA06-46CE-B2A5-F58477FE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DF2-255C-4126-AA6F-2DDFC3F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633B-67AF-4BA4-A591-C128F59B69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