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58F-E1F5-43B6-A8B1-A6E7A1DC8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503-C833-49BE-AE4F-D2546D405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CB6E-B39F-4488-BA30-2CD047BC9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F676-261F-4448-A28E-11F37D59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523BA-0082-4F07-9263-1C0F56190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873DE4-4F75-45E8-8F77-01775E1A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99D8EB-6163-4DC8-8D60-E535E8AC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DEAFF9-7728-4293-B388-8500474C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BF559-5544-40F9-9100-7DE063B5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79E4D-C47E-4F40-9DBF-4F3336644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26D5B9-3828-466F-908C-2147331B4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855-A83B-41E6-B919-147969E14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C44591-ED91-4FA2-A45B-6B9DD7F5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C6B565-1C3B-46BF-898A-9561FCEB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6138CB-5D41-4F87-8E47-71DCB378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8EA57-9874-4868-AEEA-99506964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E6FBF-A38A-49E8-AF91-3E2E56F54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6A70-E797-40E5-BB17-60541FDB1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CCFF-2863-48DA-B8F0-F7DC42B87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D7E7-99A7-43A5-9FDE-434F1251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F437-44EB-4EFA-97AB-22098422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C93-1CF1-4EF7-A17F-FA4F2C2A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C590-D807-43AC-9FDA-A235515C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80F5-A7A4-439F-84B1-61CBC364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931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3A30-6E7D-4F3B-B9C0-356B140A0BF0}" type="slidenum">
              <a:rPr b="0" lang="de-A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4776"/>
            </a:gs>
            <a:gs pos="100000">
              <a:srgbClr val="66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45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81080"/>
                <a:gd name="textAreaBottom" fmla="*/ 1981440 h 198108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6699ff"/>
                </a:gs>
                <a:gs pos="100000">
                  <a:srgbClr val="ffaa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876920"/>
                <a:gd name="textAreaBottom" fmla="*/ 4876920 h 4876920"/>
              </a:gdLst>
              <a:ahLst/>
              <a:rect l="textAreaLeft" t="textAreaTop" r="textAreaRight" b="textAreaBottom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2f4776"/>
                </a:gs>
                <a:gs pos="100000">
                  <a:srgbClr val="66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>
              <a:gd name="textAreaLeft" fmla="*/ 0 w 2895480"/>
              <a:gd name="textAreaRight" fmla="*/ 2895840 w 2895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6699ff"/>
              </a:gs>
              <a:gs pos="100000">
                <a:srgbClr val="ffcfa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49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>
                <a:gd name="textAreaLeft" fmla="*/ 0 w 5142960"/>
                <a:gd name="textAreaRight" fmla="*/ 5143320 w 5142960"/>
                <a:gd name="textAreaTop" fmla="*/ 0 h 850680"/>
                <a:gd name="textAreaBottom" fmla="*/ 851040 h 850680"/>
              </a:gdLst>
              <a:ahLst/>
              <a:rect l="textAreaLeft" t="textAreaTop" r="textAreaRight" b="textAreaBottom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aab6b9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1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>
                  <a:gd name="textAreaLeft" fmla="*/ 0 w 1577520"/>
                  <a:gd name="textAreaRight" fmla="*/ 1577880 w 1577520"/>
                  <a:gd name="textAreaTop" fmla="*/ 0 h 839520"/>
                  <a:gd name="textAreaBottom" fmla="*/ 839880 h 839520"/>
                </a:gdLst>
                <a:ahLst/>
                <a:rect l="textAreaLeft" t="textAreaTop" r="textAreaRight" b="textAreaBottom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>
                  <a:gd name="textAreaLeft" fmla="*/ 0 w 294840"/>
                  <a:gd name="textAreaRight" fmla="*/ 294840 w 294840"/>
                  <a:gd name="textAreaTop" fmla="*/ 0 h 627120"/>
                  <a:gd name="textAreaBottom" fmla="*/ 627480 h 627120"/>
                </a:gdLst>
                <a:ahLst/>
                <a:rect l="textAreaLeft" t="textAreaTop" r="textAreaRight" b="textAreaBottom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>
                  <a:gd name="textAreaLeft" fmla="*/ 0 w 599760"/>
                  <a:gd name="textAreaRight" fmla="*/ 600120 w 599760"/>
                  <a:gd name="textAreaTop" fmla="*/ 0 h 430200"/>
                  <a:gd name="textAreaBottom" fmla="*/ 430560 h 430200"/>
                </a:gdLst>
                <a:ahLst/>
                <a:rect l="textAreaLeft" t="textAreaTop" r="textAreaRight" b="textAreaBottom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>
                  <a:gd name="textAreaLeft" fmla="*/ 0 w 245880"/>
                  <a:gd name="textAreaRight" fmla="*/ 246240 w 245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>
                  <a:gd name="textAreaLeft" fmla="*/ 0 w 66240"/>
                  <a:gd name="textAreaRight" fmla="*/ 66600 w 66240"/>
                  <a:gd name="textAreaTop" fmla="*/ 0 h 128520"/>
                  <a:gd name="textAreaBottom" fmla="*/ 128880 h 128520"/>
                </a:gdLst>
                <a:ahLst/>
                <a:rect l="textAreaLeft" t="textAreaTop" r="textAreaRight" b="textAreaBottom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8092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>
                <a:gd name="textAreaLeft" fmla="*/ 0 w 6311520"/>
                <a:gd name="textAreaRight" fmla="*/ 6311880 w 6311520"/>
                <a:gd name="textAreaTop" fmla="*/ 0 h 849240"/>
                <a:gd name="textAreaBottom" fmla="*/ 849600 h 849240"/>
              </a:gdLst>
              <a:ahLst/>
              <a:rect l="textAreaLeft" t="textAreaTop" r="textAreaRight" b="textAreaBottom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9fadb0"/>
                </a:gs>
                <a:gs pos="100000">
                  <a:srgbClr val="8092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8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>
                <a:gd name="textAreaLeft" fmla="*/ 0 w 579600"/>
                <a:gd name="textAreaRight" fmla="*/ 579960 w 57960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>
                <a:gd name="textAreaLeft" fmla="*/ 0 w 3227400"/>
                <a:gd name="textAreaRight" fmla="*/ 3227760 w 3227400"/>
                <a:gd name="textAreaTop" fmla="*/ 0 h 792000"/>
                <a:gd name="textAreaBottom" fmla="*/ 792360 h 792000"/>
              </a:gdLst>
              <a:ahLst/>
              <a:rect l="textAreaLeft" t="textAreaTop" r="textAreaRight" b="textAreaBottom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>
                <a:gd name="textAreaLeft" fmla="*/ 0 w 388800"/>
                <a:gd name="textAreaRight" fmla="*/ 389160 w 38880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8092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3ed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3ed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3ed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AB3C-199D-4C74-B752-6D357A6FBD87}" type="slidenum">
              <a:rPr b="0" lang="de-AT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9"/>
          <p:cNvSpPr/>
          <p:nvPr/>
        </p:nvSpPr>
        <p:spPr>
          <a:xfrm>
            <a:off x="2771640" y="2349360"/>
            <a:ext cx="1400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Freeform 32"/>
          <p:cNvSpPr/>
          <p:nvPr/>
        </p:nvSpPr>
        <p:spPr>
          <a:xfrm>
            <a:off x="4008600" y="2448000"/>
            <a:ext cx="1125360" cy="981000"/>
          </a:xfrm>
          <a:custGeom>
            <a:avLst/>
            <a:gdLst>
              <a:gd name="textAreaLeft" fmla="*/ 0 w 1125360"/>
              <a:gd name="textAreaRight" fmla="*/ 1125360 w 112536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1418" h="1235">
                <a:moveTo>
                  <a:pt x="1166" y="167"/>
                </a:moveTo>
                <a:lnTo>
                  <a:pt x="1124" y="235"/>
                </a:lnTo>
                <a:lnTo>
                  <a:pt x="1009" y="233"/>
                </a:lnTo>
                <a:lnTo>
                  <a:pt x="972" y="294"/>
                </a:lnTo>
                <a:lnTo>
                  <a:pt x="1085" y="298"/>
                </a:lnTo>
                <a:lnTo>
                  <a:pt x="1042" y="368"/>
                </a:lnTo>
                <a:lnTo>
                  <a:pt x="928" y="365"/>
                </a:lnTo>
                <a:lnTo>
                  <a:pt x="866" y="467"/>
                </a:lnTo>
                <a:lnTo>
                  <a:pt x="889" y="468"/>
                </a:lnTo>
                <a:lnTo>
                  <a:pt x="893" y="456"/>
                </a:lnTo>
                <a:lnTo>
                  <a:pt x="898" y="445"/>
                </a:lnTo>
                <a:lnTo>
                  <a:pt x="908" y="436"/>
                </a:lnTo>
                <a:lnTo>
                  <a:pt x="918" y="429"/>
                </a:lnTo>
                <a:lnTo>
                  <a:pt x="929" y="424"/>
                </a:lnTo>
                <a:lnTo>
                  <a:pt x="941" y="422"/>
                </a:lnTo>
                <a:lnTo>
                  <a:pt x="953" y="422"/>
                </a:lnTo>
                <a:lnTo>
                  <a:pt x="964" y="423"/>
                </a:lnTo>
                <a:lnTo>
                  <a:pt x="974" y="428"/>
                </a:lnTo>
                <a:lnTo>
                  <a:pt x="985" y="433"/>
                </a:lnTo>
                <a:lnTo>
                  <a:pt x="993" y="441"/>
                </a:lnTo>
                <a:lnTo>
                  <a:pt x="1000" y="451"/>
                </a:lnTo>
                <a:lnTo>
                  <a:pt x="1004" y="461"/>
                </a:lnTo>
                <a:lnTo>
                  <a:pt x="1007" y="473"/>
                </a:lnTo>
                <a:lnTo>
                  <a:pt x="1007" y="484"/>
                </a:lnTo>
                <a:lnTo>
                  <a:pt x="1006" y="494"/>
                </a:lnTo>
                <a:lnTo>
                  <a:pt x="1001" y="505"/>
                </a:lnTo>
                <a:lnTo>
                  <a:pt x="995" y="515"/>
                </a:lnTo>
                <a:lnTo>
                  <a:pt x="987" y="523"/>
                </a:lnTo>
                <a:lnTo>
                  <a:pt x="977" y="530"/>
                </a:lnTo>
                <a:lnTo>
                  <a:pt x="972" y="532"/>
                </a:lnTo>
                <a:lnTo>
                  <a:pt x="967" y="535"/>
                </a:lnTo>
                <a:lnTo>
                  <a:pt x="962" y="536"/>
                </a:lnTo>
                <a:lnTo>
                  <a:pt x="957" y="536"/>
                </a:lnTo>
                <a:lnTo>
                  <a:pt x="953" y="537"/>
                </a:lnTo>
                <a:lnTo>
                  <a:pt x="947" y="537"/>
                </a:lnTo>
                <a:lnTo>
                  <a:pt x="942" y="537"/>
                </a:lnTo>
                <a:lnTo>
                  <a:pt x="938" y="536"/>
                </a:lnTo>
                <a:lnTo>
                  <a:pt x="913" y="575"/>
                </a:lnTo>
                <a:lnTo>
                  <a:pt x="1055" y="576"/>
                </a:lnTo>
                <a:lnTo>
                  <a:pt x="1115" y="485"/>
                </a:lnTo>
                <a:lnTo>
                  <a:pt x="1206" y="486"/>
                </a:lnTo>
                <a:lnTo>
                  <a:pt x="1145" y="577"/>
                </a:lnTo>
                <a:lnTo>
                  <a:pt x="1214" y="579"/>
                </a:lnTo>
                <a:lnTo>
                  <a:pt x="1274" y="486"/>
                </a:lnTo>
                <a:lnTo>
                  <a:pt x="1365" y="487"/>
                </a:lnTo>
                <a:lnTo>
                  <a:pt x="1304" y="580"/>
                </a:lnTo>
                <a:lnTo>
                  <a:pt x="1380" y="581"/>
                </a:lnTo>
                <a:lnTo>
                  <a:pt x="1418" y="634"/>
                </a:lnTo>
                <a:lnTo>
                  <a:pt x="1378" y="683"/>
                </a:lnTo>
                <a:lnTo>
                  <a:pt x="1296" y="682"/>
                </a:lnTo>
                <a:lnTo>
                  <a:pt x="1348" y="779"/>
                </a:lnTo>
                <a:lnTo>
                  <a:pt x="1266" y="778"/>
                </a:lnTo>
                <a:lnTo>
                  <a:pt x="1209" y="681"/>
                </a:lnTo>
                <a:lnTo>
                  <a:pt x="1137" y="680"/>
                </a:lnTo>
                <a:lnTo>
                  <a:pt x="1189" y="777"/>
                </a:lnTo>
                <a:lnTo>
                  <a:pt x="1107" y="776"/>
                </a:lnTo>
                <a:lnTo>
                  <a:pt x="1050" y="679"/>
                </a:lnTo>
                <a:lnTo>
                  <a:pt x="939" y="678"/>
                </a:lnTo>
                <a:lnTo>
                  <a:pt x="953" y="701"/>
                </a:lnTo>
                <a:lnTo>
                  <a:pt x="961" y="701"/>
                </a:lnTo>
                <a:lnTo>
                  <a:pt x="967" y="702"/>
                </a:lnTo>
                <a:lnTo>
                  <a:pt x="976" y="704"/>
                </a:lnTo>
                <a:lnTo>
                  <a:pt x="982" y="708"/>
                </a:lnTo>
                <a:lnTo>
                  <a:pt x="989" y="711"/>
                </a:lnTo>
                <a:lnTo>
                  <a:pt x="995" y="717"/>
                </a:lnTo>
                <a:lnTo>
                  <a:pt x="1001" y="723"/>
                </a:lnTo>
                <a:lnTo>
                  <a:pt x="1006" y="729"/>
                </a:lnTo>
                <a:lnTo>
                  <a:pt x="1010" y="740"/>
                </a:lnTo>
                <a:lnTo>
                  <a:pt x="1012" y="751"/>
                </a:lnTo>
                <a:lnTo>
                  <a:pt x="1012" y="763"/>
                </a:lnTo>
                <a:lnTo>
                  <a:pt x="1011" y="773"/>
                </a:lnTo>
                <a:lnTo>
                  <a:pt x="1007" y="784"/>
                </a:lnTo>
                <a:lnTo>
                  <a:pt x="1001" y="794"/>
                </a:lnTo>
                <a:lnTo>
                  <a:pt x="993" y="802"/>
                </a:lnTo>
                <a:lnTo>
                  <a:pt x="982" y="809"/>
                </a:lnTo>
                <a:lnTo>
                  <a:pt x="971" y="814"/>
                </a:lnTo>
                <a:lnTo>
                  <a:pt x="959" y="816"/>
                </a:lnTo>
                <a:lnTo>
                  <a:pt x="948" y="816"/>
                </a:lnTo>
                <a:lnTo>
                  <a:pt x="936" y="814"/>
                </a:lnTo>
                <a:lnTo>
                  <a:pt x="926" y="809"/>
                </a:lnTo>
                <a:lnTo>
                  <a:pt x="916" y="803"/>
                </a:lnTo>
                <a:lnTo>
                  <a:pt x="908" y="795"/>
                </a:lnTo>
                <a:lnTo>
                  <a:pt x="901" y="786"/>
                </a:lnTo>
                <a:lnTo>
                  <a:pt x="897" y="778"/>
                </a:lnTo>
                <a:lnTo>
                  <a:pt x="895" y="770"/>
                </a:lnTo>
                <a:lnTo>
                  <a:pt x="894" y="763"/>
                </a:lnTo>
                <a:lnTo>
                  <a:pt x="894" y="755"/>
                </a:lnTo>
                <a:lnTo>
                  <a:pt x="847" y="759"/>
                </a:lnTo>
                <a:lnTo>
                  <a:pt x="923" y="890"/>
                </a:lnTo>
                <a:lnTo>
                  <a:pt x="1035" y="894"/>
                </a:lnTo>
                <a:lnTo>
                  <a:pt x="1079" y="972"/>
                </a:lnTo>
                <a:lnTo>
                  <a:pt x="967" y="967"/>
                </a:lnTo>
                <a:lnTo>
                  <a:pt x="1001" y="1025"/>
                </a:lnTo>
                <a:lnTo>
                  <a:pt x="1113" y="1029"/>
                </a:lnTo>
                <a:lnTo>
                  <a:pt x="1158" y="1105"/>
                </a:lnTo>
                <a:lnTo>
                  <a:pt x="1045" y="1101"/>
                </a:lnTo>
                <a:lnTo>
                  <a:pt x="1082" y="1164"/>
                </a:lnTo>
                <a:lnTo>
                  <a:pt x="1053" y="1222"/>
                </a:lnTo>
                <a:lnTo>
                  <a:pt x="989" y="1214"/>
                </a:lnTo>
                <a:lnTo>
                  <a:pt x="949" y="1146"/>
                </a:lnTo>
                <a:lnTo>
                  <a:pt x="888" y="1235"/>
                </a:lnTo>
                <a:lnTo>
                  <a:pt x="848" y="1167"/>
                </a:lnTo>
                <a:lnTo>
                  <a:pt x="908" y="1073"/>
                </a:lnTo>
                <a:lnTo>
                  <a:pt x="872" y="1011"/>
                </a:lnTo>
                <a:lnTo>
                  <a:pt x="811" y="1103"/>
                </a:lnTo>
                <a:lnTo>
                  <a:pt x="772" y="1034"/>
                </a:lnTo>
                <a:lnTo>
                  <a:pt x="829" y="938"/>
                </a:lnTo>
                <a:lnTo>
                  <a:pt x="764" y="823"/>
                </a:lnTo>
                <a:lnTo>
                  <a:pt x="749" y="848"/>
                </a:lnTo>
                <a:lnTo>
                  <a:pt x="753" y="852"/>
                </a:lnTo>
                <a:lnTo>
                  <a:pt x="758" y="856"/>
                </a:lnTo>
                <a:lnTo>
                  <a:pt x="761" y="861"/>
                </a:lnTo>
                <a:lnTo>
                  <a:pt x="765" y="865"/>
                </a:lnTo>
                <a:lnTo>
                  <a:pt x="769" y="876"/>
                </a:lnTo>
                <a:lnTo>
                  <a:pt x="772" y="887"/>
                </a:lnTo>
                <a:lnTo>
                  <a:pt x="772" y="899"/>
                </a:lnTo>
                <a:lnTo>
                  <a:pt x="770" y="909"/>
                </a:lnTo>
                <a:lnTo>
                  <a:pt x="766" y="920"/>
                </a:lnTo>
                <a:lnTo>
                  <a:pt x="760" y="929"/>
                </a:lnTo>
                <a:lnTo>
                  <a:pt x="752" y="937"/>
                </a:lnTo>
                <a:lnTo>
                  <a:pt x="742" y="944"/>
                </a:lnTo>
                <a:lnTo>
                  <a:pt x="730" y="948"/>
                </a:lnTo>
                <a:lnTo>
                  <a:pt x="719" y="951"/>
                </a:lnTo>
                <a:lnTo>
                  <a:pt x="707" y="951"/>
                </a:lnTo>
                <a:lnTo>
                  <a:pt x="696" y="950"/>
                </a:lnTo>
                <a:lnTo>
                  <a:pt x="685" y="945"/>
                </a:lnTo>
                <a:lnTo>
                  <a:pt x="675" y="939"/>
                </a:lnTo>
                <a:lnTo>
                  <a:pt x="667" y="931"/>
                </a:lnTo>
                <a:lnTo>
                  <a:pt x="660" y="922"/>
                </a:lnTo>
                <a:lnTo>
                  <a:pt x="653" y="902"/>
                </a:lnTo>
                <a:lnTo>
                  <a:pt x="654" y="882"/>
                </a:lnTo>
                <a:lnTo>
                  <a:pt x="662" y="863"/>
                </a:lnTo>
                <a:lnTo>
                  <a:pt x="676" y="848"/>
                </a:lnTo>
                <a:lnTo>
                  <a:pt x="654" y="812"/>
                </a:lnTo>
                <a:lnTo>
                  <a:pt x="577" y="937"/>
                </a:lnTo>
                <a:lnTo>
                  <a:pt x="633" y="1034"/>
                </a:lnTo>
                <a:lnTo>
                  <a:pt x="592" y="1102"/>
                </a:lnTo>
                <a:lnTo>
                  <a:pt x="533" y="1008"/>
                </a:lnTo>
                <a:lnTo>
                  <a:pt x="496" y="1069"/>
                </a:lnTo>
                <a:lnTo>
                  <a:pt x="553" y="1165"/>
                </a:lnTo>
                <a:lnTo>
                  <a:pt x="510" y="1233"/>
                </a:lnTo>
                <a:lnTo>
                  <a:pt x="451" y="1141"/>
                </a:lnTo>
                <a:lnTo>
                  <a:pt x="411" y="1207"/>
                </a:lnTo>
                <a:lnTo>
                  <a:pt x="348" y="1214"/>
                </a:lnTo>
                <a:lnTo>
                  <a:pt x="319" y="1156"/>
                </a:lnTo>
                <a:lnTo>
                  <a:pt x="357" y="1094"/>
                </a:lnTo>
                <a:lnTo>
                  <a:pt x="245" y="1096"/>
                </a:lnTo>
                <a:lnTo>
                  <a:pt x="291" y="1020"/>
                </a:lnTo>
                <a:lnTo>
                  <a:pt x="403" y="1019"/>
                </a:lnTo>
                <a:lnTo>
                  <a:pt x="439" y="962"/>
                </a:lnTo>
                <a:lnTo>
                  <a:pt x="326" y="963"/>
                </a:lnTo>
                <a:lnTo>
                  <a:pt x="373" y="889"/>
                </a:lnTo>
                <a:lnTo>
                  <a:pt x="485" y="886"/>
                </a:lnTo>
                <a:lnTo>
                  <a:pt x="555" y="773"/>
                </a:lnTo>
                <a:lnTo>
                  <a:pt x="538" y="774"/>
                </a:lnTo>
                <a:lnTo>
                  <a:pt x="533" y="783"/>
                </a:lnTo>
                <a:lnTo>
                  <a:pt x="527" y="789"/>
                </a:lnTo>
                <a:lnTo>
                  <a:pt x="520" y="795"/>
                </a:lnTo>
                <a:lnTo>
                  <a:pt x="512" y="801"/>
                </a:lnTo>
                <a:lnTo>
                  <a:pt x="501" y="806"/>
                </a:lnTo>
                <a:lnTo>
                  <a:pt x="489" y="808"/>
                </a:lnTo>
                <a:lnTo>
                  <a:pt x="478" y="808"/>
                </a:lnTo>
                <a:lnTo>
                  <a:pt x="466" y="806"/>
                </a:lnTo>
                <a:lnTo>
                  <a:pt x="456" y="802"/>
                </a:lnTo>
                <a:lnTo>
                  <a:pt x="446" y="795"/>
                </a:lnTo>
                <a:lnTo>
                  <a:pt x="437" y="788"/>
                </a:lnTo>
                <a:lnTo>
                  <a:pt x="431" y="778"/>
                </a:lnTo>
                <a:lnTo>
                  <a:pt x="426" y="768"/>
                </a:lnTo>
                <a:lnTo>
                  <a:pt x="424" y="756"/>
                </a:lnTo>
                <a:lnTo>
                  <a:pt x="424" y="744"/>
                </a:lnTo>
                <a:lnTo>
                  <a:pt x="425" y="734"/>
                </a:lnTo>
                <a:lnTo>
                  <a:pt x="429" y="724"/>
                </a:lnTo>
                <a:lnTo>
                  <a:pt x="435" y="715"/>
                </a:lnTo>
                <a:lnTo>
                  <a:pt x="443" y="706"/>
                </a:lnTo>
                <a:lnTo>
                  <a:pt x="454" y="700"/>
                </a:lnTo>
                <a:lnTo>
                  <a:pt x="459" y="696"/>
                </a:lnTo>
                <a:lnTo>
                  <a:pt x="466" y="694"/>
                </a:lnTo>
                <a:lnTo>
                  <a:pt x="473" y="693"/>
                </a:lnTo>
                <a:lnTo>
                  <a:pt x="480" y="693"/>
                </a:lnTo>
                <a:lnTo>
                  <a:pt x="486" y="693"/>
                </a:lnTo>
                <a:lnTo>
                  <a:pt x="493" y="693"/>
                </a:lnTo>
                <a:lnTo>
                  <a:pt x="500" y="694"/>
                </a:lnTo>
                <a:lnTo>
                  <a:pt x="505" y="696"/>
                </a:lnTo>
                <a:lnTo>
                  <a:pt x="519" y="672"/>
                </a:lnTo>
                <a:lnTo>
                  <a:pt x="364" y="670"/>
                </a:lnTo>
                <a:lnTo>
                  <a:pt x="306" y="765"/>
                </a:lnTo>
                <a:lnTo>
                  <a:pt x="223" y="765"/>
                </a:lnTo>
                <a:lnTo>
                  <a:pt x="277" y="670"/>
                </a:lnTo>
                <a:lnTo>
                  <a:pt x="205" y="668"/>
                </a:lnTo>
                <a:lnTo>
                  <a:pt x="147" y="764"/>
                </a:lnTo>
                <a:lnTo>
                  <a:pt x="92" y="763"/>
                </a:lnTo>
                <a:lnTo>
                  <a:pt x="64" y="763"/>
                </a:lnTo>
                <a:lnTo>
                  <a:pt x="118" y="667"/>
                </a:lnTo>
                <a:lnTo>
                  <a:pt x="38" y="666"/>
                </a:lnTo>
                <a:lnTo>
                  <a:pt x="0" y="617"/>
                </a:lnTo>
                <a:lnTo>
                  <a:pt x="39" y="564"/>
                </a:lnTo>
                <a:lnTo>
                  <a:pt x="113" y="565"/>
                </a:lnTo>
                <a:lnTo>
                  <a:pt x="55" y="471"/>
                </a:lnTo>
                <a:lnTo>
                  <a:pt x="146" y="473"/>
                </a:lnTo>
                <a:lnTo>
                  <a:pt x="204" y="566"/>
                </a:lnTo>
                <a:lnTo>
                  <a:pt x="272" y="567"/>
                </a:lnTo>
                <a:lnTo>
                  <a:pt x="214" y="474"/>
                </a:lnTo>
                <a:lnTo>
                  <a:pt x="305" y="475"/>
                </a:lnTo>
                <a:lnTo>
                  <a:pt x="363" y="568"/>
                </a:lnTo>
                <a:lnTo>
                  <a:pt x="501" y="569"/>
                </a:lnTo>
                <a:lnTo>
                  <a:pt x="488" y="549"/>
                </a:lnTo>
                <a:lnTo>
                  <a:pt x="480" y="549"/>
                </a:lnTo>
                <a:lnTo>
                  <a:pt x="472" y="547"/>
                </a:lnTo>
                <a:lnTo>
                  <a:pt x="464" y="546"/>
                </a:lnTo>
                <a:lnTo>
                  <a:pt x="456" y="543"/>
                </a:lnTo>
                <a:lnTo>
                  <a:pt x="449" y="538"/>
                </a:lnTo>
                <a:lnTo>
                  <a:pt x="442" y="534"/>
                </a:lnTo>
                <a:lnTo>
                  <a:pt x="436" y="527"/>
                </a:lnTo>
                <a:lnTo>
                  <a:pt x="432" y="520"/>
                </a:lnTo>
                <a:lnTo>
                  <a:pt x="427" y="509"/>
                </a:lnTo>
                <a:lnTo>
                  <a:pt x="425" y="498"/>
                </a:lnTo>
                <a:lnTo>
                  <a:pt x="425" y="486"/>
                </a:lnTo>
                <a:lnTo>
                  <a:pt x="426" y="476"/>
                </a:lnTo>
                <a:lnTo>
                  <a:pt x="431" y="466"/>
                </a:lnTo>
                <a:lnTo>
                  <a:pt x="436" y="455"/>
                </a:lnTo>
                <a:lnTo>
                  <a:pt x="444" y="447"/>
                </a:lnTo>
                <a:lnTo>
                  <a:pt x="455" y="440"/>
                </a:lnTo>
                <a:lnTo>
                  <a:pt x="466" y="436"/>
                </a:lnTo>
                <a:lnTo>
                  <a:pt x="478" y="433"/>
                </a:lnTo>
                <a:lnTo>
                  <a:pt x="489" y="433"/>
                </a:lnTo>
                <a:lnTo>
                  <a:pt x="501" y="436"/>
                </a:lnTo>
                <a:lnTo>
                  <a:pt x="511" y="439"/>
                </a:lnTo>
                <a:lnTo>
                  <a:pt x="522" y="445"/>
                </a:lnTo>
                <a:lnTo>
                  <a:pt x="530" y="453"/>
                </a:lnTo>
                <a:lnTo>
                  <a:pt x="537" y="463"/>
                </a:lnTo>
                <a:lnTo>
                  <a:pt x="539" y="468"/>
                </a:lnTo>
                <a:lnTo>
                  <a:pt x="541" y="474"/>
                </a:lnTo>
                <a:lnTo>
                  <a:pt x="542" y="478"/>
                </a:lnTo>
                <a:lnTo>
                  <a:pt x="543" y="484"/>
                </a:lnTo>
                <a:lnTo>
                  <a:pt x="567" y="483"/>
                </a:lnTo>
                <a:lnTo>
                  <a:pt x="494" y="358"/>
                </a:lnTo>
                <a:lnTo>
                  <a:pt x="380" y="357"/>
                </a:lnTo>
                <a:lnTo>
                  <a:pt x="338" y="288"/>
                </a:lnTo>
                <a:lnTo>
                  <a:pt x="452" y="286"/>
                </a:lnTo>
                <a:lnTo>
                  <a:pt x="417" y="224"/>
                </a:lnTo>
                <a:lnTo>
                  <a:pt x="302" y="224"/>
                </a:lnTo>
                <a:lnTo>
                  <a:pt x="261" y="153"/>
                </a:lnTo>
                <a:lnTo>
                  <a:pt x="374" y="151"/>
                </a:lnTo>
                <a:lnTo>
                  <a:pt x="335" y="83"/>
                </a:lnTo>
                <a:lnTo>
                  <a:pt x="360" y="27"/>
                </a:lnTo>
                <a:lnTo>
                  <a:pt x="427" y="33"/>
                </a:lnTo>
                <a:lnTo>
                  <a:pt x="463" y="96"/>
                </a:lnTo>
                <a:lnTo>
                  <a:pt x="518" y="0"/>
                </a:lnTo>
                <a:lnTo>
                  <a:pt x="562" y="77"/>
                </a:lnTo>
                <a:lnTo>
                  <a:pt x="508" y="172"/>
                </a:lnTo>
                <a:lnTo>
                  <a:pt x="541" y="229"/>
                </a:lnTo>
                <a:lnTo>
                  <a:pt x="595" y="135"/>
                </a:lnTo>
                <a:lnTo>
                  <a:pt x="640" y="212"/>
                </a:lnTo>
                <a:lnTo>
                  <a:pt x="585" y="307"/>
                </a:lnTo>
                <a:lnTo>
                  <a:pt x="661" y="436"/>
                </a:lnTo>
                <a:lnTo>
                  <a:pt x="682" y="402"/>
                </a:lnTo>
                <a:lnTo>
                  <a:pt x="677" y="399"/>
                </a:lnTo>
                <a:lnTo>
                  <a:pt x="673" y="394"/>
                </a:lnTo>
                <a:lnTo>
                  <a:pt x="668" y="390"/>
                </a:lnTo>
                <a:lnTo>
                  <a:pt x="664" y="384"/>
                </a:lnTo>
                <a:lnTo>
                  <a:pt x="660" y="373"/>
                </a:lnTo>
                <a:lnTo>
                  <a:pt x="658" y="362"/>
                </a:lnTo>
                <a:lnTo>
                  <a:pt x="658" y="350"/>
                </a:lnTo>
                <a:lnTo>
                  <a:pt x="659" y="340"/>
                </a:lnTo>
                <a:lnTo>
                  <a:pt x="663" y="330"/>
                </a:lnTo>
                <a:lnTo>
                  <a:pt x="669" y="320"/>
                </a:lnTo>
                <a:lnTo>
                  <a:pt x="677" y="312"/>
                </a:lnTo>
                <a:lnTo>
                  <a:pt x="688" y="305"/>
                </a:lnTo>
                <a:lnTo>
                  <a:pt x="699" y="301"/>
                </a:lnTo>
                <a:lnTo>
                  <a:pt x="711" y="298"/>
                </a:lnTo>
                <a:lnTo>
                  <a:pt x="721" y="298"/>
                </a:lnTo>
                <a:lnTo>
                  <a:pt x="732" y="300"/>
                </a:lnTo>
                <a:lnTo>
                  <a:pt x="744" y="304"/>
                </a:lnTo>
                <a:lnTo>
                  <a:pt x="753" y="310"/>
                </a:lnTo>
                <a:lnTo>
                  <a:pt x="762" y="318"/>
                </a:lnTo>
                <a:lnTo>
                  <a:pt x="769" y="327"/>
                </a:lnTo>
                <a:lnTo>
                  <a:pt x="775" y="340"/>
                </a:lnTo>
                <a:lnTo>
                  <a:pt x="776" y="354"/>
                </a:lnTo>
                <a:lnTo>
                  <a:pt x="775" y="366"/>
                </a:lnTo>
                <a:lnTo>
                  <a:pt x="772" y="379"/>
                </a:lnTo>
                <a:lnTo>
                  <a:pt x="784" y="400"/>
                </a:lnTo>
                <a:lnTo>
                  <a:pt x="838" y="311"/>
                </a:lnTo>
                <a:lnTo>
                  <a:pt x="787" y="216"/>
                </a:lnTo>
                <a:lnTo>
                  <a:pt x="833" y="139"/>
                </a:lnTo>
                <a:lnTo>
                  <a:pt x="885" y="235"/>
                </a:lnTo>
                <a:lnTo>
                  <a:pt x="919" y="179"/>
                </a:lnTo>
                <a:lnTo>
                  <a:pt x="867" y="83"/>
                </a:lnTo>
                <a:lnTo>
                  <a:pt x="913" y="7"/>
                </a:lnTo>
                <a:lnTo>
                  <a:pt x="965" y="104"/>
                </a:lnTo>
                <a:lnTo>
                  <a:pt x="1004" y="41"/>
                </a:lnTo>
                <a:lnTo>
                  <a:pt x="1071" y="36"/>
                </a:lnTo>
                <a:lnTo>
                  <a:pt x="1095" y="93"/>
                </a:lnTo>
                <a:lnTo>
                  <a:pt x="1053" y="161"/>
                </a:lnTo>
                <a:lnTo>
                  <a:pt x="1166" y="16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0:16:13Z</dcterms:created>
  <dc:creator>Oliver Mochmann</dc:creator>
  <dc:description/>
  <dc:language>en-US</dc:language>
  <cp:lastModifiedBy>Oliver Mochmann</cp:lastModifiedBy>
  <dcterms:modified xsi:type="dcterms:W3CDTF">2010-02-09T12:39:54Z</dcterms:modified>
  <cp:revision>5</cp:revision>
  <dc:subject/>
  <dc:title>Folie 1</dc:title>
</cp:coreProperties>
</file>