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84C-CC52-459A-B80A-2D9C7F226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B34DE-A8A8-4545-9F18-84ABBA88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6E48-158D-4FE0-BC59-83519784C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64A5-4015-480B-9A0B-BAF1F6E3F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401E-66DF-4B6F-9EFB-7D150A18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DC10-2731-4FF6-A682-06B067DE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7CE2-58DA-4197-8C51-4FCC61C5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EAD4F-F016-49E4-A1B5-E6294BA7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72FC-2045-45D6-B37D-9438775BE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3D4B-4A11-476D-9219-4AD137B4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19F1-5D97-4CDA-A550-04195CCA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D72A-1ABD-416D-886E-53A3C56F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64F237-5E4D-498D-BF48-4D00F2DB26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6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7" descr=""/>
          <p:cNvPicPr/>
          <p:nvPr/>
        </p:nvPicPr>
        <p:blipFill>
          <a:blip r:embed="rId2"/>
          <a:srcRect l="0" t="52943" r="0" b="-17632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8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9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10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1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Gruppieren 3"/>
          <p:cNvGrpSpPr/>
          <p:nvPr/>
        </p:nvGrpSpPr>
        <p:grpSpPr>
          <a:xfrm>
            <a:off x="6096600" y="2419920"/>
            <a:ext cx="2873160" cy="3151440"/>
            <a:chOff x="6096600" y="2419920"/>
            <a:chExt cx="2873160" cy="3151440"/>
          </a:xfrm>
        </p:grpSpPr>
        <p:grpSp>
          <p:nvGrpSpPr>
            <p:cNvPr id="50" name="Gruppieren 1"/>
            <p:cNvGrpSpPr/>
            <p:nvPr/>
          </p:nvGrpSpPr>
          <p:grpSpPr>
            <a:xfrm>
              <a:off x="6291000" y="3371760"/>
              <a:ext cx="2678760" cy="2199600"/>
              <a:chOff x="6291000" y="3371760"/>
              <a:chExt cx="2678760" cy="2199600"/>
            </a:xfrm>
          </p:grpSpPr>
          <p:sp>
            <p:nvSpPr>
              <p:cNvPr id="51" name="Rectangle 6"/>
              <p:cNvSpPr/>
              <p:nvPr/>
            </p:nvSpPr>
            <p:spPr>
              <a:xfrm rot="19547400">
                <a:off x="6300000" y="4045680"/>
                <a:ext cx="2660760" cy="8510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Picture 7" descr=""/>
              <p:cNvPicPr/>
              <p:nvPr/>
            </p:nvPicPr>
            <p:blipFill>
              <a:blip r:embed="rId5"/>
              <a:srcRect l="0" t="52943" r="0" b="-17632"/>
              <a:stretch/>
            </p:blipFill>
            <p:spPr>
              <a:xfrm rot="19547400">
                <a:off x="6753960" y="4443120"/>
                <a:ext cx="1863360" cy="515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Gruppieren 2"/>
            <p:cNvGrpSpPr/>
            <p:nvPr/>
          </p:nvGrpSpPr>
          <p:grpSpPr>
            <a:xfrm>
              <a:off x="6096600" y="2419920"/>
              <a:ext cx="1414080" cy="1433880"/>
              <a:chOff x="6096600" y="2419920"/>
              <a:chExt cx="1414080" cy="1433880"/>
            </a:xfrm>
          </p:grpSpPr>
          <p:sp>
            <p:nvSpPr>
              <p:cNvPr id="54" name="Rectangle 8"/>
              <p:cNvSpPr/>
              <p:nvPr/>
            </p:nvSpPr>
            <p:spPr>
              <a:xfrm rot="2736600">
                <a:off x="5972400" y="2960640"/>
                <a:ext cx="1662120" cy="35172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Picture 9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36600">
                <a:off x="6252120" y="2891880"/>
                <a:ext cx="879120" cy="2556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