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6EE7-4D67-4B6E-98FD-C4EB09C6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8366-3030-4C40-9A63-9B58FD8A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827F-4316-48D2-9031-6A4CD1556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644D-C04C-4033-BA3C-17E3B932F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05CA-497C-497C-838C-B9929A3E2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77ED-170A-4E6A-B5B4-B29CF39AA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8B62-5A76-40B4-93B1-B2CEA299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9E1B-5942-4FE0-BC01-E6931ACE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7E0-E43A-4A74-9288-A3F7AA1C5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1D3CE-89E9-45B3-9311-544EDBEB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33D-39E1-4601-B09C-15344102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190C-A7DF-46AB-960E-DBCCCF01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1FCBC-E01B-4811-96AA-9C392FCCE5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400" spc="-1" strike="noStrike">
                <a:solidFill>
                  <a:srgbClr val="000000"/>
                </a:solidFill>
                <a:latin typeface="Times New Roman"/>
              </a:rPr>
              <a:t>ppt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ild2" descr=""/>
          <p:cNvPicPr/>
          <p:nvPr/>
        </p:nvPicPr>
        <p:blipFill>
          <a:blip r:embed="rId1"/>
          <a:stretch/>
        </p:blipFill>
        <p:spPr>
          <a:xfrm>
            <a:off x="608040" y="617400"/>
            <a:ext cx="792648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9T13:23:33Z</dcterms:created>
  <dc:creator>goran</dc:creator>
  <dc:description/>
  <dc:language>en-US</dc:language>
  <cp:lastModifiedBy>goran</cp:lastModifiedBy>
  <dcterms:modified xsi:type="dcterms:W3CDTF">2012-12-19T13:24:58Z</dcterms:modified>
  <cp:revision>2</cp:revision>
  <dc:subject/>
  <dc:title>pdf2</dc:title>
</cp:coreProperties>
</file>