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EE51-95A5-4015-B2D5-82D328294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1B43-D250-46EB-AA6A-36046303A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2E02-FFA9-4F78-B7C3-05B9093CC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ACBE-6EAE-4C36-979C-802C30AF5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1C3C-267B-4DE6-95DC-BFE1B457D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D1D4-7A83-41C7-A198-03C3AD656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7951-CDB5-41C2-A9A3-5B370A888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D522-E1C2-4727-B99F-2E425BAF2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CE60-6C68-44EB-B100-FB2FEAB68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851D-72BE-476F-83CF-F5F6232F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2EA2-335C-4455-8556-4A0DFBF27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BE38-A96B-4E41-8932-DAA547E6E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A8FEC-F7AC-46E0-943C-508D561591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1:19Z</dcterms:created>
  <dc:creator>grizob</dc:creator>
  <dc:description/>
  <dc:language>en-US</dc:language>
  <cp:lastModifiedBy>grizob</cp:lastModifiedBy>
  <dcterms:modified xsi:type="dcterms:W3CDTF">2008-07-08T13:53:01Z</dcterms:modified>
  <cp:revision>2</cp:revision>
  <dc:subject/>
  <dc:title>Power Point</dc:title>
</cp:coreProperties>
</file>