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4FE6-93F9-487D-860C-067DAD1D2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F2D8-3247-4E53-8105-FAB732F3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1F24-2222-4F39-9021-8C5FD4529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AEE0-BFD9-4840-86E9-7DA65CF9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947E-1377-418B-BC99-AF6A4BA0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F2146-DAC0-4451-B130-87B3D417F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0EC6D-4C4A-4AC7-94DF-5364A1B4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118-9468-4DDE-80AA-AFA999765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59D0-8E46-4A3E-8352-30166456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2D81-E6C1-4EC0-9495-C1095B245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7FD8-87DD-4272-BD26-88099535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9C52-B54C-45EA-AE2A-889FEA93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0FD7-DED8-4C3A-8C2C-752F89DACB7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822320" y="1212840"/>
          <a:ext cx="8128080" cy="2903400"/>
        </p:xfrm>
        <a:graphic>
          <a:graphicData uri="http://schemas.openxmlformats.org/drawingml/2006/table">
            <a:tbl>
              <a:tblPr/>
              <a:tblGrid>
                <a:gridCol w="1587600"/>
                <a:gridCol w="3830760"/>
                <a:gridCol w="27097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104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ff7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9T23:16:46Z</dcterms:created>
  <dc:creator>Andreas Beeker</dc:creator>
  <dc:description/>
  <dc:language>en-US</dc:language>
  <cp:lastModifiedBy>Andreas Beeker</cp:lastModifiedBy>
  <dcterms:modified xsi:type="dcterms:W3CDTF">2015-11-20T23:49:02Z</dcterms:modified>
  <cp:revision>2</cp:revision>
  <dc:subject/>
  <dc:title>PowerPoint Presentation</dc:title>
</cp:coreProperties>
</file>