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DF9341F-126A-4047-8089-7AA61E83F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D5B035-1BCD-44CD-846E-CF4F2003C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B32921D-6C62-4C13-AA92-E26B4765B1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86A1734-C8FA-4936-AB12-443EFF1EFA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BF5A15EF-D01D-4954-9086-9078414E00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2D731E31-A79F-4985-9393-367FC1666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C3E30EC6-A83C-401A-9696-1A1BEC88DC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660E110-8E13-4BB9-817F-25E11C3172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A1C5ABF-49FA-4D8E-A8B2-6232377649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D3BC2856-1C87-4B8B-BB9F-5F31A93061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8D480CC1-40B1-4507-B519-2CCE584E79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F1420CDB-73F0-4697-8575-D9893FC36F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89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7B708608-C6B9-440A-AE51-3E4AF725A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AF35DE8D-C822-491B-B21F-1484F8668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34695C2-61EE-41D5-9C2F-AF2E3793E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4CB8B3FB-DD0A-4752-8EAA-EAD5D27C1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037B8B71-A62B-4461-B528-1D03A770F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79360" y="700200"/>
            <a:ext cx="4648320" cy="3485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367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08E4-F643-4D89-97B9-85FAADDA2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8147-5979-46E0-B54E-4FB70065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1387-CAB1-4DFD-9141-B6D6E18BB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0641-A018-410D-B81C-48960AB4A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B8CF-58A5-49E4-8A3D-4D62623E4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096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5360" y="158904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17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096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5360" y="4142160"/>
            <a:ext cx="283680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42A2-1103-40F3-A8F0-D87EC3873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1EF9-3F1F-4B29-85C3-494F6D52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9F82-55EB-46C0-BCD0-3D6E84F39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7000" y="504720"/>
            <a:ext cx="7543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4E27-0CCB-43D0-9056-8ADDBD95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106-FCA1-4853-8D5D-E5A343D25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2120" y="414216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C0D3-7BB9-444B-B282-DB16CA56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736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2120" y="1589040"/>
            <a:ext cx="429948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17360" y="4142160"/>
            <a:ext cx="8810640" cy="233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9E21-7357-41A5-9315-05087550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7360" y="1589040"/>
            <a:ext cx="8810640" cy="48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17136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600200" indent="-228600">
              <a:lnSpc>
                <a:spcPct val="90000"/>
              </a:lnSpc>
              <a:spcBef>
                <a:spcPts val="1749"/>
              </a:spcBef>
              <a:buClr>
                <a:srgbClr val="0e2b8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600200" indent="-2286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7000" y="504720"/>
            <a:ext cx="75438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447920" y="4114800"/>
            <a:ext cx="624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12348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6099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867000" y="66099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ED52-A19D-4F87-9C86-CA1E1FFF00D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8088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99000" y="50760"/>
            <a:ext cx="286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LWG Energy Portfolio Analysis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2295360"/>
            <a:ext cx="8001000" cy="228600"/>
          </a:xfrm>
          <a:prstGeom prst="rect">
            <a:avLst/>
          </a:prstGeom>
          <a:gradFill rotWithShape="0">
            <a:gsLst>
              <a:gs pos="0">
                <a:srgbClr val="019069"/>
              </a:gs>
              <a:gs pos="100000">
                <a:srgbClr val="0e2b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11440" y="342720"/>
            <a:ext cx="7340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e2b88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12840" y="200160"/>
            <a:ext cx="968400" cy="8953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lnSpc>
                <a:spcPct val="90000"/>
              </a:lnSpc>
              <a:spcBef>
                <a:spcPts val="451"/>
              </a:spcBef>
              <a:buClr>
                <a:srgbClr val="0e2b88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499"/>
              </a:spcBef>
              <a:buClr>
                <a:srgbClr val="0e2b88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1280" y="659880"/>
            <a:ext cx="68198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99"/>
                </a:solidFill>
                <a:latin typeface="Arial"/>
              </a:rPr>
              <a:t>LWG Assessment of DOE’s Energy Portfolio       </a:t>
            </a:r>
            <a:endParaRPr b="1" lang="en-US" sz="3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965320" y="3027240"/>
            <a:ext cx="36705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e Crab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6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rgonne National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 McCon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l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Aft>
                <a:spcPts val="2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atory Working Group Co-Chai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71600" y="5851440"/>
            <a:ext cx="36568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asic Energy Sciences Advisory Committ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ebruary 16-17, 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35040" y="353880"/>
            <a:ext cx="48816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Innovation Strand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324480" y="1378080"/>
            <a:ext cx="2357640" cy="3294000"/>
          </a:xfrm>
          <a:prstGeom prst="rect">
            <a:avLst/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5400000">
            <a:off x="3079440" y="1587240"/>
            <a:ext cx="3336840" cy="2911320"/>
          </a:xfrm>
          <a:prstGeom prst="upArrowCallout">
            <a:avLst>
              <a:gd name="adj1" fmla="val 93442"/>
              <a:gd name="adj2" fmla="val 57308"/>
              <a:gd name="adj3" fmla="val 19097"/>
              <a:gd name="adj4" fmla="val 45332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8520" y="38624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5400000">
            <a:off x="413280" y="1813320"/>
            <a:ext cx="3287520" cy="2495520"/>
          </a:xfrm>
          <a:prstGeom prst="upArrowCallout">
            <a:avLst>
              <a:gd name="adj1" fmla="val 107399"/>
              <a:gd name="adj2" fmla="val 65868"/>
              <a:gd name="adj3" fmla="val 19097"/>
              <a:gd name="adj4" fmla="val 54038"/>
            </a:avLst>
          </a:prstGeom>
          <a:gradFill rotWithShape="0">
            <a:gsLst>
              <a:gs pos="0">
                <a:srgbClr val="a8b2d4"/>
              </a:gs>
              <a:gs pos="100000">
                <a:srgbClr val="bbe0e3"/>
              </a:gs>
            </a:gsLst>
            <a:lin ang="0"/>
          </a:gra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39760" y="13222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39760" y="201312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760" y="400536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39760" y="2703600"/>
            <a:ext cx="2208240" cy="4348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39760" y="33940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39760" y="3998880"/>
            <a:ext cx="2208240" cy="43668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54960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587760" y="2752560"/>
            <a:ext cx="1924200" cy="65412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89480" y="2921040"/>
            <a:ext cx="2079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r>
              <a:rPr b="0" lang="en-US" sz="1400" spc="-1" strike="noStrike">
                <a:solidFill>
                  <a:srgbClr val="bbe0e3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170964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553080" y="273060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567480" y="3811680"/>
            <a:ext cx="1924200" cy="6206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2076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Supp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29000" y="1017720"/>
            <a:ext cx="203688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966960"/>
            <a:ext cx="203652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7920" y="4600440"/>
            <a:ext cx="2208240" cy="435240"/>
          </a:xfrm>
          <a:prstGeom prst="rect">
            <a:avLst/>
          </a:prstGeom>
          <a:solidFill>
            <a:srgbClr val="8997c5"/>
          </a:solidFill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20760" y="2728800"/>
            <a:ext cx="20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ero Emission Foss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760" y="1424160"/>
            <a:ext cx="20588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Nu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9760" y="2009880"/>
            <a:ext cx="2208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lternative Liqu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3840" y="181116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ectric Gri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the Fu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710160" y="398952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ydroge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24720" y="2857680"/>
            <a:ext cx="17938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vanced Building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24720" y="1809720"/>
            <a:ext cx="17938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ustrial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412416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oenergy/Chemic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0760" y="3524400"/>
            <a:ext cx="2058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ewable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4683240"/>
            <a:ext cx="221940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usion Ener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638760" y="3911760"/>
            <a:ext cx="17938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hicle Technolog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30120" y="549288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8680" y="584820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8680" y="6215040"/>
            <a:ext cx="8585280" cy="35568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75600" y="5516640"/>
            <a:ext cx="3530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Liquid Fuels &amp; Transport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0320" y="6224760"/>
            <a:ext cx="714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ross-cutting / Enabling Science and Technology Opportunities &amp;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0120" y="5132520"/>
            <a:ext cx="8585280" cy="355320"/>
          </a:xfrm>
          <a:prstGeom prst="rect">
            <a:avLst/>
          </a:prstGeom>
          <a:gradFill rotWithShape="0">
            <a:gsLst>
              <a:gs pos="0">
                <a:srgbClr val="ff3f8d"/>
              </a:gs>
              <a:gs pos="50000">
                <a:srgbClr val="fed5e5"/>
              </a:gs>
              <a:gs pos="100000">
                <a:srgbClr val="ff3f8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147120" y="5113440"/>
            <a:ext cx="25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Electricity Syste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914920" y="5854680"/>
            <a:ext cx="32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ture Hydrogen &amp; Gas System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910-7C0E-442F-8BB8-15167857E0D6}" type="slidenum">
              <a:t>10</a:t>
            </a:fld>
          </a:p>
        </p:txBody>
      </p:sp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60160" y="2496600"/>
            <a:ext cx="7954920" cy="11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General Observations on the Portfolio</a:t>
            </a:r>
            <a:br>
              <a:rPr sz="2600"/>
            </a:br>
            <a:br>
              <a:rPr sz="2600"/>
            </a:b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FY05 (for FY07 cycle)</a:t>
            </a:r>
            <a:endParaRPr b="1" lang="en-US" sz="26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1CBF8-3CF2-43BB-AC33-75FFAEEE9A92}" type="slidenum">
              <a:t>11</a:t>
            </a:fld>
          </a:p>
        </p:txBody>
      </p:sp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60280" y="700200"/>
            <a:ext cx="777888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Earmarks and Budget Swings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77760" y="1501920"/>
            <a:ext cx="8953560" cy="4559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17CB3-79FE-423F-899B-01C09B958078}" type="slidenum">
              <a:t>12</a:t>
            </a:fld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79000" y="518760"/>
            <a:ext cx="8629560" cy="89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ere are several crosscutting technical challenges  </a:t>
            </a:r>
            <a:br>
              <a:rPr sz="2200"/>
            </a:br>
            <a:r>
              <a:rPr b="1" i="1" lang="en-US" sz="2200" spc="-1" strike="noStrike">
                <a:solidFill>
                  <a:srgbClr val="000080"/>
                </a:solidFill>
                <a:latin typeface="Arial"/>
              </a:rPr>
              <a:t>that warrant focused attention </a:t>
            </a:r>
            <a:endParaRPr b="1" lang="en-US" sz="22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8200" y="1617840"/>
            <a:ext cx="7927920" cy="44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nergy storage at every scale is a critical issue in multiple technology stran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electric grid, buildings, vehicles, renewab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ed is for both high power density and low weigh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lectrochemical conversion (at high and low temperature) is a key issu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plies to hydrogen, fuel cells, energy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w materials for extreme environments are required in multiple technology are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uclear power, fusion, hydrogen produc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125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l-time adaptive control of large scale or complex systems is required at multiple sca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4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s, buildings, electric gri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103E-708B-4249-9837-A2CB5D646E76}" type="slidenum">
              <a:t>13</a:t>
            </a:fld>
          </a:p>
        </p:txBody>
      </p:sp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32000" y="415440"/>
            <a:ext cx="6014880" cy="8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Several areas of science have </a:t>
            </a:r>
            <a:br>
              <a:rPr sz="2400"/>
            </a:br>
            <a:r>
              <a:rPr b="1" i="1" lang="en-US" sz="2400" spc="-1" strike="noStrike">
                <a:solidFill>
                  <a:srgbClr val="000080"/>
                </a:solidFill>
                <a:latin typeface="Arial"/>
              </a:rPr>
              <a:t>particularly high enabling potential</a:t>
            </a:r>
            <a:endParaRPr b="1" lang="en-US" sz="2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8200" y="1387080"/>
            <a:ext cx="7927920" cy="512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anostructured materials will have transforming impact in the near, mid and long ter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storage and conversion, solar power, hydrogen storag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materials (e.g. active building component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aterials for extreme environments (especially VHT nuclea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dvances will enable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ergy conversion, zero emission hydrocarbons, bioma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systems biology  can “change the game”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iofuels and bioproduct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300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ngineered feed stocks, bioprocessing technolog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dvances in high temperature superconductivity are importa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 both the grid and for fu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85000"/>
              </a:lnSpc>
              <a:spcBef>
                <a:spcPts val="56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85000"/>
              </a:lnSpc>
              <a:spcBef>
                <a:spcPts val="1001"/>
              </a:spcBef>
              <a:buClr>
                <a:srgbClr val="0e2b8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end computational modeling and simulation has very high potential for enabling technological advance in many are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264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gines, fuel cells, process technologies, efficient power plants, etc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6126-CA48-47F8-A2D7-7C4F5DA6DA57}" type="slidenum">
              <a:t>14</a:t>
            </a:fld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41600" y="642960"/>
            <a:ext cx="4365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152360"/>
            <a:ext cx="845820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cremental advances in the state of the art of existing energy technologies will not meet the nation's future energy and environmental security challeng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Revolutionary innovations are needed, both in the energy technologies themselves and in our understanding of the fundamental science that enables their operation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Vibrant fundamental science programs generate revolutionary innovations in two ways: (i)  by discovery-driven advances in the frontier of knowledge, enabling new paradigms and unexpected opportunities for disruptive energy technologies, and (ii) by use-inspired research targeting specific areas where incomplete understanding blocks technological progress. DOE should maintain strong programs in both areas that sustain US leadership in sci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Basic-applied interactions are a fertile source of innovation.  DOE should develop new ways to stimulate translational research and creative connections across the basic-applied interfa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430440" y="401760"/>
            <a:ext cx="21178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80"/>
                </a:solidFill>
                <a:latin typeface="Arial"/>
              </a:rPr>
              <a:t>The role of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A488-D8DE-498F-9B98-81CE189F2349}" type="slidenum">
              <a:t>15</a:t>
            </a:fld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090520" y="444600"/>
            <a:ext cx="56228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 Science Frontiers 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3200" y="1103400"/>
            <a:ext cx="7772400" cy="52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gh Performance Materi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cience at the nanoscale, especially low-dimensional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ynamics of physical, chemical and biological phenome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mergent behavior in complex systems, from high Tc superconductors to pattern formation in chemical solutions to self-assembly and self-repai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alysis and control of chemical transform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to systems level understanding of living system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imetics and photobiological energy convers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Molecular scale understanding of interfacial science, separations, and permeability in physical systems and membra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New Tools for: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In situ molecular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eory/Computation/Numerical Applica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2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iomolecule production and characteriz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57B-F620-47F8-B243-4AFAF4E4FE4C}" type="slidenum">
              <a:t>16</a:t>
            </a:fld>
          </a:p>
        </p:txBody>
      </p:sp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1680" y="501480"/>
            <a:ext cx="7894440" cy="6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80"/>
                </a:solidFill>
                <a:latin typeface="Arial"/>
              </a:rPr>
              <a:t>Basic Science Frontiers</a:t>
            </a:r>
            <a:br>
              <a:rPr sz="1700"/>
            </a:br>
            <a:r>
              <a:rPr b="1" lang="en-US" sz="23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80"/>
                </a:solidFill>
                <a:latin typeface="Arial"/>
              </a:rPr>
              <a:t>High Performance Materia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52280" y="1441440"/>
            <a:ext cx="8839440" cy="425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search Dire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tability in extreme environments: temperature, corrosion, 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10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Greater functionality: fast, small, strong, smart, efficient, multifunct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cientific Challeng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nderstand structure-function relationship at all sc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imulate/model behavior from first princi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buClr>
                <a:srgbClr val="0e2b88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reate properties through nanoscale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Potential Impac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xt generation materials for nuclear reactors, high temperature thermochemistry, superconductivity, catalysis, biomimetics, energy conversion among photons, electrons, chemical compounds and h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scale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90000"/>
              </a:lnSpc>
              <a:spcBef>
                <a:spcPts val="3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ontinuous. Advances are interdependent- discovery in one class of materials triggers breakthroughs in an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601C-0839-41C7-9F26-33D12C197FC1}" type="slidenum">
              <a:t>17</a:t>
            </a:fld>
          </a:p>
        </p:txBody>
      </p:sp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85280" y="484200"/>
            <a:ext cx="53420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 flipV="1">
            <a:off x="3639600" y="2544840"/>
            <a:ext cx="180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6880" y="2308320"/>
            <a:ext cx="89532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Orb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327640" y="2324160"/>
            <a:ext cx="83340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865680" y="1150920"/>
            <a:ext cx="147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Samuel Bod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32640" y="2541600"/>
            <a:ext cx="144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3621240" y="2107800"/>
            <a:ext cx="2101680" cy="11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630600" y="211932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21480" y="2125800"/>
            <a:ext cx="0" cy="19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147840" y="281772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68960" y="2833560"/>
            <a:ext cx="1011240" cy="3538800"/>
          </a:xfrm>
          <a:custGeom>
            <a:avLst/>
            <a:gdLst>
              <a:gd name="textAreaLeft" fmla="*/ 49320 w 1011240"/>
              <a:gd name="textAreaRight" fmla="*/ 961920 w 1011240"/>
              <a:gd name="textAreaTop" fmla="*/ 49320 h 3538800"/>
              <a:gd name="textAreaBottom" fmla="*/ 3489480 h 3538800"/>
            </a:gdLst>
            <a:ahLst/>
            <a:rect l="textAreaLeft" t="textAreaTop" r="textAreaRight" b="textAreaBottom"/>
            <a:pathLst>
              <a:path w="21600" h="75569">
                <a:moveTo>
                  <a:pt x="3600" y="0"/>
                </a:moveTo>
                <a:arcTo wR="3600" hR="3600" stAng="16200000" swAng="-5400000"/>
                <a:lnTo>
                  <a:pt x="0" y="71969"/>
                </a:lnTo>
                <a:arcTo wR="3600" hR="3600" stAng="10800000" swAng="-5400000"/>
                <a:lnTo>
                  <a:pt x="18000" y="755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66ccff"/>
          </a:solidFill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16200000">
            <a:off x="2392920" y="4333680"/>
            <a:ext cx="25099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Office of Scien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16200000">
            <a:off x="4305240" y="4322520"/>
            <a:ext cx="29988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omic Sans MS"/>
              </a:rPr>
              <a:t>Applied Energy Offic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46560" y="349416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290840" y="4202640"/>
            <a:ext cx="833760" cy="5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Basic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Applied</a:t>
            </a:r>
            <a:br>
              <a:rPr sz="12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22800" y="5218200"/>
            <a:ext cx="946080" cy="249120"/>
          </a:xfrm>
          <a:prstGeom prst="leftRightArrow">
            <a:avLst>
              <a:gd name="adj1" fmla="val 50000"/>
              <a:gd name="adj2" fmla="val 75602"/>
            </a:avLst>
          </a:prstGeom>
          <a:solidFill>
            <a:srgbClr val="2cb2a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86080" y="1635120"/>
            <a:ext cx="895680" cy="2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Clay S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595760" y="142704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595760" y="1947960"/>
            <a:ext cx="0" cy="155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B7BA-9278-41C6-A58B-897AA3B9E658}" type="slidenum">
              <a:t>18</a:t>
            </a:fld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622440" y="403200"/>
            <a:ext cx="60325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Basic-Applied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3520" y="762120"/>
            <a:ext cx="740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938160"/>
            <a:ext cx="8763120" cy="48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goa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ranslation of applications from basic to appli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50% efficient quantum dot solar cel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Cost competitive superconducting w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Develop disruptive approach to grand energy challen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Make an electronic switch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nformation rev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ore 24 GWh of electrical energy for 24 hour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sonal transportation at 1/10</a:t>
            </a:r>
            <a:r>
              <a:rPr b="0" lang="en-US" sz="1400" spc="-1" strike="noStrike" baseline="30000">
                <a:solidFill>
                  <a:srgbClr val="000000"/>
                </a:solidFill>
                <a:latin typeface="Comic Sans MS"/>
                <a:ea typeface="ＭＳ Ｐゴシック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cost of c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What are the attribut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PI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grated basic-applied management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Tap the best scientists/engineers: innovative thinkers, receptive to new ideas an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Objectives are innovation driven, not time-scale driv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Stable program: 10+ year lif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International network of workshops and visitors to create community and stimulate fresh perspec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Periodic review by top scientists/engineers outside DO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Examine other innovation machines for organizational inspiration: DARPA, Bell Labs, Google, Microsoft, Apple, Xerox Par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970D-5A45-45FB-B816-0B1552D4E85E}" type="slidenum">
              <a:t>19</a:t>
            </a:fld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28320" y="738000"/>
            <a:ext cx="236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otiv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73040" y="1712520"/>
            <a:ext cx="7935840" cy="21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35000"/>
              </a:lnSpc>
              <a:spcBef>
                <a:spcPts val="1250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We have not done as good a job as we should in coordinating the activities of the ESE offices. We have not done as good a job as we should in performing the crosscutting analysis we need to justify our budgets to the Congress.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624720" y="4240080"/>
            <a:ext cx="1482480" cy="18828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6000" y="4422600"/>
            <a:ext cx="4659840" cy="11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y for Energy, Science and Environ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enate Confirmation He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pril 6, 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71B1-5C0F-4E4F-AA6E-3DFD9733F16A}" type="slidenum">
              <a:t>2</a:t>
            </a:fld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6240" y="673200"/>
            <a:ext cx="44370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Program Scope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009000" cy="4295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60B4-A5E2-4FF8-9B35-A54D5844321E}" type="slidenum">
              <a:t>3</a:t>
            </a:fld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7600" y="788760"/>
            <a:ext cx="691380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pplied Energy Programs Units 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23920" y="1911240"/>
            <a:ext cx="86104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D736-E1DA-4439-A0C7-A641EA51D13C}" type="slidenum">
              <a:t>4</a:t>
            </a:fld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628560"/>
            <a:ext cx="853776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Charge to Laboratory Working Group (LWG)</a:t>
            </a:r>
            <a:endParaRPr b="1" lang="en-US" sz="3000" spc="-1" strike="noStrike">
              <a:solidFill>
                <a:srgbClr val="0e2b88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7800" y="1415880"/>
            <a:ext cx="848376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7519-6599-499B-8315-AE97A92C09BB}" type="slidenum">
              <a:t>5</a:t>
            </a:fld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4035600" y="1562040"/>
            <a:ext cx="5105160" cy="4572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bbe0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rot="5400000">
            <a:off x="2067840" y="3684600"/>
            <a:ext cx="3886200" cy="428760"/>
          </a:xfrm>
          <a:prstGeom prst="triangle">
            <a:avLst>
              <a:gd name="adj" fmla="val 50000"/>
            </a:avLst>
          </a:prstGeom>
          <a:solidFill>
            <a:srgbClr val="899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9840" y="1612800"/>
            <a:ext cx="3429000" cy="4572000"/>
          </a:xfrm>
          <a:prstGeom prst="rect">
            <a:avLst/>
          </a:prstGeom>
          <a:gradFill rotWithShape="0">
            <a:gsLst>
              <a:gs pos="0">
                <a:srgbClr val="8997c5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458080" y="4504320"/>
            <a:ext cx="1603800" cy="1924920"/>
            <a:chOff x="2458080" y="4504320"/>
            <a:chExt cx="1603800" cy="1924920"/>
          </a:xfrm>
        </p:grpSpPr>
        <p:sp>
          <p:nvSpPr>
            <p:cNvPr id="109" name=""/>
            <p:cNvSpPr/>
            <p:nvPr/>
          </p:nvSpPr>
          <p:spPr>
            <a:xfrm rot="518400">
              <a:off x="2585880" y="4628880"/>
              <a:ext cx="1355400" cy="170784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" name=""/>
            <p:cNvGrpSpPr/>
            <p:nvPr/>
          </p:nvGrpSpPr>
          <p:grpSpPr>
            <a:xfrm>
              <a:off x="2458080" y="4504320"/>
              <a:ext cx="1366200" cy="1717920"/>
              <a:chOff x="2458080" y="4504320"/>
              <a:chExt cx="1366200" cy="1717920"/>
            </a:xfrm>
          </p:grpSpPr>
          <p:sp>
            <p:nvSpPr>
              <p:cNvPr id="111" name=""/>
              <p:cNvSpPr/>
              <p:nvPr/>
            </p:nvSpPr>
            <p:spPr>
              <a:xfrm rot="21577200">
                <a:off x="2463480" y="4508640"/>
                <a:ext cx="1355040" cy="1708920"/>
              </a:xfrm>
              <a:prstGeom prst="foldedCorner">
                <a:avLst>
                  <a:gd name="adj" fmla="val 12500"/>
                </a:avLst>
              </a:prstGeom>
              <a:solidFill>
                <a:srgbClr val="0e2b88"/>
              </a:solidFill>
              <a:ln w="9360">
                <a:solidFill>
                  <a:srgbClr val="969696"/>
                </a:solidFill>
                <a:miter/>
              </a:ln>
              <a:effectLst>
                <a:outerShdw dist="17819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547360" y="4868640"/>
                <a:ext cx="11300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Plann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Guidance</a:t>
                </a:r>
                <a:br>
                  <a:rPr sz="1400"/>
                </a:b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07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–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FY11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3" name=""/>
          <p:cNvSpPr/>
          <p:nvPr/>
        </p:nvSpPr>
        <p:spPr>
          <a:xfrm>
            <a:off x="146160" y="501480"/>
            <a:ext cx="8089920" cy="8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80"/>
                </a:solidFill>
                <a:latin typeface="Arial"/>
              </a:rPr>
              <a:t>The Context:  Advancing Four, Broad National Energy Policy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149360" y="1620360"/>
            <a:ext cx="480060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Diversify our energy mix and reduce dependence on foreign petroleum,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thereby reducing vulnerability to disruption and increasing the flexibility of the marke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o meet U.S. need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Reduce greenhouse gas emissions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other environmental impact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water use, land use, criteria pollutants) from our energy production and us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Create a more flexible, more reliabl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and higher capacity U.S. energy infrastructure,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ereby improving energy services throughout the economy, enabling use of diverse sources, and improving robustness against disrup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876"/>
              </a:spcBef>
              <a:spcAft>
                <a:spcPts val="264"/>
              </a:spcAft>
              <a:buClr>
                <a:srgbClr val="0e2b88"/>
              </a:buClr>
              <a:buFont typeface="Comic Sans MS"/>
              <a:buAutoNum type="arabicPeriod"/>
              <a:tabLst>
                <a:tab algn="l" pos="514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Improve the energy productivit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(or energy efficiency) of the U.S. econom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11240" y="1617840"/>
            <a:ext cx="2371680" cy="1722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2382120" y="2551680"/>
            <a:ext cx="1538280" cy="1845000"/>
            <a:chOff x="2382120" y="2551680"/>
            <a:chExt cx="1538280" cy="1845000"/>
          </a:xfrm>
        </p:grpSpPr>
        <p:sp>
          <p:nvSpPr>
            <p:cNvPr id="117" name=""/>
            <p:cNvSpPr/>
            <p:nvPr/>
          </p:nvSpPr>
          <p:spPr>
            <a:xfrm rot="518400">
              <a:off x="2504160" y="2669760"/>
              <a:ext cx="1300320" cy="16383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21577200">
              <a:off x="2387520" y="2555640"/>
              <a:ext cx="1300320" cy="1636920"/>
            </a:xfrm>
            <a:prstGeom prst="foldedCorner">
              <a:avLst>
                <a:gd name="adj" fmla="val 12500"/>
              </a:avLst>
            </a:prstGeom>
            <a:blipFill rotWithShape="0">
              <a:blip r:embed="rId2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415880" y="3361680"/>
            <a:ext cx="1470960" cy="1764360"/>
            <a:chOff x="1415880" y="3361680"/>
            <a:chExt cx="1470960" cy="1764360"/>
          </a:xfrm>
        </p:grpSpPr>
        <p:sp>
          <p:nvSpPr>
            <p:cNvPr id="120" name=""/>
            <p:cNvSpPr/>
            <p:nvPr/>
          </p:nvSpPr>
          <p:spPr>
            <a:xfrm rot="518400">
              <a:off x="1533600" y="3476880"/>
              <a:ext cx="1242360" cy="1564560"/>
            </a:xfrm>
            <a:prstGeom prst="foldedCorner">
              <a:avLst>
                <a:gd name="adj" fmla="val 12500"/>
              </a:avLst>
            </a:prstGeom>
            <a:gradFill rotWithShape="0">
              <a:gsLst>
                <a:gs pos="0">
                  <a:srgbClr val="fefaf3"/>
                </a:gs>
                <a:gs pos="100000">
                  <a:srgbClr val="fff0d5"/>
                </a:gs>
              </a:gsLst>
              <a:lin ang="12984000"/>
            </a:grad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rot="21577200">
              <a:off x="1420920" y="3365640"/>
              <a:ext cx="1243800" cy="1567800"/>
            </a:xfrm>
            <a:prstGeom prst="foldedCorner">
              <a:avLst>
                <a:gd name="adj" fmla="val 12500"/>
              </a:avLst>
            </a:prstGeom>
            <a:blipFill rotWithShape="0">
              <a:blip r:embed="rId3"/>
              <a:srcRect/>
              <a:stretch/>
            </a:blipFill>
            <a:ln w="9360">
              <a:solidFill>
                <a:srgbClr val="969696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rot="518400">
            <a:off x="446040" y="4003560"/>
            <a:ext cx="1187640" cy="1495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fefaf3"/>
              </a:gs>
              <a:gs pos="100000">
                <a:srgbClr val="fff0d5"/>
              </a:gs>
            </a:gsLst>
            <a:lin ang="12984000"/>
          </a:grad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21577200">
            <a:off x="339480" y="3898800"/>
            <a:ext cx="1185840" cy="1495440"/>
          </a:xfrm>
          <a:prstGeom prst="foldedCorner">
            <a:avLst>
              <a:gd name="adj" fmla="val 125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96969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0600" y="19080"/>
            <a:ext cx="64962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1DC4-7C64-46EB-90DD-DCFF3E168495}" type="slidenum">
              <a:t>6</a:t>
            </a:fld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13920" y="560160"/>
            <a:ext cx="795492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LWG Organization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53040" y="1558440"/>
            <a:ext cx="17892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David Garm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14880" y="2150640"/>
            <a:ext cx="271800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Ray Orbach </a:t>
            </a: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(if confirm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65280" y="2955240"/>
            <a:ext cx="215424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EERE, FE, NE, OE, Science </a:t>
            </a: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(Pat Dehm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23000" y="4125960"/>
            <a:ext cx="20178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spAutoFit/>
          </a:bodyPr>
          <a:p>
            <a:pPr algn="r">
              <a:lnSpc>
                <a:spcPct val="100000"/>
              </a:lnSpc>
              <a:spcAft>
                <a:spcPts val="1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Don McConnell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George Crabtree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 Co-Chairs</a:t>
            </a:r>
            <a:br>
              <a:rPr sz="1400"/>
            </a:br>
            <a:br>
              <a:rPr sz="6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~ 30 participants </a:t>
            </a:r>
            <a:br>
              <a:rPr sz="1400"/>
            </a:br>
            <a:r>
              <a:rPr b="0" i="1" lang="en-US" sz="1400" spc="-1" strike="noStrike">
                <a:solidFill>
                  <a:srgbClr val="000000"/>
                </a:solidFill>
                <a:latin typeface="Comic Sans MS"/>
              </a:rPr>
              <a:t>from Nat’l La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108240" y="1353960"/>
            <a:ext cx="2590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Under Secretaries for S&amp;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i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108240" y="2806560"/>
            <a:ext cx="25909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R&amp;D Counc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041560" y="435600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Integ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41560" y="5659560"/>
            <a:ext cx="220968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Analy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98880" y="435600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&amp;T Labor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8880" y="5659560"/>
            <a:ext cx="2248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d-Hoc S&amp;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nalysis Tea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0" idx="2"/>
            <a:endCxn id="131" idx="0"/>
          </p:cNvCxnSpPr>
          <p:nvPr/>
        </p:nvCxnSpPr>
        <p:spPr>
          <a:xfrm flipV="1" rot="10800000">
            <a:off x="4403160" y="2268000"/>
            <a:ext cx="108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131" idx="2"/>
            <a:endCxn id="134" idx="0"/>
          </p:cNvCxnSpPr>
          <p:nvPr/>
        </p:nvCxnSpPr>
        <p:spPr>
          <a:xfrm flipH="1" rot="16200000">
            <a:off x="4818600" y="3152520"/>
            <a:ext cx="788040" cy="161964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31" idx="2"/>
            <a:endCxn id="132" idx="0"/>
          </p:cNvCxnSpPr>
          <p:nvPr/>
        </p:nvCxnSpPr>
        <p:spPr>
          <a:xfrm rot="5400000">
            <a:off x="3380760" y="3333240"/>
            <a:ext cx="788040" cy="125820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" name=""/>
          <p:cNvCxnSpPr>
            <a:stCxn id="132" idx="2"/>
            <a:endCxn id="133" idx="0"/>
          </p:cNvCxnSpPr>
          <p:nvPr/>
        </p:nvCxnSpPr>
        <p:spPr>
          <a:xfrm flipV="1" rot="10800000">
            <a:off x="31456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34" idx="2"/>
            <a:endCxn id="135" idx="0"/>
          </p:cNvCxnSpPr>
          <p:nvPr/>
        </p:nvCxnSpPr>
        <p:spPr>
          <a:xfrm flipV="1" rot="10800000">
            <a:off x="6022080" y="5041440"/>
            <a:ext cx="1080" cy="6184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2" idx="3"/>
            <a:endCxn id="134" idx="1"/>
          </p:cNvCxnSpPr>
          <p:nvPr/>
        </p:nvCxnSpPr>
        <p:spPr>
          <a:xfrm>
            <a:off x="4250880" y="46987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cxnSp>
        <p:nvCxnSpPr>
          <p:cNvPr id="142" name=""/>
          <p:cNvCxnSpPr>
            <a:stCxn id="133" idx="3"/>
            <a:endCxn id="135" idx="1"/>
          </p:cNvCxnSpPr>
          <p:nvPr/>
        </p:nvCxnSpPr>
        <p:spPr>
          <a:xfrm>
            <a:off x="4250880" y="6001920"/>
            <a:ext cx="6483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</a:ln>
        </p:spPr>
      </p:cxnSp>
      <p:sp>
        <p:nvSpPr>
          <p:cNvPr id="143" name=""/>
          <p:cNvSpPr/>
          <p:nvPr/>
        </p:nvSpPr>
        <p:spPr>
          <a:xfrm flipV="1">
            <a:off x="4803840" y="1679040"/>
            <a:ext cx="1258920" cy="142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51360" y="2079720"/>
            <a:ext cx="1181160" cy="169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03200" y="19620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1480" y="2573280"/>
            <a:ext cx="2474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ohn Sullivan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Associate Under Secretary for Energy</a:t>
            </a:r>
            <a:br>
              <a:rPr sz="1000"/>
            </a:br>
            <a:r>
              <a:rPr b="0" i="1" lang="en-US" sz="1200" spc="-1" strike="noStrike">
                <a:solidFill>
                  <a:srgbClr val="000000"/>
                </a:solidFill>
                <a:latin typeface="Comic Sans MS"/>
              </a:rPr>
              <a:t>James Decker </a:t>
            </a:r>
            <a:br>
              <a:rPr sz="12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Deputy Director, Office of Science</a:t>
            </a: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Co-Ch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11EC-57C4-4D80-B2B7-A34FA122936A}" type="slidenum">
              <a:t>7</a:t>
            </a:fld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83920" y="1063440"/>
            <a:ext cx="418788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Multi-year Proces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7480" y="2322360"/>
            <a:ext cx="8682120" cy="26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5 (for FY07 programs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applied energy programs, qualitative impac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001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Y06: (for FY08 programs)   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+ quantitative impact, relation to science, ris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7 (for FY09 cycle)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r>
              <a:rPr b="1" lang="en-US" sz="1600" spc="-1" strike="noStrike">
                <a:solidFill>
                  <a:srgbClr val="999999"/>
                </a:solidFill>
                <a:latin typeface="Comic Sans MS"/>
              </a:rPr>
              <a:t>+ model analysis</a:t>
            </a: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spcAft>
                <a:spcPts val="13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9999"/>
                </a:solidFill>
                <a:latin typeface="Comic Sans MS"/>
              </a:rPr>
              <a:t>FY08 (for FY10 cycl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2D79-D2E1-4CFA-9CCD-33C2B490296F}" type="slidenum">
              <a:t>8</a:t>
            </a:fld>
          </a:p>
        </p:txBody>
      </p:sp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58680" y="704880"/>
            <a:ext cx="4113360" cy="55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400" spc="-1" strike="noStrike">
                <a:solidFill>
                  <a:srgbClr val="000080"/>
                </a:solidFill>
                <a:latin typeface="Arial"/>
              </a:rPr>
              <a:t>Analysis Tasks</a:t>
            </a:r>
            <a:endParaRPr b="1" lang="en-US" sz="3400" spc="-1" strike="noStrike">
              <a:solidFill>
                <a:srgbClr val="0e2b88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1440" y="1696680"/>
            <a:ext cx="8153640" cy="35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1: Energy R&amp;D Innovation Strand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ition, assessment &amp; characteriz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2: Innovation Strand impact analysi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3: Integrated portfolio assess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90000"/>
              </a:lnSpc>
              <a:spcBef>
                <a:spcPts val="1250"/>
              </a:spcBef>
              <a:spcAft>
                <a:spcPts val="17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ask 4: Recommendations for an enduring S&amp;T assessment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C5F9-2701-4FEC-8C0A-3790D02A19F6}" type="slidenum">
              <a:t>9</a:t>
            </a:fld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10:43:44Z</dcterms:created>
  <dc:creator> </dc:creator>
  <dc:description/>
  <dc:language>en-US</dc:language>
  <cp:lastModifiedBy>Department of Energy</cp:lastModifiedBy>
  <dcterms:modified xsi:type="dcterms:W3CDTF">2006-02-15T22:22:19Z</dcterms:modified>
  <cp:revision>876</cp:revision>
  <dc:subject/>
  <dc:title>Slide 1</dc:title>
</cp:coreProperties>
</file>