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9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228F-D669-432B-8BE9-62485C76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003E-B144-4E8F-A2C2-7718AA1D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039BE-67C5-4724-932F-5CDA3DCFF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FD94-7244-4246-9668-E1D4BD19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14BD-AC3D-47DB-9A61-885BF587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EF04-4595-4047-8E46-17701699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DB94-B519-4322-B343-9D04388B3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5C46-CEE3-4C2F-9262-D77CAAECB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3C2-775B-4E77-96CA-3DB021E4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02BFA-8F44-41CB-B71E-D9E92071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6CB-0933-4EFA-B727-73D160E1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419-F165-4C23-8487-26D7AE1AF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D9AEF-92CB-4F82-9D80-DEAD8D50F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image" Target="../media/image8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1.pct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image" Target="../media/image12.pct"/><Relationship Id="rId4" Type="http://schemas.openxmlformats.org/officeDocument/2006/relationships/image" Target="../media/image13.pct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image" Target="../media/image15.pct"/><Relationship Id="rId3" Type="http://schemas.openxmlformats.org/officeDocument/2006/relationships/image" Target="../media/image16.pct"/><Relationship Id="rId4" Type="http://schemas.openxmlformats.org/officeDocument/2006/relationships/image" Target="../media/image17.pct"/><Relationship Id="rId5" Type="http://schemas.openxmlformats.org/officeDocument/2006/relationships/image" Target="../media/image18.pct"/><Relationship Id="rId6" Type="http://schemas.openxmlformats.org/officeDocument/2006/relationships/image" Target="../media/image19.pct"/><Relationship Id="rId7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image" Target="../media/image5.pct"/><Relationship Id="rId3" Type="http://schemas.openxmlformats.org/officeDocument/2006/relationships/image" Target="../media/image6.pct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9560" y="1160640"/>
            <a:ext cx="8226720" cy="228600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7240" y="87624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-12/IL-4 Independent Th Polarizati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 Dendritic Cells Exposed to Extracts from Th1/Th2 Pathog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523120" y="479124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523880" y="4325760"/>
            <a:ext cx="610416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ana Jankovic, Marika Kullber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ara Hieny and Alan 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mmunobiology Section, LPD, NI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2808360" y="1851120"/>
            <a:ext cx="3835440" cy="203184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078560" y="860400"/>
            <a:ext cx="699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-primed DC induce Th2 polariz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93360" y="170028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808360" y="3759120"/>
            <a:ext cx="3835440" cy="203220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256920" y="1800360"/>
            <a:ext cx="132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ptide 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27360" y="2476440"/>
            <a:ext cx="615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859120" y="2131920"/>
            <a:ext cx="0" cy="9590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3731760" y="3774960"/>
            <a:ext cx="8334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202560" y="360216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620440" y="308448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25760" y="4451400"/>
            <a:ext cx="1172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267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1565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156560" y="3171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058000" y="21081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7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85360" y="21081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08680" y="3171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67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1565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65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058000" y="401328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85360" y="401328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985360" y="507672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035680" y="2077920"/>
            <a:ext cx="547560" cy="36540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040360" y="398304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"/>
          <p:cNvGrpSpPr/>
          <p:nvPr/>
        </p:nvGrpSpPr>
        <p:grpSpPr>
          <a:xfrm>
            <a:off x="1536120" y="3228840"/>
            <a:ext cx="5929560" cy="1828800"/>
            <a:chOff x="1536120" y="3228840"/>
            <a:chExt cx="5929560" cy="1828800"/>
          </a:xfrm>
        </p:grpSpPr>
        <p:grpSp>
          <p:nvGrpSpPr>
            <p:cNvPr id="306" name=""/>
            <p:cNvGrpSpPr/>
            <p:nvPr/>
          </p:nvGrpSpPr>
          <p:grpSpPr>
            <a:xfrm>
              <a:off x="1536120" y="3228840"/>
              <a:ext cx="5929560" cy="1828800"/>
              <a:chOff x="1536120" y="3228840"/>
              <a:chExt cx="5929560" cy="1828800"/>
            </a:xfrm>
          </p:grpSpPr>
          <p:grpSp>
            <p:nvGrpSpPr>
              <p:cNvPr id="307" name=""/>
              <p:cNvGrpSpPr/>
              <p:nvPr/>
            </p:nvGrpSpPr>
            <p:grpSpPr>
              <a:xfrm>
                <a:off x="1536120" y="3228840"/>
                <a:ext cx="5929560" cy="1828800"/>
                <a:chOff x="1536120" y="3228840"/>
                <a:chExt cx="5929560" cy="1828800"/>
              </a:xfrm>
            </p:grpSpPr>
            <p:pic>
              <p:nvPicPr>
                <p:cNvPr id="308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346120" y="3228840"/>
                  <a:ext cx="5119560" cy="1828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9" name=""/>
                <p:cNvSpPr/>
                <p:nvPr/>
              </p:nvSpPr>
              <p:spPr>
                <a:xfrm>
                  <a:off x="1536120" y="385128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0" name=""/>
              <p:cNvSpPr/>
              <p:nvPr/>
            </p:nvSpPr>
            <p:spPr>
              <a:xfrm>
                <a:off x="276588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353412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534120" y="4397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4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423320" y="34826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19156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8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2136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1.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6035760" y="34826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6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849000" y="34761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778800" y="4397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0.7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9" name=""/>
            <p:cNvSpPr/>
            <p:nvPr/>
          </p:nvSpPr>
          <p:spPr>
            <a:xfrm>
              <a:off x="5116680" y="436392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0" name=""/>
          <p:cNvSpPr/>
          <p:nvPr/>
        </p:nvSpPr>
        <p:spPr>
          <a:xfrm>
            <a:off x="754200" y="40320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primed DC induce Th1 polarization independently of IL-12 secre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560600" y="1446120"/>
            <a:ext cx="5904000" cy="2030400"/>
            <a:chOff x="1560600" y="1446120"/>
            <a:chExt cx="5904000" cy="2030400"/>
          </a:xfrm>
        </p:grpSpPr>
        <p:pic>
          <p:nvPicPr>
            <p:cNvPr id="322" name="" descr=""/>
            <p:cNvPicPr/>
            <p:nvPr/>
          </p:nvPicPr>
          <p:blipFill>
            <a:blip r:embed="rId2"/>
            <a:stretch/>
          </p:blipFill>
          <p:spPr>
            <a:xfrm>
              <a:off x="2336760" y="1647720"/>
              <a:ext cx="512784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660040" y="15210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60600" y="219708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75940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52764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546720" y="281952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8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16840" y="18986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8508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0.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12136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8.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048360" y="189864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3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855120" y="189216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778800" y="28195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4.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70240" y="1846440"/>
              <a:ext cx="0" cy="914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177720" y="3333600"/>
              <a:ext cx="776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643840" y="3187800"/>
              <a:ext cx="581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FN-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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125080" y="2792520"/>
              <a:ext cx="46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Geneva"/>
                </a:rPr>
                <a:t>IL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501440" y="145728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60040" y="144612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0" name=""/>
          <p:cNvSpPr/>
          <p:nvPr/>
        </p:nvSpPr>
        <p:spPr>
          <a:xfrm>
            <a:off x="5103720" y="2789280"/>
            <a:ext cx="547920" cy="36504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1532160" y="4761000"/>
            <a:ext cx="5942880" cy="1827000"/>
            <a:chOff x="1532160" y="4761000"/>
            <a:chExt cx="5942880" cy="1827000"/>
          </a:xfrm>
        </p:grpSpPr>
        <p:grpSp>
          <p:nvGrpSpPr>
            <p:cNvPr id="342" name=""/>
            <p:cNvGrpSpPr/>
            <p:nvPr/>
          </p:nvGrpSpPr>
          <p:grpSpPr>
            <a:xfrm>
              <a:off x="1532160" y="4761000"/>
              <a:ext cx="5942880" cy="1827000"/>
              <a:chOff x="1532160" y="4761000"/>
              <a:chExt cx="5942880" cy="1827000"/>
            </a:xfrm>
          </p:grpSpPr>
          <p:grpSp>
            <p:nvGrpSpPr>
              <p:cNvPr id="343" name=""/>
              <p:cNvGrpSpPr/>
              <p:nvPr/>
            </p:nvGrpSpPr>
            <p:grpSpPr>
              <a:xfrm>
                <a:off x="1532160" y="4761000"/>
                <a:ext cx="5942880" cy="1827000"/>
                <a:chOff x="1532160" y="4761000"/>
                <a:chExt cx="5942880" cy="1827000"/>
              </a:xfrm>
            </p:grpSpPr>
            <p:pic>
              <p:nvPicPr>
                <p:cNvPr id="344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2338200" y="4761000"/>
                  <a:ext cx="5136840" cy="1827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45" name=""/>
                <p:cNvSpPr/>
                <p:nvPr/>
              </p:nvSpPr>
              <p:spPr>
                <a:xfrm>
                  <a:off x="1536120" y="5468760"/>
                  <a:ext cx="98676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Arial"/>
                    </a:rPr>
                    <a:t>12 KO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1532160" y="5284800"/>
                  <a:ext cx="994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irradiate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7" name=""/>
              <p:cNvSpPr/>
              <p:nvPr/>
            </p:nvSpPr>
            <p:spPr>
              <a:xfrm>
                <a:off x="275940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9.9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352764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52764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035760" y="5018040"/>
                <a:ext cx="528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3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684900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4900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2.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4423320" y="501804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8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191560" y="501156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0.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91560" y="5938920"/>
                <a:ext cx="429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1.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6" name=""/>
            <p:cNvSpPr/>
            <p:nvPr/>
          </p:nvSpPr>
          <p:spPr>
            <a:xfrm>
              <a:off x="4373640" y="4979880"/>
              <a:ext cx="547560" cy="36540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792000" y="631800"/>
            <a:ext cx="8018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g-induced Th1 priming dominat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ver SEA-induced Th2 pri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ven in the absence of IL-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1152360" y="4140360"/>
            <a:ext cx="5119920" cy="1828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42360" y="4762440"/>
            <a:ext cx="986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2 K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32080" y="2322360"/>
            <a:ext cx="5738400" cy="1976400"/>
            <a:chOff x="532080" y="2322360"/>
            <a:chExt cx="5738400" cy="1976400"/>
          </a:xfrm>
        </p:grpSpPr>
        <p:pic>
          <p:nvPicPr>
            <p:cNvPr id="361" name="" descr=""/>
            <p:cNvPicPr/>
            <p:nvPr/>
          </p:nvPicPr>
          <p:blipFill>
            <a:blip r:embed="rId2"/>
            <a:stretch/>
          </p:blipFill>
          <p:spPr>
            <a:xfrm>
              <a:off x="1143000" y="2469960"/>
              <a:ext cx="512748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2" name=""/>
            <p:cNvSpPr/>
            <p:nvPr/>
          </p:nvSpPr>
          <p:spPr>
            <a:xfrm>
              <a:off x="1466280" y="23972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eptide alon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307680" y="2333520"/>
              <a:ext cx="951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87534"/>
                  </a:solidFill>
                  <a:latin typeface="Geneva"/>
                </a:rPr>
                <a:t>+STA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6280" y="2322360"/>
              <a:ext cx="785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ed181e"/>
                  </a:solidFill>
                  <a:latin typeface="Geneva"/>
                </a:rPr>
                <a:t>+SE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32080" y="3073320"/>
              <a:ext cx="6152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W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1189080" y="270972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8200" y="4173480"/>
            <a:ext cx="776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443600" y="4027320"/>
            <a:ext cx="58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944280" y="3656160"/>
            <a:ext cx="46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721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34036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346840" y="36320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42000" y="26924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66784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57244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.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22308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91320" y="269244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915000" y="363204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8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848480" y="43689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6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66136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.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7856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.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2356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00392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915000" y="5308560"/>
            <a:ext cx="52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1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8004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348280" y="43689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2354760" y="5308560"/>
            <a:ext cx="429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836960" y="2649600"/>
            <a:ext cx="54792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830840" y="4338720"/>
            <a:ext cx="54756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35520" y="527832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9040" y="3608280"/>
            <a:ext cx="547560" cy="365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6580080" y="2322360"/>
            <a:ext cx="1793880" cy="3632400"/>
            <a:chOff x="6580080" y="2322360"/>
            <a:chExt cx="1793880" cy="3632400"/>
          </a:xfrm>
        </p:grpSpPr>
        <p:pic>
          <p:nvPicPr>
            <p:cNvPr id="393" name="" descr=""/>
            <p:cNvPicPr/>
            <p:nvPr/>
          </p:nvPicPr>
          <p:blipFill>
            <a:blip r:embed="rId3"/>
            <a:stretch/>
          </p:blipFill>
          <p:spPr>
            <a:xfrm>
              <a:off x="6581880" y="4125960"/>
              <a:ext cx="1792080" cy="18288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94" name=""/>
            <p:cNvGrpSpPr/>
            <p:nvPr/>
          </p:nvGrpSpPr>
          <p:grpSpPr>
            <a:xfrm>
              <a:off x="6580080" y="2322360"/>
              <a:ext cx="1782720" cy="1968480"/>
              <a:chOff x="6580080" y="2322360"/>
              <a:chExt cx="1782720" cy="1968480"/>
            </a:xfrm>
          </p:grpSpPr>
          <p:pic>
            <p:nvPicPr>
              <p:cNvPr id="39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580080" y="2473200"/>
                <a:ext cx="1782720" cy="18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>
                <a:off x="6657840" y="2536560"/>
                <a:ext cx="144720" cy="127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52440" y="232236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6877080" y="350208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8868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56920" y="269244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86720" y="362592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40.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877080" y="5159520"/>
              <a:ext cx="13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8868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756920" y="4362480"/>
              <a:ext cx="4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.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86720" y="5302080"/>
              <a:ext cx="52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32.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94640" y="3608280"/>
              <a:ext cx="547560" cy="36540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82040" y="527220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44360" y="2693880"/>
            <a:ext cx="885996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effect of STAg and SEA on DC func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 expression of costimulatory molecu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) chemokine express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STAg-induced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D40 and CD86 expression on D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00160" y="5781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736640" y="7216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054080" y="4726080"/>
            <a:ext cx="5083200" cy="182412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060560" y="1646280"/>
            <a:ext cx="5091120" cy="3365280"/>
            <a:chOff x="1060560" y="1646280"/>
            <a:chExt cx="5091120" cy="3365280"/>
          </a:xfrm>
        </p:grpSpPr>
        <p:pic>
          <p:nvPicPr>
            <p:cNvPr id="416" name="" descr=""/>
            <p:cNvPicPr/>
            <p:nvPr/>
          </p:nvPicPr>
          <p:blipFill>
            <a:blip r:embed="rId2"/>
            <a:stretch/>
          </p:blipFill>
          <p:spPr>
            <a:xfrm>
              <a:off x="1060560" y="1646280"/>
              <a:ext cx="5091120" cy="183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17" name="" descr=""/>
            <p:cNvPicPr/>
            <p:nvPr/>
          </p:nvPicPr>
          <p:blipFill>
            <a:blip r:embed="rId3"/>
            <a:stretch/>
          </p:blipFill>
          <p:spPr>
            <a:xfrm>
              <a:off x="1060560" y="3181320"/>
              <a:ext cx="5091120" cy="1830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8" name=""/>
          <p:cNvSpPr/>
          <p:nvPr/>
        </p:nvSpPr>
        <p:spPr>
          <a:xfrm>
            <a:off x="1416240" y="1584360"/>
            <a:ext cx="106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218760" y="15210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87534"/>
                </a:solidFill>
                <a:latin typeface="Geneva"/>
              </a:rPr>
              <a:t>+ST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939200" y="1509840"/>
            <a:ext cx="78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181e"/>
                </a:solidFill>
                <a:latin typeface="Geneva"/>
              </a:rPr>
              <a:t>+SE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26880" y="2287440"/>
            <a:ext cx="8985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29040" y="534672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6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29040" y="3797280"/>
            <a:ext cx="893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8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19600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8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695040" y="19018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460120" y="1901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2196000" y="3425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707640" y="3432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2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06928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720240" y="49752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460120" y="4975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472720" y="34383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3720960" y="1913040"/>
            <a:ext cx="559080" cy="3433680"/>
            <a:chOff x="3720960" y="1913040"/>
            <a:chExt cx="559080" cy="3433680"/>
          </a:xfrm>
        </p:grpSpPr>
        <p:sp>
          <p:nvSpPr>
            <p:cNvPr id="434" name=""/>
            <p:cNvSpPr/>
            <p:nvPr/>
          </p:nvSpPr>
          <p:spPr>
            <a:xfrm>
              <a:off x="3720960" y="191304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72276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732120" y="3440160"/>
              <a:ext cx="547920" cy="365040"/>
            </a:xfrm>
            <a:prstGeom prst="ellipse">
              <a:avLst/>
            </a:prstGeom>
            <a:noFill/>
            <a:ln w="1908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5342040" y="1913040"/>
            <a:ext cx="571320" cy="3433680"/>
            <a:chOff x="5342040" y="1913040"/>
            <a:chExt cx="571320" cy="3433680"/>
          </a:xfrm>
        </p:grpSpPr>
        <p:sp>
          <p:nvSpPr>
            <p:cNvPr id="438" name=""/>
            <p:cNvSpPr/>
            <p:nvPr/>
          </p:nvSpPr>
          <p:spPr>
            <a:xfrm>
              <a:off x="5365800" y="191304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342040" y="498168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357880" y="3440160"/>
              <a:ext cx="547560" cy="365040"/>
            </a:xfrm>
            <a:prstGeom prst="ellipse">
              <a:avLst/>
            </a:prstGeom>
            <a:noFill/>
            <a:ln w="19080">
              <a:solidFill>
                <a:srgbClr val="ef1f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6330960" y="1550880"/>
            <a:ext cx="1877040" cy="5004000"/>
            <a:chOff x="6330960" y="1550880"/>
            <a:chExt cx="1877040" cy="5004000"/>
          </a:xfrm>
        </p:grpSpPr>
        <p:grpSp>
          <p:nvGrpSpPr>
            <p:cNvPr id="442" name=""/>
            <p:cNvGrpSpPr/>
            <p:nvPr/>
          </p:nvGrpSpPr>
          <p:grpSpPr>
            <a:xfrm>
              <a:off x="6330960" y="1550880"/>
              <a:ext cx="1877040" cy="5004000"/>
              <a:chOff x="6330960" y="1550880"/>
              <a:chExt cx="1877040" cy="5004000"/>
            </a:xfrm>
          </p:grpSpPr>
          <p:grpSp>
            <p:nvGrpSpPr>
              <p:cNvPr id="443" name=""/>
              <p:cNvGrpSpPr/>
              <p:nvPr/>
            </p:nvGrpSpPr>
            <p:grpSpPr>
              <a:xfrm>
                <a:off x="6330960" y="1658880"/>
                <a:ext cx="1795320" cy="4896000"/>
                <a:chOff x="6330960" y="1658880"/>
                <a:chExt cx="1795320" cy="4896000"/>
              </a:xfrm>
            </p:grpSpPr>
            <p:pic>
              <p:nvPicPr>
                <p:cNvPr id="44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330960" y="165888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330960" y="473724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4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343560" y="3187800"/>
                  <a:ext cx="1782720" cy="18176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447" name=""/>
              <p:cNvSpPr/>
              <p:nvPr/>
            </p:nvSpPr>
            <p:spPr>
              <a:xfrm>
                <a:off x="6541200" y="1550880"/>
                <a:ext cx="1666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187534"/>
                    </a:solidFill>
                    <a:latin typeface="Arial"/>
                  </a:rPr>
                  <a:t>+STAg</a:t>
                </a:r>
                <a:r>
                  <a:rPr b="1" lang="en-US" sz="2000" spc="-1" strike="noStrike">
                    <a:solidFill>
                      <a:srgbClr val="ed181e"/>
                    </a:solidFill>
                    <a:latin typeface="Arial"/>
                  </a:rPr>
                  <a:t>+SE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8" name=""/>
            <p:cNvSpPr/>
            <p:nvPr/>
          </p:nvSpPr>
          <p:spPr>
            <a:xfrm>
              <a:off x="7301880" y="190188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3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314480" y="342576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314480" y="497520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1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1160" y="495000"/>
            <a:ext cx="8929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A down-regulates MIP-1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retion by D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16200000">
            <a:off x="1049400" y="3627720"/>
            <a:ext cx="191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P-1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ng/m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2221920" y="1978200"/>
            <a:ext cx="4566960" cy="3692520"/>
            <a:chOff x="2221920" y="1978200"/>
            <a:chExt cx="4566960" cy="3692520"/>
          </a:xfrm>
        </p:grpSpPr>
        <p:grpSp>
          <p:nvGrpSpPr>
            <p:cNvPr id="454" name=""/>
            <p:cNvGrpSpPr/>
            <p:nvPr/>
          </p:nvGrpSpPr>
          <p:grpSpPr>
            <a:xfrm>
              <a:off x="2635560" y="5505480"/>
              <a:ext cx="4153320" cy="12960"/>
              <a:chOff x="2635560" y="5505480"/>
              <a:chExt cx="4153320" cy="12960"/>
            </a:xfrm>
          </p:grpSpPr>
          <p:sp>
            <p:nvSpPr>
              <p:cNvPr id="455" name=""/>
              <p:cNvSpPr/>
              <p:nvPr/>
            </p:nvSpPr>
            <p:spPr>
              <a:xfrm flipV="1">
                <a:off x="26355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V="1">
                <a:off x="367416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47113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 flipV="1">
                <a:off x="574992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V="1">
                <a:off x="6787440" y="5505480"/>
                <a:ext cx="1440" cy="129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635560" y="5505480"/>
                <a:ext cx="415188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2605680" y="2120760"/>
              <a:ext cx="30960" cy="3385080"/>
              <a:chOff x="2605680" y="2120760"/>
              <a:chExt cx="30960" cy="3385080"/>
            </a:xfrm>
          </p:grpSpPr>
          <p:sp>
            <p:nvSpPr>
              <p:cNvPr id="462" name=""/>
              <p:cNvSpPr/>
              <p:nvPr/>
            </p:nvSpPr>
            <p:spPr>
              <a:xfrm flipH="1">
                <a:off x="2605680" y="550476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H="1">
                <a:off x="2605680" y="466020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>
                <a:off x="2605680" y="381600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flipH="1">
                <a:off x="2605680" y="2965320"/>
                <a:ext cx="29160" cy="1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H="1">
                <a:off x="2605680" y="2120760"/>
                <a:ext cx="291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V="1">
                <a:off x="2635200" y="2120760"/>
                <a:ext cx="1440" cy="338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2778120" y="5099760"/>
              <a:ext cx="753840" cy="405360"/>
              <a:chOff x="2778120" y="5099760"/>
              <a:chExt cx="753840" cy="405360"/>
            </a:xfrm>
          </p:grpSpPr>
          <p:sp>
            <p:nvSpPr>
              <p:cNvPr id="469" name=""/>
              <p:cNvSpPr/>
              <p:nvPr/>
            </p:nvSpPr>
            <p:spPr>
              <a:xfrm>
                <a:off x="2778120" y="5164560"/>
                <a:ext cx="753840" cy="3405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3151080" y="5099760"/>
                <a:ext cx="1080" cy="6480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964240" y="509976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2" name=""/>
            <p:cNvGrpSpPr/>
            <p:nvPr/>
          </p:nvGrpSpPr>
          <p:grpSpPr>
            <a:xfrm>
              <a:off x="3815280" y="2304000"/>
              <a:ext cx="753840" cy="3200760"/>
              <a:chOff x="3815280" y="2304000"/>
              <a:chExt cx="753840" cy="3200760"/>
            </a:xfrm>
          </p:grpSpPr>
          <p:sp>
            <p:nvSpPr>
              <p:cNvPr id="473" name=""/>
              <p:cNvSpPr/>
              <p:nvPr/>
            </p:nvSpPr>
            <p:spPr>
              <a:xfrm>
                <a:off x="3815280" y="2460960"/>
                <a:ext cx="753840" cy="304380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 flipV="1">
                <a:off x="4188600" y="2304000"/>
                <a:ext cx="1080" cy="15696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001760" y="230400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4854240" y="5466240"/>
              <a:ext cx="753840" cy="38880"/>
              <a:chOff x="4854240" y="5466240"/>
              <a:chExt cx="753840" cy="38880"/>
            </a:xfrm>
          </p:grpSpPr>
          <p:sp>
            <p:nvSpPr>
              <p:cNvPr id="477" name=""/>
              <p:cNvSpPr/>
              <p:nvPr/>
            </p:nvSpPr>
            <p:spPr>
              <a:xfrm>
                <a:off x="4854240" y="5466240"/>
                <a:ext cx="753840" cy="3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227200" y="5466240"/>
                <a:ext cx="108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040360" y="5466240"/>
                <a:ext cx="372960" cy="14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0" name=""/>
            <p:cNvGrpSpPr/>
            <p:nvPr/>
          </p:nvGrpSpPr>
          <p:grpSpPr>
            <a:xfrm>
              <a:off x="5891400" y="4542480"/>
              <a:ext cx="753840" cy="962640"/>
              <a:chOff x="5891400" y="4542480"/>
              <a:chExt cx="753840" cy="962640"/>
            </a:xfrm>
          </p:grpSpPr>
          <p:sp>
            <p:nvSpPr>
              <p:cNvPr id="481" name=""/>
              <p:cNvSpPr/>
              <p:nvPr/>
            </p:nvSpPr>
            <p:spPr>
              <a:xfrm>
                <a:off x="5891400" y="4595760"/>
                <a:ext cx="753840" cy="90936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V="1">
                <a:off x="6264720" y="4542480"/>
                <a:ext cx="1080" cy="532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077880" y="4542480"/>
                <a:ext cx="372960" cy="10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84" name=""/>
            <p:cNvSpPr/>
            <p:nvPr/>
          </p:nvSpPr>
          <p:spPr>
            <a:xfrm>
              <a:off x="2221920" y="197820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31640" y="2819880"/>
              <a:ext cx="433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37840" y="367092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337840" y="4512960"/>
              <a:ext cx="29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2339640" y="530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576160" y="5611680"/>
            <a:ext cx="115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4929120" y="560700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3765600" y="561348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5823000" y="5587920"/>
            <a:ext cx="901800" cy="355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187534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TAg</a:t>
            </a:r>
            <a:endParaRPr b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187534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6097680" y="5962680"/>
            <a:ext cx="63504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f1f1d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SEA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ef1f1d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751360" y="58960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2744640" y="506520"/>
            <a:ext cx="3656160" cy="75708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55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2520" y="1562040"/>
            <a:ext cx="8958240" cy="42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 exposed to parasite extracts promote Th1/Th2 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itment in an IL-12/IL-4 independent fash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34272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opposing effects of STAg and SEA on Th phenotype correlate with distinct states of DC activati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TAg exposure induces upregulation of costimulator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lecules and chemokine production in DC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contrast, exposure to SEA results in down-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gulation of many of these func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41200" y="5092560"/>
            <a:ext cx="8828280" cy="1462320"/>
            <a:chOff x="241200" y="5092560"/>
            <a:chExt cx="8828280" cy="1462320"/>
          </a:xfrm>
        </p:grpSpPr>
        <p:sp>
          <p:nvSpPr>
            <p:cNvPr id="499" name=""/>
            <p:cNvSpPr/>
            <p:nvPr/>
          </p:nvSpPr>
          <p:spPr>
            <a:xfrm>
              <a:off x="241200" y="5092560"/>
              <a:ext cx="8683560" cy="1462320"/>
            </a:xfrm>
            <a:prstGeom prst="rect">
              <a:avLst/>
            </a:prstGeom>
            <a:solidFill>
              <a:srgbClr val="c5fd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920" y="5197320"/>
              <a:ext cx="8764560" cy="124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These findings suggest that Th2 development depends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not on a default resulting from the absence of DC activation,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571680" indent="-5716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000000"/>
                  </a:solidFill>
                  <a:latin typeface="Arial"/>
                </a:rPr>
                <a:t>but from an actual suppression of DC function.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14280" y="38592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581400">
            <a:off x="1358640" y="232560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80200" y="368784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756000">
            <a:off x="4576680" y="128124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603000">
            <a:off x="4717800" y="151272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191600">
            <a:off x="5110200" y="11224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393600">
            <a:off x="4841640" y="1730520"/>
            <a:ext cx="3149640" cy="50292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738200">
            <a:off x="5357880" y="1174680"/>
            <a:ext cx="31478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 rot="6298200">
            <a:off x="6847560" y="505800"/>
            <a:ext cx="230400" cy="185400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 rot="5386200">
            <a:off x="6233040" y="61416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 rot="5529600">
            <a:off x="6775920" y="843120"/>
            <a:ext cx="230400" cy="1854360"/>
          </a:xfrm>
          <a:prstGeom prst="lightningBol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295400">
            <a:off x="5140080" y="1336680"/>
            <a:ext cx="3149640" cy="503280"/>
          </a:xfrm>
          <a:custGeom>
            <a:avLst/>
            <a:gdLst/>
            <a:ahLst/>
            <a:rect l="l" t="t" r="r" b="b"/>
            <a:pathLst>
              <a:path w="1751" h="481">
                <a:moveTo>
                  <a:pt x="496" y="195"/>
                </a:moveTo>
                <a:cubicBezTo>
                  <a:pt x="560" y="172"/>
                  <a:pt x="577" y="140"/>
                  <a:pt x="643" y="117"/>
                </a:cubicBezTo>
                <a:cubicBezTo>
                  <a:pt x="699" y="73"/>
                  <a:pt x="769" y="46"/>
                  <a:pt x="862" y="31"/>
                </a:cubicBezTo>
                <a:cubicBezTo>
                  <a:pt x="940" y="2"/>
                  <a:pt x="901" y="21"/>
                  <a:pt x="986" y="7"/>
                </a:cubicBezTo>
                <a:cubicBezTo>
                  <a:pt x="1024" y="0"/>
                  <a:pt x="1090" y="11"/>
                  <a:pt x="1098" y="3"/>
                </a:cubicBezTo>
                <a:cubicBezTo>
                  <a:pt x="1239" y="10"/>
                  <a:pt x="1342" y="4"/>
                  <a:pt x="1475" y="24"/>
                </a:cubicBezTo>
                <a:cubicBezTo>
                  <a:pt x="1591" y="40"/>
                  <a:pt x="1654" y="42"/>
                  <a:pt x="1751" y="75"/>
                </a:cubicBezTo>
                <a:cubicBezTo>
                  <a:pt x="1629" y="117"/>
                  <a:pt x="1477" y="111"/>
                  <a:pt x="1336" y="117"/>
                </a:cubicBezTo>
                <a:cubicBezTo>
                  <a:pt x="1171" y="138"/>
                  <a:pt x="1043" y="148"/>
                  <a:pt x="902" y="200"/>
                </a:cubicBezTo>
                <a:cubicBezTo>
                  <a:pt x="874" y="209"/>
                  <a:pt x="861" y="209"/>
                  <a:pt x="830" y="215"/>
                </a:cubicBezTo>
                <a:cubicBezTo>
                  <a:pt x="809" y="218"/>
                  <a:pt x="781" y="236"/>
                  <a:pt x="763" y="242"/>
                </a:cubicBezTo>
                <a:cubicBezTo>
                  <a:pt x="722" y="254"/>
                  <a:pt x="643" y="283"/>
                  <a:pt x="643" y="283"/>
                </a:cubicBezTo>
                <a:cubicBezTo>
                  <a:pt x="623" y="297"/>
                  <a:pt x="602" y="291"/>
                  <a:pt x="578" y="303"/>
                </a:cubicBezTo>
                <a:cubicBezTo>
                  <a:pt x="560" y="309"/>
                  <a:pt x="541" y="328"/>
                  <a:pt x="526" y="335"/>
                </a:cubicBezTo>
                <a:cubicBezTo>
                  <a:pt x="506" y="342"/>
                  <a:pt x="493" y="342"/>
                  <a:pt x="478" y="351"/>
                </a:cubicBezTo>
                <a:cubicBezTo>
                  <a:pt x="438" y="371"/>
                  <a:pt x="415" y="389"/>
                  <a:pt x="368" y="398"/>
                </a:cubicBezTo>
                <a:cubicBezTo>
                  <a:pt x="360" y="408"/>
                  <a:pt x="339" y="407"/>
                  <a:pt x="326" y="415"/>
                </a:cubicBezTo>
                <a:cubicBezTo>
                  <a:pt x="310" y="422"/>
                  <a:pt x="307" y="434"/>
                  <a:pt x="288" y="439"/>
                </a:cubicBezTo>
                <a:cubicBezTo>
                  <a:pt x="225" y="454"/>
                  <a:pt x="175" y="468"/>
                  <a:pt x="111" y="481"/>
                </a:cubicBezTo>
                <a:cubicBezTo>
                  <a:pt x="97" y="470"/>
                  <a:pt x="0" y="479"/>
                  <a:pt x="6" y="467"/>
                </a:cubicBezTo>
                <a:cubicBezTo>
                  <a:pt x="29" y="410"/>
                  <a:pt x="151" y="386"/>
                  <a:pt x="229" y="366"/>
                </a:cubicBezTo>
                <a:cubicBezTo>
                  <a:pt x="271" y="332"/>
                  <a:pt x="324" y="316"/>
                  <a:pt x="368" y="283"/>
                </a:cubicBezTo>
                <a:cubicBezTo>
                  <a:pt x="383" y="256"/>
                  <a:pt x="390" y="263"/>
                  <a:pt x="430" y="243"/>
                </a:cubicBezTo>
                <a:cubicBezTo>
                  <a:pt x="492" y="209"/>
                  <a:pt x="496" y="220"/>
                  <a:pt x="496" y="195"/>
                </a:cubicBez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03520" y="445140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773360" y="4808520"/>
            <a:ext cx="131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29400" y="367344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798640" y="1920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373560" y="21099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825560" y="2212920"/>
            <a:ext cx="0" cy="35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322360" y="2120760"/>
            <a:ext cx="0" cy="508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5680" y="366876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205680" y="201600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13264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07960" y="631800"/>
            <a:ext cx="165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tozo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14440" y="639720"/>
            <a:ext cx="170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ell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elmi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730840" y="4448160"/>
            <a:ext cx="1434960" cy="1434960"/>
          </a:xfrm>
          <a:prstGeom prst="ellipse">
            <a:avLst/>
          </a:prstGeom>
          <a:solidFill>
            <a:srgbClr val="fda89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24440" y="4805280"/>
            <a:ext cx="123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Th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eff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57000" y="1338120"/>
            <a:ext cx="2109600" cy="917640"/>
            <a:chOff x="1557000" y="1338120"/>
            <a:chExt cx="2109600" cy="917640"/>
          </a:xfrm>
        </p:grpSpPr>
        <p:grpSp>
          <p:nvGrpSpPr>
            <p:cNvPr id="72" name=""/>
            <p:cNvGrpSpPr/>
            <p:nvPr/>
          </p:nvGrpSpPr>
          <p:grpSpPr>
            <a:xfrm>
              <a:off x="3119040" y="1830240"/>
              <a:ext cx="547560" cy="365400"/>
              <a:chOff x="3119040" y="1830240"/>
              <a:chExt cx="547560" cy="365400"/>
            </a:xfrm>
          </p:grpSpPr>
          <p:sp>
            <p:nvSpPr>
              <p:cNvPr id="73" name=""/>
              <p:cNvSpPr/>
              <p:nvPr/>
            </p:nvSpPr>
            <p:spPr>
              <a:xfrm rot="5400000">
                <a:off x="3210120" y="1739160"/>
                <a:ext cx="365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5400000">
                <a:off x="3326400" y="181260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" name=""/>
            <p:cNvGrpSpPr/>
            <p:nvPr/>
          </p:nvGrpSpPr>
          <p:grpSpPr>
            <a:xfrm>
              <a:off x="1557000" y="1890720"/>
              <a:ext cx="547560" cy="365040"/>
              <a:chOff x="1557000" y="1890720"/>
              <a:chExt cx="547560" cy="365040"/>
            </a:xfrm>
          </p:grpSpPr>
          <p:sp>
            <p:nvSpPr>
              <p:cNvPr id="76" name=""/>
              <p:cNvSpPr/>
              <p:nvPr/>
            </p:nvSpPr>
            <p:spPr>
              <a:xfrm rot="5400000">
                <a:off x="1648080" y="179928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400000">
                <a:off x="1764360" y="187272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8" name=""/>
            <p:cNvGrpSpPr/>
            <p:nvPr/>
          </p:nvGrpSpPr>
          <p:grpSpPr>
            <a:xfrm>
              <a:off x="2635200" y="1338120"/>
              <a:ext cx="365040" cy="547920"/>
              <a:chOff x="2635200" y="1338120"/>
              <a:chExt cx="365040" cy="547920"/>
            </a:xfrm>
          </p:grpSpPr>
          <p:sp>
            <p:nvSpPr>
              <p:cNvPr id="79" name=""/>
              <p:cNvSpPr/>
              <p:nvPr/>
            </p:nvSpPr>
            <p:spPr>
              <a:xfrm flipH="1" flipV="1">
                <a:off x="2635200" y="1338120"/>
                <a:ext cx="365040" cy="5479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flipV="1">
                <a:off x="2842920" y="1491480"/>
                <a:ext cx="121320" cy="22860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" name=""/>
            <p:cNvGrpSpPr/>
            <p:nvPr/>
          </p:nvGrpSpPr>
          <p:grpSpPr>
            <a:xfrm>
              <a:off x="2114640" y="1528560"/>
              <a:ext cx="365040" cy="547560"/>
              <a:chOff x="2114640" y="1528560"/>
              <a:chExt cx="365040" cy="547560"/>
            </a:xfrm>
          </p:grpSpPr>
          <p:sp>
            <p:nvSpPr>
              <p:cNvPr id="82" name=""/>
              <p:cNvSpPr/>
              <p:nvPr/>
            </p:nvSpPr>
            <p:spPr>
              <a:xfrm flipV="1">
                <a:off x="2114640" y="1528200"/>
                <a:ext cx="36504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V="1">
                <a:off x="2150280" y="1682640"/>
                <a:ext cx="12132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" name=""/>
          <p:cNvSpPr/>
          <p:nvPr/>
        </p:nvSpPr>
        <p:spPr>
          <a:xfrm rot="1989000">
            <a:off x="4475160" y="2347920"/>
            <a:ext cx="2468520" cy="1347840"/>
          </a:xfrm>
          <a:prstGeom prst="irregularSeal2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236200" y="2795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eneva"/>
              </a:rPr>
              <a:t>A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6926400" y="2336760"/>
            <a:ext cx="1371600" cy="1371600"/>
            <a:chOff x="6926400" y="2336760"/>
            <a:chExt cx="1371600" cy="1371600"/>
          </a:xfrm>
        </p:grpSpPr>
        <p:sp>
          <p:nvSpPr>
            <p:cNvPr id="87" name=""/>
            <p:cNvSpPr/>
            <p:nvPr/>
          </p:nvSpPr>
          <p:spPr>
            <a:xfrm>
              <a:off x="6926400" y="2336760"/>
              <a:ext cx="1371600" cy="1371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948360" y="2689200"/>
              <a:ext cx="133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Cell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  </a:t>
              </a:r>
              <a:r>
                <a:rPr b="1" lang="en-US" sz="1800" spc="-1" strike="noStrike">
                  <a:solidFill>
                    <a:srgbClr val="000000"/>
                  </a:solidFill>
                  <a:latin typeface="Geneva"/>
                </a:rPr>
                <a:t>A,B,C…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806080" y="273384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enev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921360" y="2014560"/>
            <a:ext cx="0" cy="639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65480" y="3656160"/>
            <a:ext cx="320400" cy="731520"/>
          </a:xfrm>
          <a:prstGeom prst="downArrow">
            <a:avLst>
              <a:gd name="adj1" fmla="val 50000"/>
              <a:gd name="adj2" fmla="val 57079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86680" y="3660840"/>
            <a:ext cx="320400" cy="731880"/>
          </a:xfrm>
          <a:prstGeom prst="downArrow">
            <a:avLst>
              <a:gd name="adj1" fmla="val 50000"/>
              <a:gd name="adj2" fmla="val 57107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4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520" y="2948040"/>
            <a:ext cx="8578800" cy="27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is the precise role of the polarizing cytoki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Th effector choice during parasitic infection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 IL-12/IL-4 required for the initial Th1/Th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cision step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or are they merely stabil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ffector populations that have already emerg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150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Schistosoma manson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553000" y="1778040"/>
            <a:ext cx="2432160" cy="37846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grpSp>
        <p:nvGrpSpPr>
          <p:cNvPr id="98" name=""/>
          <p:cNvGrpSpPr/>
          <p:nvPr/>
        </p:nvGrpSpPr>
        <p:grpSpPr>
          <a:xfrm>
            <a:off x="1233360" y="1743120"/>
            <a:ext cx="2494080" cy="3830760"/>
            <a:chOff x="1233360" y="1743120"/>
            <a:chExt cx="2494080" cy="3830760"/>
          </a:xfrm>
        </p:grpSpPr>
        <p:sp>
          <p:nvSpPr>
            <p:cNvPr id="99" name=""/>
            <p:cNvSpPr/>
            <p:nvPr/>
          </p:nvSpPr>
          <p:spPr>
            <a:xfrm>
              <a:off x="1251000" y="1743120"/>
              <a:ext cx="2476440" cy="383076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233360" y="1762200"/>
              <a:ext cx="2473560" cy="380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1" name=""/>
          <p:cNvSpPr/>
          <p:nvPr/>
        </p:nvSpPr>
        <p:spPr>
          <a:xfrm>
            <a:off x="4876920" y="5576760"/>
            <a:ext cx="378432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2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801720"/>
            <a:ext cx="372096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Toxoplasma gondii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achyzoit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5720" y="5564160"/>
            <a:ext cx="37846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larized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1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98520" y="550800"/>
            <a:ext cx="8350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 from previous studies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7240" y="1521000"/>
            <a:ext cx="7769520" cy="2286000"/>
          </a:xfrm>
          <a:prstGeom prst="rect">
            <a:avLst/>
          </a:prstGeom>
          <a:noFill/>
          <a:ln w="3816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0160" y="1755720"/>
            <a:ext cx="7550280" cy="20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L-4 is not required for in vivo development of Th2 cells in response to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S. mansoni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infection, but plays an important role in stabilizing their phenotype and negatively regulating the generation of Th1 cel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349"/>
              </a:spcBef>
              <a:tabLst>
                <a:tab algn="l" pos="0"/>
                <a:tab algn="l" pos="8002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Jankovic et al. J. Immunol.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89040" y="3990960"/>
            <a:ext cx="8231040" cy="2514600"/>
            <a:chOff x="689040" y="3990960"/>
            <a:chExt cx="8231040" cy="2514600"/>
          </a:xfrm>
        </p:grpSpPr>
        <p:sp>
          <p:nvSpPr>
            <p:cNvPr id="108" name=""/>
            <p:cNvSpPr/>
            <p:nvPr/>
          </p:nvSpPr>
          <p:spPr>
            <a:xfrm>
              <a:off x="689040" y="3990960"/>
              <a:ext cx="7769160" cy="2514600"/>
            </a:xfrm>
            <a:prstGeom prst="rect">
              <a:avLst/>
            </a:prstGeom>
            <a:noFill/>
            <a:ln w="38160">
              <a:solidFill>
                <a:srgbClr val="18753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49240" y="4079880"/>
              <a:ext cx="8070840" cy="24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550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Similarly,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 is able to stimulate Th1 development in the absence of IL-12. While no default       to a Th2 pattern is observed in </a:t>
              </a:r>
              <a:r>
                <a:rPr b="1" i="1" lang="en-US" sz="2200" spc="-1" strike="noStrike">
                  <a:solidFill>
                    <a:srgbClr val="000000"/>
                  </a:solidFill>
                  <a:latin typeface="Arial"/>
                </a:rPr>
                <a:t>T. gondii</a:t>
              </a: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 Ag primed          IL-12 KO mice, a complete default to a Th2 cytokine  pattern is observed in MyD88 KO animals.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4" marL="1828800">
                <a:lnSpc>
                  <a:spcPct val="120000"/>
                </a:lnSpc>
                <a:spcBef>
                  <a:spcPts val="349"/>
                </a:spcBef>
                <a:tabLst>
                  <a:tab algn="l" pos="0"/>
                  <a:tab algn="l" pos="86364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Jankovic et al. Immunity 2002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16080" y="433440"/>
            <a:ext cx="8513640" cy="60847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24160" y="4422600"/>
            <a:ext cx="109728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25960" y="2462040"/>
            <a:ext cx="1096920" cy="338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581400">
            <a:off x="793440" y="1773360"/>
            <a:ext cx="2673360" cy="134784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202800">
            <a:off x="5937120" y="2382480"/>
            <a:ext cx="2668680" cy="639720"/>
          </a:xfrm>
          <a:prstGeom prst="irregularSeal2">
            <a:avLst/>
          </a:prstGeom>
          <a:solidFill>
            <a:srgbClr val="eeea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05080" y="304632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49080" y="4025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0880" y="430704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5277600" y="679680"/>
            <a:ext cx="3398760" cy="1593000"/>
            <a:chOff x="5277600" y="679680"/>
            <a:chExt cx="3398760" cy="1593000"/>
          </a:xfrm>
        </p:grpSpPr>
        <p:sp>
          <p:nvSpPr>
            <p:cNvPr id="119" name=""/>
            <p:cNvSpPr/>
            <p:nvPr/>
          </p:nvSpPr>
          <p:spPr>
            <a:xfrm rot="1191600">
              <a:off x="5781960" y="1160640"/>
              <a:ext cx="2907720" cy="429120"/>
            </a:xfrm>
            <a:custGeom>
              <a:avLst/>
              <a:gdLst/>
              <a:ahLst/>
              <a:rect l="l" t="t" r="r" b="b"/>
              <a:pathLst>
                <a:path w="1751" h="481">
                  <a:moveTo>
                    <a:pt x="496" y="195"/>
                  </a:moveTo>
                  <a:cubicBezTo>
                    <a:pt x="560" y="172"/>
                    <a:pt x="577" y="140"/>
                    <a:pt x="643" y="117"/>
                  </a:cubicBezTo>
                  <a:cubicBezTo>
                    <a:pt x="699" y="73"/>
                    <a:pt x="769" y="46"/>
                    <a:pt x="862" y="31"/>
                  </a:cubicBezTo>
                  <a:cubicBezTo>
                    <a:pt x="940" y="2"/>
                    <a:pt x="901" y="21"/>
                    <a:pt x="986" y="7"/>
                  </a:cubicBezTo>
                  <a:cubicBezTo>
                    <a:pt x="1024" y="0"/>
                    <a:pt x="1090" y="11"/>
                    <a:pt x="1098" y="3"/>
                  </a:cubicBezTo>
                  <a:cubicBezTo>
                    <a:pt x="1239" y="10"/>
                    <a:pt x="1342" y="4"/>
                    <a:pt x="1475" y="24"/>
                  </a:cubicBezTo>
                  <a:cubicBezTo>
                    <a:pt x="1591" y="40"/>
                    <a:pt x="1654" y="42"/>
                    <a:pt x="1751" y="75"/>
                  </a:cubicBezTo>
                  <a:cubicBezTo>
                    <a:pt x="1629" y="117"/>
                    <a:pt x="1477" y="111"/>
                    <a:pt x="1336" y="117"/>
                  </a:cubicBezTo>
                  <a:cubicBezTo>
                    <a:pt x="1171" y="138"/>
                    <a:pt x="1043" y="148"/>
                    <a:pt x="902" y="200"/>
                  </a:cubicBezTo>
                  <a:cubicBezTo>
                    <a:pt x="874" y="209"/>
                    <a:pt x="861" y="209"/>
                    <a:pt x="830" y="215"/>
                  </a:cubicBezTo>
                  <a:cubicBezTo>
                    <a:pt x="809" y="218"/>
                    <a:pt x="781" y="236"/>
                    <a:pt x="763" y="242"/>
                  </a:cubicBezTo>
                  <a:cubicBezTo>
                    <a:pt x="722" y="254"/>
                    <a:pt x="643" y="283"/>
                    <a:pt x="643" y="283"/>
                  </a:cubicBezTo>
                  <a:cubicBezTo>
                    <a:pt x="623" y="297"/>
                    <a:pt x="602" y="291"/>
                    <a:pt x="578" y="303"/>
                  </a:cubicBezTo>
                  <a:cubicBezTo>
                    <a:pt x="560" y="309"/>
                    <a:pt x="541" y="328"/>
                    <a:pt x="526" y="335"/>
                  </a:cubicBezTo>
                  <a:cubicBezTo>
                    <a:pt x="506" y="342"/>
                    <a:pt x="493" y="342"/>
                    <a:pt x="478" y="351"/>
                  </a:cubicBezTo>
                  <a:cubicBezTo>
                    <a:pt x="438" y="371"/>
                    <a:pt x="415" y="389"/>
                    <a:pt x="368" y="398"/>
                  </a:cubicBezTo>
                  <a:cubicBezTo>
                    <a:pt x="360" y="408"/>
                    <a:pt x="339" y="407"/>
                    <a:pt x="326" y="415"/>
                  </a:cubicBezTo>
                  <a:cubicBezTo>
                    <a:pt x="310" y="422"/>
                    <a:pt x="307" y="434"/>
                    <a:pt x="288" y="439"/>
                  </a:cubicBezTo>
                  <a:cubicBezTo>
                    <a:pt x="225" y="454"/>
                    <a:pt x="175" y="468"/>
                    <a:pt x="111" y="481"/>
                  </a:cubicBezTo>
                  <a:cubicBezTo>
                    <a:pt x="97" y="470"/>
                    <a:pt x="0" y="479"/>
                    <a:pt x="6" y="467"/>
                  </a:cubicBezTo>
                  <a:cubicBezTo>
                    <a:pt x="29" y="410"/>
                    <a:pt x="151" y="386"/>
                    <a:pt x="229" y="366"/>
                  </a:cubicBezTo>
                  <a:cubicBezTo>
                    <a:pt x="271" y="332"/>
                    <a:pt x="324" y="316"/>
                    <a:pt x="368" y="283"/>
                  </a:cubicBezTo>
                  <a:cubicBezTo>
                    <a:pt x="383" y="256"/>
                    <a:pt x="390" y="263"/>
                    <a:pt x="430" y="243"/>
                  </a:cubicBezTo>
                  <a:cubicBezTo>
                    <a:pt x="492" y="209"/>
                    <a:pt x="496" y="220"/>
                    <a:pt x="496" y="195"/>
                  </a:cubicBez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0" name=""/>
            <p:cNvGrpSpPr/>
            <p:nvPr/>
          </p:nvGrpSpPr>
          <p:grpSpPr>
            <a:xfrm>
              <a:off x="5277600" y="794880"/>
              <a:ext cx="3334680" cy="1477800"/>
              <a:chOff x="5277600" y="794880"/>
              <a:chExt cx="3334680" cy="1477800"/>
            </a:xfrm>
          </p:grpSpPr>
          <p:sp>
            <p:nvSpPr>
              <p:cNvPr id="121" name=""/>
              <p:cNvSpPr/>
              <p:nvPr/>
            </p:nvSpPr>
            <p:spPr>
              <a:xfrm rot="756000">
                <a:off x="5289120" y="129564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2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03000">
                <a:off x="5419080" y="14929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3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393600">
                <a:off x="5533920" y="1679040"/>
                <a:ext cx="2907720" cy="42876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4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V="1" rot="6298200">
                <a:off x="7394040" y="568800"/>
                <a:ext cx="196560" cy="171252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V="1" rot="5386200">
                <a:off x="6827040" y="66204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V="1" rot="5529600">
                <a:off x="7327440" y="857520"/>
                <a:ext cx="196200" cy="1712160"/>
              </a:xfrm>
              <a:prstGeom prst="lightningBol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295400">
                <a:off x="5727600" y="1314720"/>
                <a:ext cx="2907720" cy="429120"/>
              </a:xfrm>
              <a:custGeom>
                <a:avLst/>
                <a:gdLst/>
                <a:ahLst/>
                <a:rect l="l" t="t" r="r" b="b"/>
                <a:pathLst>
                  <a:path w="1751" h="481">
                    <a:moveTo>
                      <a:pt x="496" y="195"/>
                    </a:moveTo>
                    <a:cubicBezTo>
                      <a:pt x="560" y="172"/>
                      <a:pt x="577" y="140"/>
                      <a:pt x="643" y="117"/>
                    </a:cubicBezTo>
                    <a:cubicBezTo>
                      <a:pt x="699" y="73"/>
                      <a:pt x="769" y="46"/>
                      <a:pt x="862" y="31"/>
                    </a:cubicBezTo>
                    <a:cubicBezTo>
                      <a:pt x="940" y="2"/>
                      <a:pt x="901" y="21"/>
                      <a:pt x="986" y="7"/>
                    </a:cubicBezTo>
                    <a:cubicBezTo>
                      <a:pt x="1024" y="0"/>
                      <a:pt x="1090" y="11"/>
                      <a:pt x="1098" y="3"/>
                    </a:cubicBezTo>
                    <a:cubicBezTo>
                      <a:pt x="1239" y="10"/>
                      <a:pt x="1342" y="4"/>
                      <a:pt x="1475" y="24"/>
                    </a:cubicBezTo>
                    <a:cubicBezTo>
                      <a:pt x="1591" y="40"/>
                      <a:pt x="1654" y="42"/>
                      <a:pt x="1751" y="75"/>
                    </a:cubicBezTo>
                    <a:cubicBezTo>
                      <a:pt x="1629" y="117"/>
                      <a:pt x="1477" y="111"/>
                      <a:pt x="1336" y="117"/>
                    </a:cubicBezTo>
                    <a:cubicBezTo>
                      <a:pt x="1171" y="138"/>
                      <a:pt x="1043" y="148"/>
                      <a:pt x="902" y="200"/>
                    </a:cubicBezTo>
                    <a:cubicBezTo>
                      <a:pt x="874" y="209"/>
                      <a:pt x="861" y="209"/>
                      <a:pt x="830" y="215"/>
                    </a:cubicBezTo>
                    <a:cubicBezTo>
                      <a:pt x="809" y="218"/>
                      <a:pt x="781" y="236"/>
                      <a:pt x="763" y="242"/>
                    </a:cubicBezTo>
                    <a:cubicBezTo>
                      <a:pt x="722" y="254"/>
                      <a:pt x="643" y="283"/>
                      <a:pt x="643" y="283"/>
                    </a:cubicBezTo>
                    <a:cubicBezTo>
                      <a:pt x="623" y="297"/>
                      <a:pt x="602" y="291"/>
                      <a:pt x="578" y="303"/>
                    </a:cubicBezTo>
                    <a:cubicBezTo>
                      <a:pt x="560" y="309"/>
                      <a:pt x="541" y="328"/>
                      <a:pt x="526" y="335"/>
                    </a:cubicBezTo>
                    <a:cubicBezTo>
                      <a:pt x="506" y="342"/>
                      <a:pt x="493" y="342"/>
                      <a:pt x="478" y="351"/>
                    </a:cubicBezTo>
                    <a:cubicBezTo>
                      <a:pt x="438" y="371"/>
                      <a:pt x="415" y="389"/>
                      <a:pt x="368" y="398"/>
                    </a:cubicBezTo>
                    <a:cubicBezTo>
                      <a:pt x="360" y="408"/>
                      <a:pt x="339" y="407"/>
                      <a:pt x="326" y="415"/>
                    </a:cubicBezTo>
                    <a:cubicBezTo>
                      <a:pt x="310" y="422"/>
                      <a:pt x="307" y="434"/>
                      <a:pt x="288" y="439"/>
                    </a:cubicBezTo>
                    <a:cubicBezTo>
                      <a:pt x="225" y="454"/>
                      <a:pt x="175" y="468"/>
                      <a:pt x="111" y="481"/>
                    </a:cubicBezTo>
                    <a:cubicBezTo>
                      <a:pt x="97" y="470"/>
                      <a:pt x="0" y="479"/>
                      <a:pt x="6" y="467"/>
                    </a:cubicBezTo>
                    <a:cubicBezTo>
                      <a:pt x="29" y="410"/>
                      <a:pt x="151" y="386"/>
                      <a:pt x="229" y="366"/>
                    </a:cubicBezTo>
                    <a:cubicBezTo>
                      <a:pt x="271" y="332"/>
                      <a:pt x="324" y="316"/>
                      <a:pt x="368" y="283"/>
                    </a:cubicBezTo>
                    <a:cubicBezTo>
                      <a:pt x="383" y="256"/>
                      <a:pt x="390" y="263"/>
                      <a:pt x="430" y="243"/>
                    </a:cubicBezTo>
                    <a:cubicBezTo>
                      <a:pt x="492" y="209"/>
                      <a:pt x="496" y="220"/>
                      <a:pt x="496" y="195"/>
                    </a:cubicBezTo>
                    <a:close/>
                  </a:path>
                </a:pathLst>
              </a:custGeom>
              <a:blipFill rotWithShape="0">
                <a:blip r:embed="rId5"/>
                <a:srcRect/>
                <a:tile tx="0" ty="0" sx="100000" sy="100000" algn="ctr"/>
              </a:blipFill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1166760" y="471816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328760" y="5265720"/>
            <a:ext cx="123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03520" y="512748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18000" y="484200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652760" y="5019840"/>
            <a:ext cx="182520" cy="107640"/>
          </a:xfrm>
          <a:custGeom>
            <a:avLst/>
            <a:gdLst>
              <a:gd name="textAreaLeft" fmla="*/ 39960 w 182520"/>
              <a:gd name="textAreaRight" fmla="*/ 142560 w 182520"/>
              <a:gd name="textAreaTop" fmla="*/ 23400 h 107640"/>
              <a:gd name="textAreaBottom" fmla="*/ 84240 h 10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040" bIns="14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57360" y="5127480"/>
            <a:ext cx="165240" cy="109800"/>
          </a:xfrm>
          <a:prstGeom prst="rect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1519200" y="5016600"/>
            <a:ext cx="106560" cy="109440"/>
          </a:xfrm>
          <a:prstGeom prst="rect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5127480"/>
            <a:ext cx="146160" cy="14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68440" y="5127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626160" y="3076560"/>
            <a:ext cx="1096920" cy="10969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0" y="3624120"/>
            <a:ext cx="182520" cy="11448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560" bIns="34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060320" y="34448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1677960" y="3713040"/>
            <a:ext cx="596880" cy="43920"/>
            <a:chOff x="1677960" y="3713040"/>
            <a:chExt cx="596880" cy="43920"/>
          </a:xfrm>
        </p:grpSpPr>
        <p:sp>
          <p:nvSpPr>
            <p:cNvPr id="141" name=""/>
            <p:cNvSpPr/>
            <p:nvPr/>
          </p:nvSpPr>
          <p:spPr>
            <a:xfrm>
              <a:off x="1919160" y="373212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919160" y="371304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918440" y="375372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677960" y="373392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1818000" y="3467160"/>
            <a:ext cx="56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N-</a:t>
            </a:r>
            <a:r>
              <a:rPr b="0" lang="en-US" sz="1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43040" y="3625920"/>
            <a:ext cx="182520" cy="108000"/>
          </a:xfrm>
          <a:custGeom>
            <a:avLst/>
            <a:gdLst>
              <a:gd name="textAreaLeft" fmla="*/ 39960 w 182520"/>
              <a:gd name="textAreaRight" fmla="*/ 142560 w 182520"/>
              <a:gd name="textAreaTop" fmla="*/ 23760 h 108000"/>
              <a:gd name="textAreaBottom" fmla="*/ 84240 h 1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352600" y="1368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724040" y="1015920"/>
            <a:ext cx="401760" cy="547920"/>
            <a:chOff x="1724040" y="1015920"/>
            <a:chExt cx="401760" cy="547920"/>
          </a:xfrm>
        </p:grpSpPr>
        <p:sp>
          <p:nvSpPr>
            <p:cNvPr id="149" name=""/>
            <p:cNvSpPr/>
            <p:nvPr/>
          </p:nvSpPr>
          <p:spPr>
            <a:xfrm>
              <a:off x="1724040" y="10159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763640" y="118152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2700000" y="1278000"/>
            <a:ext cx="547560" cy="401400"/>
            <a:chOff x="2700000" y="1278000"/>
            <a:chExt cx="547560" cy="401400"/>
          </a:xfrm>
        </p:grpSpPr>
        <p:sp>
          <p:nvSpPr>
            <p:cNvPr id="152" name=""/>
            <p:cNvSpPr/>
            <p:nvPr/>
          </p:nvSpPr>
          <p:spPr>
            <a:xfrm rot="5400000">
              <a:off x="2773080" y="1204920"/>
              <a:ext cx="401400" cy="5475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5400000">
              <a:off x="2901600" y="1269720"/>
              <a:ext cx="133200" cy="22824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2975040" y="155736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1007640" y="1300320"/>
            <a:ext cx="547560" cy="788400"/>
            <a:chOff x="1007640" y="1300320"/>
            <a:chExt cx="547560" cy="788400"/>
          </a:xfrm>
        </p:grpSpPr>
        <p:grpSp>
          <p:nvGrpSpPr>
            <p:cNvPr id="156" name=""/>
            <p:cNvGrpSpPr/>
            <p:nvPr/>
          </p:nvGrpSpPr>
          <p:grpSpPr>
            <a:xfrm>
              <a:off x="1007640" y="1300320"/>
              <a:ext cx="547560" cy="401400"/>
              <a:chOff x="1007640" y="1300320"/>
              <a:chExt cx="547560" cy="401400"/>
            </a:xfrm>
          </p:grpSpPr>
          <p:sp>
            <p:nvSpPr>
              <p:cNvPr id="157" name=""/>
              <p:cNvSpPr/>
              <p:nvPr/>
            </p:nvSpPr>
            <p:spPr>
              <a:xfrm rot="5400000">
                <a:off x="1080720" y="1227240"/>
                <a:ext cx="401400" cy="547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200" y="1938"/>
                      <a:pt x="10800" y="5080"/>
                      <a:pt x="10800" y="10800"/>
                    </a:cubicBezTo>
                    <a:cubicBezTo>
                      <a:pt x="10800" y="16520"/>
                      <a:pt x="16200" y="19662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5400000">
                <a:off x="1209240" y="1292040"/>
                <a:ext cx="133200" cy="22824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1276200" y="1580760"/>
              <a:ext cx="0" cy="50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2178000" y="787320"/>
            <a:ext cx="401760" cy="547920"/>
            <a:chOff x="2178000" y="787320"/>
            <a:chExt cx="401760" cy="547920"/>
          </a:xfrm>
        </p:grpSpPr>
        <p:sp>
          <p:nvSpPr>
            <p:cNvPr id="161" name=""/>
            <p:cNvSpPr/>
            <p:nvPr/>
          </p:nvSpPr>
          <p:spPr>
            <a:xfrm flipH="1" flipV="1">
              <a:off x="2178000" y="787320"/>
              <a:ext cx="401760" cy="547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flipV="1">
              <a:off x="2406240" y="940680"/>
              <a:ext cx="133560" cy="228600"/>
            </a:xfrm>
            <a:prstGeom prst="ellipse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838160" y="15685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49400" y="278604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090880" y="2882880"/>
            <a:ext cx="50760" cy="274680"/>
            <a:chOff x="2090880" y="2882880"/>
            <a:chExt cx="50760" cy="274680"/>
          </a:xfrm>
        </p:grpSpPr>
        <p:sp>
          <p:nvSpPr>
            <p:cNvPr id="166" name=""/>
            <p:cNvSpPr/>
            <p:nvPr/>
          </p:nvSpPr>
          <p:spPr>
            <a:xfrm>
              <a:off x="20908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4164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1773360" y="2882880"/>
            <a:ext cx="50760" cy="274680"/>
            <a:chOff x="1773360" y="2882880"/>
            <a:chExt cx="50760" cy="274680"/>
          </a:xfrm>
        </p:grpSpPr>
        <p:sp>
          <p:nvSpPr>
            <p:cNvPr id="169" name=""/>
            <p:cNvSpPr/>
            <p:nvPr/>
          </p:nvSpPr>
          <p:spPr>
            <a:xfrm>
              <a:off x="177336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8241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7165800" y="2960640"/>
            <a:ext cx="3240" cy="506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05520" y="194328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380360" y="1905120"/>
            <a:ext cx="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6954840" y="2895480"/>
            <a:ext cx="50760" cy="274680"/>
            <a:chOff x="6954840" y="2895480"/>
            <a:chExt cx="50760" cy="274680"/>
          </a:xfrm>
        </p:grpSpPr>
        <p:sp>
          <p:nvSpPr>
            <p:cNvPr id="175" name=""/>
            <p:cNvSpPr/>
            <p:nvPr/>
          </p:nvSpPr>
          <p:spPr>
            <a:xfrm>
              <a:off x="695484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005600" y="28954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7310520" y="2882880"/>
            <a:ext cx="50760" cy="274680"/>
            <a:chOff x="7310520" y="2882880"/>
            <a:chExt cx="50760" cy="274680"/>
          </a:xfrm>
        </p:grpSpPr>
        <p:sp>
          <p:nvSpPr>
            <p:cNvPr id="178" name=""/>
            <p:cNvSpPr/>
            <p:nvPr/>
          </p:nvSpPr>
          <p:spPr>
            <a:xfrm>
              <a:off x="731052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61280" y="2882880"/>
              <a:ext cx="0" cy="27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1785960" y="2482920"/>
            <a:ext cx="344520" cy="507960"/>
            <a:chOff x="1785960" y="2482920"/>
            <a:chExt cx="344520" cy="507960"/>
          </a:xfrm>
        </p:grpSpPr>
        <p:sp>
          <p:nvSpPr>
            <p:cNvPr id="181" name=""/>
            <p:cNvSpPr/>
            <p:nvPr/>
          </p:nvSpPr>
          <p:spPr>
            <a:xfrm>
              <a:off x="1785960" y="2482920"/>
              <a:ext cx="330120" cy="507960"/>
            </a:xfrm>
            <a:prstGeom prst="diamond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809720" y="25686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000560" y="2608200"/>
            <a:ext cx="320760" cy="368280"/>
            <a:chOff x="7000560" y="2608200"/>
            <a:chExt cx="320760" cy="368280"/>
          </a:xfrm>
        </p:grpSpPr>
        <p:sp>
          <p:nvSpPr>
            <p:cNvPr id="184" name=""/>
            <p:cNvSpPr/>
            <p:nvPr/>
          </p:nvSpPr>
          <p:spPr>
            <a:xfrm>
              <a:off x="7035480" y="2620800"/>
              <a:ext cx="237960" cy="3286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00560" y="26082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?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213640" y="234936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277760" y="2527200"/>
            <a:ext cx="6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94640" y="487440"/>
            <a:ext cx="1665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xoplas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ndi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45760" y="500040"/>
            <a:ext cx="17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chistos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ans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114408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3832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35120" y="3087720"/>
            <a:ext cx="241560" cy="593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54200" y="4006800"/>
            <a:ext cx="71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L-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404040" y="4714920"/>
            <a:ext cx="1554120" cy="1554120"/>
          </a:xfrm>
          <a:prstGeom prst="ellipse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566040" y="5262480"/>
            <a:ext cx="1217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2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62120" y="4829040"/>
            <a:ext cx="44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6000" y="51274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719760" y="5013360"/>
            <a:ext cx="114480" cy="114120"/>
          </a:xfrm>
          <a:prstGeom prst="ellipse">
            <a:avLst/>
          </a:prstGeom>
          <a:solidFill>
            <a:srgbClr val="00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729480" y="5130720"/>
            <a:ext cx="182520" cy="120600"/>
          </a:xfrm>
          <a:prstGeom prst="ellipse">
            <a:avLst/>
          </a:prstGeom>
          <a:solidFill>
            <a:srgbClr val="66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520" bIns="38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964200" y="5127480"/>
            <a:ext cx="155880" cy="155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75640" y="5008680"/>
            <a:ext cx="182520" cy="114120"/>
          </a:xfrm>
          <a:prstGeom prst="ellipse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4200" bIns="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95520" y="2151000"/>
            <a:ext cx="711000" cy="20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75360" y="210024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D8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2249280" y="3670200"/>
            <a:ext cx="533160" cy="1041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 rot="10800000">
            <a:off x="7168680" y="4136040"/>
            <a:ext cx="235080" cy="469800"/>
          </a:xfrm>
          <a:custGeom>
            <a:avLst/>
            <a:gdLst>
              <a:gd name="textAreaLeft" fmla="*/ 31320 w 235080"/>
              <a:gd name="textAreaRight" fmla="*/ 203760 w 235080"/>
              <a:gd name="textAreaTop" fmla="*/ 81720 h 469800"/>
              <a:gd name="textAreaBottom" fmla="*/ 340200 h 4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7116840" y="3738600"/>
            <a:ext cx="3556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116120" y="3719520"/>
            <a:ext cx="237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116120" y="3760920"/>
            <a:ext cx="2509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907320" y="3740040"/>
            <a:ext cx="546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 rot="10800000">
            <a:off x="6953400" y="4317840"/>
            <a:ext cx="234720" cy="470160"/>
          </a:xfrm>
          <a:custGeom>
            <a:avLst/>
            <a:gdLst>
              <a:gd name="textAreaLeft" fmla="*/ 31320 w 234720"/>
              <a:gd name="textAreaRight" fmla="*/ 203400 w 234720"/>
              <a:gd name="textAreaTop" fmla="*/ 82440 h 470160"/>
              <a:gd name="textAreaBottom" fmla="*/ 341280 h 47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90168"/>
                <a:lnTo>
                  <a:pt x="7172" y="21171"/>
                </a:lnTo>
                <a:lnTo>
                  <a:pt x="0" y="17280"/>
                </a:lnTo>
                <a:lnTo>
                  <a:pt x="7172" y="12531"/>
                </a:lnTo>
                <a:lnTo>
                  <a:pt x="7172" y="14691"/>
                </a:lnTo>
                <a:arcTo wR="21600" hR="7560" stAng="2690168" swAng="-233273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01600" y="4329000"/>
            <a:ext cx="63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1677960" y="5106960"/>
            <a:ext cx="596880" cy="43920"/>
            <a:chOff x="1677960" y="5106960"/>
            <a:chExt cx="596880" cy="43920"/>
          </a:xfrm>
        </p:grpSpPr>
        <p:sp>
          <p:nvSpPr>
            <p:cNvPr id="213" name=""/>
            <p:cNvSpPr/>
            <p:nvPr/>
          </p:nvSpPr>
          <p:spPr>
            <a:xfrm>
              <a:off x="191916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91916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91844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67796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6907320" y="5106960"/>
            <a:ext cx="596880" cy="43920"/>
            <a:chOff x="6907320" y="5106960"/>
            <a:chExt cx="596880" cy="43920"/>
          </a:xfrm>
        </p:grpSpPr>
        <p:sp>
          <p:nvSpPr>
            <p:cNvPr id="218" name=""/>
            <p:cNvSpPr/>
            <p:nvPr/>
          </p:nvSpPr>
          <p:spPr>
            <a:xfrm>
              <a:off x="7148520" y="5126040"/>
              <a:ext cx="355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48520" y="5106960"/>
              <a:ext cx="238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47800" y="5147640"/>
              <a:ext cx="250920" cy="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07320" y="5127840"/>
              <a:ext cx="54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2926800" y="4429080"/>
            <a:ext cx="348768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tokine 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turation of Th1/Th2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200400" y="2433600"/>
            <a:ext cx="2951280" cy="103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ep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2/IL-4 independ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 cell pri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372200" y="1830240"/>
            <a:ext cx="59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f1f1d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268360" y="1509840"/>
            <a:ext cx="4608720" cy="7999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85800" y="1346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2924280"/>
            <a:ext cx="837576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e dendritic cells conditioned by expos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parasite extracts able to promo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L-12/IL-4 independent Th1/Th2 commitmen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244520" y="849240"/>
            <a:ext cx="6642360" cy="789120"/>
          </a:xfrm>
          <a:prstGeom prst="roundRect">
            <a:avLst>
              <a:gd name="adj" fmla="val 16667"/>
            </a:avLst>
          </a:prstGeom>
          <a:solidFill>
            <a:srgbClr val="c5f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7240" y="407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 Vitro Experimental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5560" y="2097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rot="581400">
            <a:off x="3168360" y="3711240"/>
            <a:ext cx="2522520" cy="1096920"/>
          </a:xfrm>
          <a:prstGeom prst="irregularSeal2">
            <a:avLst/>
          </a:prstGeom>
          <a:solidFill>
            <a:srgbClr val="c5fd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93960" y="1963800"/>
            <a:ext cx="1371600" cy="1371600"/>
          </a:xfrm>
          <a:prstGeom prst="ellipse">
            <a:avLst/>
          </a:prstGeom>
          <a:solidFill>
            <a:srgbClr val="ffa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735360" y="2319480"/>
            <a:ext cx="130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.11.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g CD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4757760" y="3659040"/>
            <a:ext cx="47520" cy="266760"/>
            <a:chOff x="4757760" y="3659040"/>
            <a:chExt cx="47520" cy="266760"/>
          </a:xfrm>
        </p:grpSpPr>
        <p:sp>
          <p:nvSpPr>
            <p:cNvPr id="235" name=""/>
            <p:cNvSpPr/>
            <p:nvPr/>
          </p:nvSpPr>
          <p:spPr>
            <a:xfrm>
              <a:off x="475776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805280" y="365904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3983040" y="3672000"/>
            <a:ext cx="49320" cy="266760"/>
            <a:chOff x="3983040" y="3672000"/>
            <a:chExt cx="49320" cy="266760"/>
          </a:xfrm>
        </p:grpSpPr>
        <p:sp>
          <p:nvSpPr>
            <p:cNvPr id="238" name=""/>
            <p:cNvSpPr/>
            <p:nvPr/>
          </p:nvSpPr>
          <p:spPr>
            <a:xfrm>
              <a:off x="398304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32360" y="367200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 rot="19994400">
            <a:off x="5805360" y="221112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ed181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rot="19994400">
            <a:off x="5805360" y="3093840"/>
            <a:ext cx="728640" cy="695160"/>
          </a:xfrm>
          <a:prstGeom prst="leftArrow">
            <a:avLst>
              <a:gd name="adj1" fmla="val 50000"/>
              <a:gd name="adj2" fmla="val 26204"/>
            </a:avLst>
          </a:prstGeom>
          <a:solidFill>
            <a:srgbClr val="1875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235400" y="4508640"/>
            <a:ext cx="49320" cy="266400"/>
            <a:chOff x="4235400" y="4508640"/>
            <a:chExt cx="49320" cy="266400"/>
          </a:xfrm>
        </p:grpSpPr>
        <p:sp>
          <p:nvSpPr>
            <p:cNvPr id="243" name=""/>
            <p:cNvSpPr/>
            <p:nvPr/>
          </p:nvSpPr>
          <p:spPr>
            <a:xfrm>
              <a:off x="423540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284720" y="4508640"/>
              <a:ext cx="0" cy="266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4932360" y="4486320"/>
            <a:ext cx="47520" cy="266760"/>
            <a:chOff x="4932360" y="4486320"/>
            <a:chExt cx="47520" cy="266760"/>
          </a:xfrm>
        </p:grpSpPr>
        <p:sp>
          <p:nvSpPr>
            <p:cNvPr id="246" name=""/>
            <p:cNvSpPr/>
            <p:nvPr/>
          </p:nvSpPr>
          <p:spPr>
            <a:xfrm>
              <a:off x="493236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79880" y="4486320"/>
              <a:ext cx="0" cy="266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873680" y="478620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75280" y="480708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692600" y="344484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16440" y="3454560"/>
            <a:ext cx="182520" cy="182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598440" y="207180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608880" y="2963880"/>
            <a:ext cx="141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 STA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83800" y="3676680"/>
            <a:ext cx="1143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leni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D11c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C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9960" y="5262480"/>
            <a:ext cx="834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7 d-culture intracellular cytokine staining is performed, and phenotype of CD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lls is determin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1301760" y="2825640"/>
            <a:ext cx="2552760" cy="2502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5145120" y="1574640"/>
            <a:ext cx="2539800" cy="25020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5145120" y="4076640"/>
            <a:ext cx="2539800" cy="25146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563400" y="504720"/>
            <a:ext cx="801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 polarization induced by dendritic cells exposed to extracts from Th1/Th2 pathoge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33680" y="263520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ptide al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03360" y="1444680"/>
            <a:ext cx="1098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187534"/>
                </a:solidFill>
                <a:latin typeface="Geneva"/>
              </a:rPr>
              <a:t>+ STA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09120" y="3960720"/>
            <a:ext cx="915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d181e"/>
                </a:solidFill>
                <a:latin typeface="Geneva"/>
              </a:rPr>
              <a:t>+ S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47840" y="3084480"/>
            <a:ext cx="0" cy="18288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H="1">
            <a:off x="1816200" y="5246640"/>
            <a:ext cx="18288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64040" y="522936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FN-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36560" y="3757680"/>
            <a:ext cx="60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eneva"/>
              </a:rPr>
              <a:t>IL-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3809880" y="287028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811680" y="4076640"/>
            <a:ext cx="1422360" cy="1193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62440" y="19940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780600" y="1994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710760" y="3251160"/>
            <a:ext cx="57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62440" y="450864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.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0600" y="4508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780960" y="576576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.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33480" y="3244680"/>
            <a:ext cx="51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951640" y="324468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51640" y="450216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649840" y="4494240"/>
            <a:ext cx="484200" cy="365040"/>
          </a:xfrm>
          <a:prstGeom prst="ellipse">
            <a:avLst/>
          </a:prstGeom>
          <a:noFill/>
          <a:ln w="19080">
            <a:solidFill>
              <a:srgbClr val="ef1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743880" y="3241800"/>
            <a:ext cx="502920" cy="347400"/>
          </a:xfrm>
          <a:prstGeom prst="ellipse">
            <a:avLst/>
          </a:prstGeom>
          <a:noFill/>
          <a:ln w="19080">
            <a:solidFill>
              <a:srgbClr val="18753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21:34:48Z</dcterms:created>
  <dc:creator>NIAID</dc:creator>
  <dc:description/>
  <dc:language>en-US</dc:language>
  <cp:lastModifiedBy>Dragana Jankovic</cp:lastModifiedBy>
  <cp:lastPrinted>2002-10-26T07:29:29Z</cp:lastPrinted>
  <dcterms:modified xsi:type="dcterms:W3CDTF">2002-10-28T01:24:06Z</dcterms:modified>
  <cp:revision>383</cp:revision>
  <dc:subject/>
  <dc:title>Title</dc:title>
</cp:coreProperties>
</file>