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6F25-3BA0-445D-B369-B9B651EF3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23A7-C22D-4F3E-8DD5-024692A93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CE45-26CF-4B2B-9D25-45BB03090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FDA-BFB2-49A5-9755-862483C05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9520-AF20-4394-9065-606CE77F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F0FA-8D76-4F25-9455-B9675EBD5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4BD5-A55F-4A70-B0FF-FC83EF2C2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47B8-833C-433F-A236-37D6912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9865-81BE-493E-8FE3-D9DB14E7C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E384-6A77-462D-B811-C146510C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22B0-02A1-4384-89B4-92F9B2D9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1311-EC87-4A54-932D-3F2CEEA6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CB8C-49F0-4573-B935-EA50904F13A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3173400"/>
        </p:xfrm>
        <a:graphic>
          <a:graphicData uri="http://schemas.openxmlformats.org/drawingml/2006/table">
            <a:tbl>
              <a:tblPr/>
              <a:tblGrid>
                <a:gridCol w="1589040"/>
                <a:gridCol w="3829320"/>
                <a:gridCol w="2709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64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7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he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Teresa Kim</cp:lastModifiedBy>
  <dcterms:modified xsi:type="dcterms:W3CDTF">2017-04-07T08:15:28Z</dcterms:modified>
  <cp:revision>5</cp:revision>
  <dc:subject/>
  <dc:title>PowerPoint Presentation</dc:title>
</cp:coreProperties>
</file>