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9.jpeg" ContentType="image/jpeg"/>
  <Override PartName="/ppt/media/image13.jpeg" ContentType="image/jpeg"/>
  <Override PartName="/ppt/media/image8.jpeg" ContentType="image/jpeg"/>
  <Override PartName="/ppt/media/image7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3CD7-AEF4-4EFF-861F-4BCDC8DF9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CD70-5F40-46D9-BB15-188DF74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F823-BB07-448D-8A98-BDAAA603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ED9-A3B3-4F1F-AB41-7DCC38D49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709-848E-4949-82E8-C8E84E1D4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84ED-C20E-46F7-961F-74C3721BF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F2D4-5AF8-48D9-8C02-CE7AE80E3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DDD6-A8B1-4142-BDCC-4EBEA9F9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F3CE-89D9-4839-9C4A-CAE3910A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1C7-9094-4DAD-B5E4-0DD59CCD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2375-ABA1-42CB-B7C9-E296CACB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699-DEBF-4AAA-81F5-459F94117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001FC-A125-422A-881E-B4E167112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harley@fourthgeneration.c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1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3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2120" y="2832120"/>
            <a:ext cx="703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ing the Development Divide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Capacity Building and CD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they co-exi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ay Harl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ean Development Alli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P 11 – MO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5,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228600" y="1611360"/>
            <a:ext cx="966960" cy="1028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382760" y="1600200"/>
            <a:ext cx="1360440" cy="10288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038480" y="1600200"/>
            <a:ext cx="1524240" cy="10303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5715000" y="1600200"/>
            <a:ext cx="1674720" cy="1030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2887560" y="1600200"/>
            <a:ext cx="998640" cy="103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7543800" y="1600200"/>
            <a:ext cx="1371600" cy="1028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5867280" y="609480"/>
            <a:ext cx="2536920" cy="400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247680" y="204840"/>
            <a:ext cx="4967280" cy="86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96880" y="2701800"/>
            <a:ext cx="26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185840" y="3024360"/>
            <a:ext cx="69343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9 Water Street, PO Box 36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ndsor, Nova Scotia, CANADA B0N 2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l: 1.902.798.508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harley@fourthgenerati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228600" y="228600"/>
            <a:ext cx="2514600" cy="2373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386244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32876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DM a “market” mechanism: genius and pitfa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values and international commodity tr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tainable Development and capital structures : Ownership Ma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private/NGO model for turning the CDM t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ommunity capacity building drive CD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989680" y="1290600"/>
            <a:ext cx="2620800" cy="31240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38608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828800" y="2671920"/>
            <a:ext cx="685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DM: Full of Promis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volutionary disruption of traditional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bon as a commod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ts environmental value into commercial market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2209680" cy="219060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05280" y="14760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971720"/>
            <a:ext cx="5791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DM: Is the Inequity Endemic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le development components are sacrific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tion among host countries encourages lower standards of S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alth flows to the developed n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mechanisms reinforce traditional economic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market value to determine development priorities (pushing a string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24480" y="1171440"/>
            <a:ext cx="2562480" cy="25401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85840" y="1943280"/>
            <a:ext cx="716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Even in SD: Ownership Matte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vernance issues rooted in ow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it driven development can lead to detach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determined development blind to social and political 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necessarily value added for community (no engagement, not necessarily local job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324480" y="1295280"/>
            <a:ext cx="2090880" cy="15447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3430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ven in SD: Ownership Mat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investment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control of energy and other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ting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ment/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economic development strengthe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ty Capacity Building becomes embed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139240" y="5448240"/>
            <a:ext cx="914400" cy="12956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534000" y="1200240"/>
            <a:ext cx="2109960" cy="22096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1160640"/>
            <a:ext cx="91440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urning the Tide? A New Partnership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71160" y="2219400"/>
            <a:ext cx="4343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lean Development Alliance: a private/NGO Partnership for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ower and build capacity of proponents/communities to  participate and manage energy and carbon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e that returns from CERs are directed to high impact sustainable developm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334120" y="2819520"/>
            <a:ext cx="3247920" cy="3219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285480" y="2684160"/>
            <a:ext cx="4971960" cy="437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transfer in renewable energy,  energy efficiency, community participation and capacity build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ty-based solutions for emissions reduction strateg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iances with local organizations and development practitioners that support the development and implementation of  CD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0" y="1645920"/>
            <a:ext cx="91440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Partnership in Action: Strategies for </a:t>
            </a:r>
            <a:br>
              <a:rPr sz="2700"/>
            </a:br>
            <a:r>
              <a:rPr b="1" lang="en-US" sz="2700" spc="-1" strike="noStrike">
                <a:solidFill>
                  <a:srgbClr val="000000"/>
                </a:solidFill>
                <a:latin typeface="Times New Roman"/>
              </a:rPr>
              <a:t>Strengthening Capacit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657760" y="2709720"/>
            <a:ext cx="3200400" cy="277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43160" y="619596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31436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DM and Sustainable Developm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New Partnership Model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7920" y="1995480"/>
            <a:ext cx="6476760" cy="4371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828800" y="2066760"/>
            <a:ext cx="57150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2133720" y="119160"/>
            <a:ext cx="4967280" cy="86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243160" y="6253200"/>
            <a:ext cx="50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imes New Roman"/>
              </a:rPr>
              <a:t>www.cleandevelopmentalliance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6T18:58:53Z</dcterms:created>
  <dc:creator> Gay Harley</dc:creator>
  <dc:description/>
  <dc:language>en-US</dc:language>
  <cp:lastModifiedBy>Michelle Mclaren</cp:lastModifiedBy>
  <dcterms:modified xsi:type="dcterms:W3CDTF">2005-12-05T20:46:28Z</dcterms:modified>
  <cp:revision>32</cp:revision>
  <dc:subject/>
  <dc:title>Slide 1</dc:title>
</cp:coreProperties>
</file>