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0F8-8246-498E-9C50-8F86FEA5F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280B-0A63-4A82-A36E-DFB40283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DC97-858D-4F82-BFB2-F5DDA239F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13BF-FBA5-4AB8-828A-2073B1AE4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3E16-C0C1-4F22-8B67-868A3531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88AA-E133-4FA1-A72E-1FFD0DE88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7B964-932B-41FC-B42E-A93238B1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12A1-28F9-4D34-9144-11D7BA0FC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059B-ADA4-4850-89E2-4034E141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1C32-D21F-4F1B-903C-36D2289B2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C2F5-D858-430A-B699-D55F519F6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1CEE-0375-477A-B802-82AC2BBF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B8A22-6037-407B-93B8-C954368B633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正方形/長方形 4"/>
          <p:cNvSpPr/>
          <p:nvPr/>
        </p:nvSpPr>
        <p:spPr>
          <a:xfrm>
            <a:off x="2286000" y="2413080"/>
            <a:ext cx="4572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ngle by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複数の文字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カタカナ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ﾊﾝｶ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十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ix</a:t>
            </a: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パﾋﾟ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1T10:54:45Z</dcterms:created>
  <dc:creator>mkawachi</dc:creator>
  <dc:description/>
  <dc:language>en-US</dc:language>
  <cp:lastModifiedBy>mkawachi</cp:lastModifiedBy>
  <dcterms:modified xsi:type="dcterms:W3CDTF">2012-12-25T06:52:15Z</dcterms:modified>
  <cp:revision>1</cp:revision>
  <dc:subject/>
  <dc:title>スライド 1</dc:title>
</cp:coreProperties>
</file>