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996FB-D5C4-4173-A54A-B6EBBD8376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FED3B-B5B6-4839-8AD2-F8081D96BD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2120" y="1305000"/>
            <a:ext cx="6858000" cy="52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{Title.ProjectName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1676520" y="2133720"/>
            <a:ext cx="57150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Title.ProjectDataTable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5T00:10:50Z</dcterms:created>
  <dc:creator/>
  <dc:description/>
  <dc:language>en-US</dc:language>
  <cp:lastModifiedBy>x-VIRTUAL</cp:lastModifiedBy>
  <dcterms:modified xsi:type="dcterms:W3CDTF">2009-10-08T10:49:36Z</dcterms:modified>
  <cp:revision>473</cp:revision>
  <dc:subject/>
  <dc:title>{Style.Header}</dc:title>
</cp:coreProperties>
</file>