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2CCF-3768-42DE-98F8-E7266FAA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F8A9-1C55-44D8-A749-7C5EDA3A7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7B41-7C54-4C9E-AB3D-9100282E8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0BDE-59B8-4DBB-9688-938B4EDC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62D4-C8AE-4609-B0C1-94DFC2DA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886-1862-4923-95E4-A20F74A6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13E3-6491-48F9-9D5D-7B5F3CF5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4E88-9793-40AF-BEA1-0FFA5C7E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E5FA-5586-49BA-A353-39FAFF608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CD7-9C3D-47CC-8147-4D81B74C9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1ECD-5C77-4F37-B556-F38F2D1CC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219B-0817-40EF-A97D-011F1C64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E34C-2FC2-4F61-B9C3-93436F220D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10-19T12:59:30Z</dcterms:modified>
  <cp:revision>3</cp:revision>
  <dc:subject/>
  <dc:title>The quick</dc:title>
</cp:coreProperties>
</file>