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3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0120" y="159876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576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3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90120" y="3858840"/>
            <a:ext cx="268272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5760" y="226800"/>
            <a:ext cx="833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25720" y="385884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25720" y="1598760"/>
            <a:ext cx="406620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5760" y="3858840"/>
            <a:ext cx="8332560" cy="20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598760"/>
            <a:ext cx="8332560" cy="432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199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957240" indent="-224640">
              <a:spcBef>
                <a:spcPts val="1199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11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11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4B45E177-BB54-4FD1-AA5F-3DB883D5AFEB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1295280"/>
            <a:ext cx="9144000" cy="136440"/>
            <a:chOff x="0" y="1295280"/>
            <a:chExt cx="9144000" cy="136440"/>
          </a:xfrm>
        </p:grpSpPr>
        <p:sp>
          <p:nvSpPr>
            <p:cNvPr id="6" name=""/>
            <p:cNvSpPr/>
            <p:nvPr/>
          </p:nvSpPr>
          <p:spPr>
            <a:xfrm>
              <a:off x="0" y="12952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3395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13856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usda-ars" descr=""/>
          <p:cNvPicPr/>
          <p:nvPr/>
        </p:nvPicPr>
        <p:blipFill>
          <a:blip r:embed="rId2"/>
          <a:stretch/>
        </p:blipFill>
        <p:spPr>
          <a:xfrm>
            <a:off x="8180280" y="6132600"/>
            <a:ext cx="812880" cy="566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8298360" y="6543360"/>
            <a:ext cx="256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-51840" y="6477120"/>
            <a:ext cx="3250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DSA annual meeting, July 2001 (</a:t>
            </a:r>
            <a:fld id="{D3F9A740-1714-4CA6-A899-38806CA9EC4F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3124080"/>
            <a:ext cx="9144000" cy="136440"/>
            <a:chOff x="0" y="3124080"/>
            <a:chExt cx="9144000" cy="136440"/>
          </a:xfrm>
        </p:grpSpPr>
        <p:sp>
          <p:nvSpPr>
            <p:cNvPr id="50" name=""/>
            <p:cNvSpPr/>
            <p:nvPr/>
          </p:nvSpPr>
          <p:spPr>
            <a:xfrm>
              <a:off x="0" y="3124080"/>
              <a:ext cx="9144000" cy="46080"/>
            </a:xfrm>
            <a:prstGeom prst="rect">
              <a:avLst/>
            </a:prstGeom>
            <a:solidFill>
              <a:srgbClr val="32a0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168360"/>
              <a:ext cx="9144000" cy="46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214440"/>
              <a:ext cx="9144000" cy="4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399960" indent="0"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739800" algn="ctr">
              <a:spcBef>
                <a:spcPts val="176"/>
              </a:spcBef>
              <a:buClr>
                <a:srgbClr val="66ccff"/>
              </a:buClr>
              <a:buSzPct val="75000"/>
              <a:buFont typeface="Symbol" charset="2"/>
              <a:buChar char="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601"/>
              </a:spcBef>
              <a:buClr>
                <a:srgbClr val="0000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5760" y="455400"/>
            <a:ext cx="806112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imeliness of progeny-testing through AI and percentage of bulls returned to service</a:t>
            </a:r>
            <a:br>
              <a:rPr sz="4000"/>
            </a:b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(abstract 1020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8640" y="3428640"/>
            <a:ext cx="8226720" cy="29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H.D. NORMAN,* R.L. POWELL, J.R. WRIGH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imal Improvement Programs Laborato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ricultural Research Service, USD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ltsville, MD 20705-2350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.G. SATTLER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tional Association of Animal Breed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lumbia, MO 66205-1033, US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4562640" y="3419640"/>
            <a:ext cx="18720" cy="1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birth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daughter calving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55760" y="1598760"/>
          <a:ext cx="8332560" cy="388728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0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6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56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3164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 age (mo) at calving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762120" y="1676520"/>
          <a:ext cx="7256520" cy="373320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aughters (no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762120" y="1447920"/>
          <a:ext cx="7256520" cy="480024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0-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-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-7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5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2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89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881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240" y="226800"/>
            <a:ext cx="891540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erd distribution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55760" y="1598760"/>
          <a:ext cx="8332560" cy="3781440"/>
        </p:xfrm>
        <a:graphic>
          <a:graphicData uri="http://schemas.openxmlformats.org/drawingml/2006/table">
            <a:tbl>
              <a:tblPr/>
              <a:tblGrid>
                <a:gridCol w="1414440"/>
                <a:gridCol w="1103040"/>
                <a:gridCol w="1471680"/>
                <a:gridCol w="1563840"/>
                <a:gridCol w="1562040"/>
                <a:gridCol w="1217520"/>
              </a:tblGrid>
              <a:tr h="426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&lt;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696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6120">
                <a:tc gridSpan="6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cows (%) by herd PT us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828800"/>
          <a:ext cx="8000640" cy="4175280"/>
        </p:xfrm>
        <a:graphic>
          <a:graphicData uri="http://schemas.openxmlformats.org/drawingml/2006/table">
            <a:tbl>
              <a:tblPr/>
              <a:tblGrid>
                <a:gridCol w="1319760"/>
                <a:gridCol w="360360"/>
                <a:gridCol w="1008360"/>
                <a:gridCol w="1345680"/>
                <a:gridCol w="1427400"/>
                <a:gridCol w="1426320"/>
                <a:gridCol w="1112760"/>
              </a:tblGrid>
              <a:tr h="457200">
                <a:tc gridSpan="2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rd PT us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&lt;1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-1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20-4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50-99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10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48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73040">
                <a:tc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spcBef>
                          <a:spcPts val="10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000">
                <a:tc gridSpan="7">
                  <a:txBody>
                    <a:bodyPr lIns="0" rIns="0" tIns="0" bIns="0" anchor="b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first calv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5760" y="22824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bulls (%) returned to AI service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762120" y="1600200"/>
          <a:ext cx="7256520" cy="4190760"/>
        </p:xfrm>
        <a:graphic>
          <a:graphicData uri="http://schemas.openxmlformats.org/drawingml/2006/table">
            <a:tbl>
              <a:tblPr/>
              <a:tblGrid>
                <a:gridCol w="1904760"/>
                <a:gridCol w="1219320"/>
                <a:gridCol w="1066680"/>
                <a:gridCol w="1143000"/>
                <a:gridCol w="1143000"/>
                <a:gridCol w="779760"/>
              </a:tblGrid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3-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68-7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3-7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8-8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3-8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3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8-9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536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5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light increase in age of PT bull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birth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.5 mo for Holsteins and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age of PT bulls at daughter calving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 mo for Holste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.5 mo for Jersey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uccessful progeny testing (PT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lect bulls with high pedigree meri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arly semen collec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apid semen distribution and use in milk-recorded he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with unique ID, recorded pedigrees, and kept until milk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4280" y="228240"/>
            <a:ext cx="833292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clusions  (cont.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332560" cy="442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crease in herds with no PT records usable for genetic evaluation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5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9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rease in herds with usable PT reco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-19% PT use:  1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38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&gt;50% PT use:  1% 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5%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 in 7 PT bulls returned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o active service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ot 1 in 10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4343400"/>
            <a:ext cx="3076560" cy="1962000"/>
            <a:chOff x="5105520" y="4343400"/>
            <a:chExt cx="3076560" cy="1962000"/>
          </a:xfrm>
        </p:grpSpPr>
        <p:graphicFrame>
          <p:nvGraphicFramePr>
            <p:cNvPr id="132" name=""/>
            <p:cNvGraphicFramePr/>
            <p:nvPr/>
          </p:nvGraphicFramePr>
          <p:xfrm>
            <a:off x="5105520" y="4343400"/>
            <a:ext cx="3076560" cy="1962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4343400"/>
                      <a:ext cx="3076560" cy="1962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5943600" y="4384440"/>
              <a:ext cx="1722600" cy="164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  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PT  </a:t>
              </a:r>
              <a:r>
                <a:rPr b="1" lang="en-US" sz="5600" spc="-1" strike="noStrike" baseline="-25000">
                  <a:solidFill>
                    <a:srgbClr val="008000"/>
                  </a:solidFill>
                  <a:latin typeface="Wingdings"/>
                  <a:ea typeface="Wingdings"/>
                </a:rPr>
                <a:t></a:t>
              </a:r>
              <a:endParaRPr b="0" lang="en-US" sz="5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8000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008000"/>
                  </a:solidFill>
                  <a:latin typeface="Arial"/>
                </a:rPr>
                <a:t>Active AI?</a:t>
              </a:r>
              <a:endParaRPr b="0" lang="en-US" sz="2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accuracy and impac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7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curacy of PT evaluation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daughte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ughter distribution across herd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act on genetic improvemen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umber of bulls sample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tensity of culling of PT bull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22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ummarize characteristics of PT programs related to timeliness of genetic evalu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ine distribution of PT daughter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termine selection intensity after evaluation of PT bull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ata sourc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338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tional database at AIPL, ARS, USDA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Yield information from DHI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-22536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 information from DHI and breed associatio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25320" indent="0"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 entry into PT programs and semen distribution dates from NAAB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T defini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760" y="1598760"/>
            <a:ext cx="8332560" cy="424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I organization in US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exception: Semex USA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ulls aged 10-29 mo at semen releas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NAAB sampling controller codes 1-222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spcBef>
                <a:spcPts val="1199"/>
              </a:spcBef>
              <a:buClr>
                <a:srgbClr val="008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aughters born 8-42 mo after bull entry into AI sampli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sable 1st-lactation record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8840" indent="-222840">
              <a:spcBef>
                <a:spcPts val="176"/>
              </a:spcBef>
              <a:buClr>
                <a:srgbClr val="0080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rst 125 based on calving date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33256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umber of PT bulls (major studs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5760" y="1598760"/>
          <a:ext cx="8332560" cy="4420800"/>
        </p:xfrm>
        <a:graphic>
          <a:graphicData uri="http://schemas.openxmlformats.org/drawingml/2006/table">
            <a:tbl>
              <a:tblPr/>
              <a:tblGrid>
                <a:gridCol w="1388880"/>
                <a:gridCol w="1143000"/>
                <a:gridCol w="1039680"/>
                <a:gridCol w="1189080"/>
                <a:gridCol w="1284480"/>
                <a:gridCol w="898560"/>
                <a:gridCol w="1388880"/>
              </a:tblGrid>
              <a:tr h="5522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M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6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6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9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7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3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26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26800"/>
            <a:ext cx="8688240" cy="60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833256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ull age SD (mo) at semen distribu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5760" y="1598760"/>
          <a:ext cx="8332560" cy="3735000"/>
        </p:xfrm>
        <a:graphic>
          <a:graphicData uri="http://schemas.openxmlformats.org/drawingml/2006/table">
            <a:tbl>
              <a:tblPr/>
              <a:tblGrid>
                <a:gridCol w="2187360"/>
                <a:gridCol w="1400400"/>
                <a:gridCol w="1225440"/>
                <a:gridCol w="1311120"/>
                <a:gridCol w="1312920"/>
                <a:gridCol w="895320"/>
              </a:tblGrid>
              <a:tr h="55296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Year*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Ay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BS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Gue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Hol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Jer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75-7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0-8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7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85-8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0-9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533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ff00"/>
                          </a:solidFill>
                          <a:latin typeface="Arial"/>
                        </a:rPr>
                        <a:t>1995-99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14720">
                <a:tc gridSpan="6">
                  <a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ccff"/>
                          </a:solidFill>
                          <a:latin typeface="Arial"/>
                        </a:rPr>
                        <a:t>*Year of bull entry into AI sampling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7T18:01:11Z</dcterms:created>
  <dc:creator>D. Norman</dc:creator>
  <dc:description/>
  <dc:language>en-US</dc:language>
  <cp:lastModifiedBy>kim</cp:lastModifiedBy>
  <cp:lastPrinted>2000-07-18T17:05:18Z</cp:lastPrinted>
  <dcterms:modified xsi:type="dcterms:W3CDTF">2001-12-07T19:56:18Z</dcterms:modified>
  <cp:revision>68</cp:revision>
  <dc:subject>Progeny Testing</dc:subject>
  <dc:title>Timeliness of progeny testing </dc:title>
</cp:coreProperties>
</file>