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FA0516-C7B5-4CA5-B69C-08A072479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638360"/>
            <a:ext cx="8305920" cy="11448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56600" cy="876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04920" y="4876920"/>
            <a:ext cx="73152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MMUNITY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999933"/>
                </a:solidFill>
                <a:latin typeface="Arial"/>
                <a:ea typeface="Arial"/>
              </a:rPr>
              <a:t>COURSE 3: Questions &amp;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848720" y="4352760"/>
            <a:ext cx="838080" cy="20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800" spc="-1" strike="noStrike">
                <a:solidFill>
                  <a:srgbClr val="999933"/>
                </a:solidFill>
                <a:latin typeface="Arial"/>
                <a:ea typeface="Arial"/>
              </a:rPr>
              <a:t>3</a:t>
            </a:r>
            <a:endParaRPr b="0" lang="en-US" sz="1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56600" cy="403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76320"/>
            <a:ext cx="8381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SMALL BUSINESS, EDUCATIONAL AND COMMUNITY ADVISER EDUCATION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915660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1432080"/>
            <a:ext cx="3886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749160" y="306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operate more than one activity, do we need to register each one separa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17480" y="2190600"/>
            <a:ext cx="7620120" cy="31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gister each activity separately to become a distinct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Remain in as one entity for GST purpo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void the need to include GST on inter-activity trans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5228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701640" y="31748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order new statione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315900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 invoices comply that with GST requirements and the correct Adjustment No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calculated that it will cost us a great deal to modify our systems and provide our staff with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assistance avail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685800" y="2286000"/>
            <a:ext cx="7620120" cy="30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provided funding to various bodies to assist you with implementing the new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formation is available from the ATO and the GST Start Up Assistance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0" y="10666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717480" y="26510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an accrual system and allow customers to pay in install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and wh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279396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be payable on the full value of all taxable supplies from the date the tax invoice is issued or the first payment is made whichever is the earl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0" y="1219320"/>
            <a:ext cx="99820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31240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happens if a transaction amount alters it has been accounted for in a Business Activity Stat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892080" y="1952640"/>
            <a:ext cx="7718400" cy="406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djustments will occur i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Goods are returned by you to a supplier or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by   a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the original purchase price is alt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isc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- Debts become uncollectible or are reco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Black"/>
                <a:ea typeface="Arial Black"/>
              </a:rPr>
              <a:t>subsequent to an adjus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63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17480" y="2000160"/>
            <a:ext cx="7620120" cy="350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small community organisation and the total amount we receive for all the goods and services that we supply is under the registration threshold of $100,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benefit for us if we register for G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0" y="106668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1640" y="311148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I claim an Input tax credit equivalent to 1/11th of ALL my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259092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acquisitions may be “input” taxed” or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therwise Input tax credit in respect of all purchases that are “creditable acquisition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salaries and wages and superannuation contributions subject to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4120" y="2438280"/>
            <a:ext cx="7620120" cy="31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AYE withheld on salaries and wages, and FBT may be offset against any GST owing by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685800" y="27939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supplier such as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utor or contractor is not registered for GST, can we claim an Input Tax Cred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a non-registered enterprise does not issue GST Tax Invo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 if the business does not provide you with an AB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se Petty Cash for small purchases.  Can we claim Input Tax Credits even if we do not have a Tax Invo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54120" y="2905200"/>
            <a:ext cx="7620120" cy="30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purchases were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50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cumentary evidence is required to support the cla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our Input tax credits exceed the GST payable to the ATO in a Tax period 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receive a ref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17480" y="2270160"/>
            <a:ext cx="7620120" cy="335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fer the refund into your nominated bank within 14 days of lodging your Business Activity Statement if you do not have any other tax debts to be offse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gainst this am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2556000"/>
            <a:ext cx="7620120" cy="27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ost approved community organisations including those that provide pre-school, primary and tertiary education, will benefit by registering for G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insurance premiu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an expense in providing your ser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will be entitled to the relevant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12193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65000" y="26035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outsource many of our maintenance and catering activit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charged GST by the suppl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they are registered for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an claim in 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52280" y="1143000"/>
            <a:ext cx="91440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733320" y="23176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udgeted to purchase a new motor vehicle for charitable use in Ju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we be entitled to an Input tax credit in respect to the GST pai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17480" y="261936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provided it is an input into the approved chari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you are pro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ransitional rules do n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ncern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0" y="1143000"/>
            <a:ext cx="3657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GST status of the operational charges to the resid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701640" y="2127240"/>
            <a:ext cx="7620120" cy="308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ursing home and hostel residents will not pay GST on their daily fe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pay GST on additional services, eg hairdressing, TV hire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decide not to charge our customers GST on non GST-free goods and services do we escape paying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1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69960" y="2079720"/>
            <a:ext cx="7620120" cy="356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you will be liable for GST, on all relevant transactions, “taxable supplie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even if you do not collect it from your custom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1/11th of all the invoices must be paid to the 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838080" y="2971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a community organisation, should we choose to lodge our Business Activity Statement monthly, or quarter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GST payable  on accommodation bonds and charg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765000" y="2111400"/>
            <a:ext cx="7620120" cy="35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nursing homes will not pay GST on their accommodation bonds and char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are input taxe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0" y="11430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rovide full board and lodging for staff in our own residen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GST is pay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62120" y="1905120"/>
            <a:ext cx="762012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is is 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asically the accommodation for staff will be an input taxed supp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is payable by the staff but neither will you be able to claim any input tax cred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781200" y="2254320"/>
            <a:ext cx="7620120" cy="221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ere any problem related to category 8 residents and residents who are paying the full subsidy due to income testing arrang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12880" y="227016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ged care services funded under the Aged care Act 1997 will be GST 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GST payable on services under schedule 1 of the Quality Care Princi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0" y="10666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bill staff annually for parking facilities in the hospital car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on that portion of the invoice which relates to the period starting 1 July 2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1066680"/>
            <a:ext cx="93726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749160" y="2174760"/>
            <a:ext cx="7620120" cy="41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 implic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residents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Extra Service facilities where the Extra Service F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cludes amounts for goods or services outsid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Quality of Care Princi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92080" y="285768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sidents of Extra Services facilities will not pay GST on their extra service fees, except for amounts that are for additional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09480" y="1143000"/>
            <a:ext cx="37339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28600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have the option to file monthly or quarterly retur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ome non profit organisations will find that quarterly returns are the better o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11430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services provided to the community under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CP’s, HACC or the l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Aged Care Packages and services funded under the Home and Community Care Act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12193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17480" y="29685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third party sponsors our organisati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it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benefits the sponsor in the form of adverti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990720"/>
            <a:ext cx="99061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donations received by an institution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54120" y="309564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 will not be pay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ovi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donation is uncondit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1432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5800" y="34765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grants received from the govern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733320" y="2222640"/>
            <a:ext cx="7620120" cy="414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it is for specific purposes, then it will b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ATO is issu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fic ru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rants received from the government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1432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49160" y="28576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privately purcha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re be GST-f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Privately purchased nursing and personal care services will be GST-f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700200"/>
            <a:ext cx="50292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22860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understand that the cash basis of accounting for GST is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community organisations register on a cash bas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entered into a service contract which spans July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they GST implic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844560" y="2444760"/>
            <a:ext cx="7620120" cy="353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 complex 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ires careful consideration and/or specialist adv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ervices to be rendered after 30 June 2000 are subject to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1432080"/>
            <a:ext cx="101347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812880" y="225432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charges for care levies on residents in retirement villages b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2666880"/>
            <a:ext cx="7620120" cy="30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tirement village residents who receive nursing and personal care will receive the same treatment as nursing home and hotels resi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99072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749160" y="28098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purchase safety equipment for our maintenance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an input tax credit in respect of these purchas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654120" y="290520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purchased from a registered supplier, and provided in your capacity as an employ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28600" y="990720"/>
            <a:ext cx="89154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860400" y="2174760"/>
            <a:ext cx="7620120" cy="253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We frequently pay for staff to attend conferences and professional development courses supplied by private provid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have to pay GST on the cos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765000" y="2127240"/>
            <a:ext cx="762012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acqui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axable suppl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1143000"/>
            <a:ext cx="9677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we include GST in the fee we charge staff for the provision of tea and coff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, but be sure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GST-free beverages and foo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92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228600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, if its annual turnover i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$1 million or l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 government has indicated that all ‘charities’ may use the cash basis regardless of turno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301608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GST payable on the cost of Fringe Benefits supplied to sta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685800" y="304812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ew legislation is expected to clarify the GST and FBT 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99072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85800" y="301608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personal development programmes for our sta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an we claim input tax credits on the co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54120" y="29052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These classes are undertaken in the course of your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91440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17480" y="255600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taff sometimes purchase goods for the organisa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quest reimburs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we entitl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nput tax credi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685800" y="2301840"/>
            <a:ext cx="7620120" cy="35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have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levant tax invo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the i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must be an input in the provision of your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91440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run a shop which sells second han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Do we charge GST on these ite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781200" y="2508120"/>
            <a:ext cx="7620120" cy="286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charge GST on all s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are entitled to an input tax cred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Special rules for donated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380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685800" y="3016080"/>
            <a:ext cx="7620120" cy="23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quired to pay deposits for various servi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re these subject to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3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654120" y="2905200"/>
            <a:ext cx="7620120" cy="335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- If the deposit is held as security and refund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Yes - If it is part of an installment payment pl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700200"/>
            <a:ext cx="9144000" cy="61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01640" y="271476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ll the various associations allied to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community organisation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have to register for G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0" y="1143000"/>
            <a:ext cx="52578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33320" y="2444760"/>
            <a:ext cx="7620120" cy="39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have been exempt from income tax and have been able to receive tax deductible donations for specific purpo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1 July 200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717480" y="2365200"/>
            <a:ext cx="7956720" cy="374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You must apply specifical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ncome tax exempt charity (ITE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s well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for endorsement a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deductible gift recipient (DGR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prior to 1 July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0" y="838080"/>
            <a:ext cx="518148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762120" y="281952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is the situ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we are a registered ent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 we acquire goods or services from 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n registered busin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54120" y="2905200"/>
            <a:ext cx="7620120" cy="294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f a business is not registered for GST, it cannot charge you G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No Input tax credi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vailable to yo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49160" y="2476440"/>
            <a:ext cx="7620120" cy="28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registered and we acquire goods or services from a supplier who does not provide us with an AB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hat are our oblig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733320" y="2523960"/>
            <a:ext cx="7620120" cy="36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ithhold tax at 48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f the in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remit this to the 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on your next retu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as part of the new PAYG reg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Question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0" y="1066680"/>
            <a:ext cx="510552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Q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8720" y="2666880"/>
            <a:ext cx="7620120" cy="34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We are a very small organisation and yet we have been told that we have to submit our BAS electronically to the A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Arial Black"/>
              </a:rPr>
              <a:t>Is this corr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685800" y="2238480"/>
            <a:ext cx="7620120" cy="33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ATO will only refund net credits in respect of GST to you electronically and not by cheque, unles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ur annual turnover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$20 million or mor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 you are not obliged to submit your BAS electron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1432080"/>
            <a:ext cx="5029200" cy="54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350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</a:t>
            </a:r>
            <a:endParaRPr b="0" lang="en-US" sz="3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99072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800" spc="-1" strike="noStrike">
                <a:solidFill>
                  <a:srgbClr val="990000"/>
                </a:solidFill>
                <a:latin typeface="Arial Black"/>
                <a:ea typeface="Arial Black"/>
              </a:rPr>
              <a:t>Answer 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762120" y="2209680"/>
            <a:ext cx="7620120" cy="359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Unless their turnover exceeds $100,000 they may choose not to regis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If they are not registered they cannot claim input tax cred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Arial Black"/>
              </a:rPr>
              <a:t>Obtain an ABN even if they choose not to register for G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Greg Holmes</dc:creator>
  <dc:description/>
  <dc:language>en-US</dc:language>
  <cp:lastModifiedBy>Self Serve</cp:lastModifiedBy>
  <cp:revision>0</cp:revision>
  <dc:subject/>
  <dc:title>The New Tax System</dc:title>
</cp:coreProperties>
</file>