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47D3-8E66-432A-88AF-9A2BB318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6D6F6-9F14-4341-AB5F-F34446515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D828-DD3A-45BA-B824-B809F579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F3B6C-0B2B-4501-8A29-67156DCFC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EC02-A245-4296-9B3D-0B6DEC203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5AA-7007-4E8B-AD4F-CE712B56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FEFD-FBBC-4899-8118-B8F4D72C3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3287-3FE9-419B-BD5E-F5368349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89D3-E563-4F9C-B375-361F0630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6147-833F-49B9-953E-657B9E79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EFF6-310A-46B4-BB20-5FDD9DAE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FAC-9A7A-489D-A4DF-0CC774313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D0A4-593B-4E42-9E5A-BD53C6A95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hyperlink" Target="http://dynamiclogic.com/index.php" TargetMode="External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2130120"/>
            <a:ext cx="85345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Decay Effects in Online Advertising: Quantifying the Impact of Time Since Last Expos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resented at the ARF 50</a:t>
            </a:r>
            <a:r>
              <a:rPr b="0" i="1" lang="en-US" sz="1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Annual Convention – April 26-28, 2004 – New York C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logistic regression testing relationship between time since last exposure (day intervals) and brand s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ested with a variety of time interval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all respondent-level analysis indicates significant, but very small, negative impact of decay on 4 brand metrics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sitive impact of frequency on Aided Brand Awareness, Brand Favorability, and Purchase Intent at 95%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significant interaction effects between time since last exposure and frequency were obser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Respondent-lev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ferences were observed across industry verticals for some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armaceutical category was the only vertical to exhibit significant decay in Online Ad Awareness at the individual respondent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significant effect of online ad exposure frequency was seen at the individual level within Automobile category when controlling for recency and demographic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Bran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85800" y="571500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5638680"/>
            <a:ext cx="807732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ationship between brand score and time since last exposure is not monotonic and appears to be affected by intervening and other individual factors; other variables (such as demographics) played a significant ro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905120" y="1981080"/>
            <a:ext cx="5522760" cy="3603600"/>
            <a:chOff x="1905120" y="1981080"/>
            <a:chExt cx="5522760" cy="3603600"/>
          </a:xfrm>
        </p:grpSpPr>
        <p:sp>
          <p:nvSpPr>
            <p:cNvPr id="150" name=""/>
            <p:cNvSpPr/>
            <p:nvPr/>
          </p:nvSpPr>
          <p:spPr>
            <a:xfrm>
              <a:off x="1905120" y="1981080"/>
              <a:ext cx="5522760" cy="3603600"/>
            </a:xfrm>
            <a:custGeom>
              <a:avLst/>
              <a:gdLst/>
              <a:ahLst/>
              <a:rect l="l" t="t" r="r" b="b"/>
              <a:pathLst>
                <a:path w="3479" h="2270">
                  <a:moveTo>
                    <a:pt x="0" y="2270"/>
                  </a:moveTo>
                  <a:lnTo>
                    <a:pt x="3479" y="2270"/>
                  </a:lnTo>
                  <a:lnTo>
                    <a:pt x="3479" y="0"/>
                  </a:lnTo>
                  <a:lnTo>
                    <a:pt x="0" y="0"/>
                  </a:lnTo>
                  <a:lnTo>
                    <a:pt x="0" y="2270"/>
                  </a:lnTo>
                  <a:lnTo>
                    <a:pt x="0" y="22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309760" y="2068560"/>
              <a:ext cx="5002200" cy="3039840"/>
            </a:xfrm>
            <a:prstGeom prst="rect">
              <a:avLst/>
            </a:prstGeom>
            <a:solidFill>
              <a:srgbClr val="ffffff"/>
            </a:solidFill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5420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4574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5924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62480" y="5108400"/>
              <a:ext cx="180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16428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59600" y="5108400"/>
              <a:ext cx="1440" cy="860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52504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43476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3300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3188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12720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036920" y="52102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91600" y="5361120"/>
              <a:ext cx="195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Time since last exposure (in week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2309760" y="2068560"/>
              <a:ext cx="1800" cy="30398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216160" y="51084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2216160" y="45021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2216160" y="389556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2216160" y="328140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2216160" y="2674800"/>
              <a:ext cx="936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2216160" y="2068560"/>
              <a:ext cx="936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42720" y="503712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077200" y="4429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077200" y="38228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077200" y="3216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077200" y="26100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19960" y="200340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309760" y="51084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309760" y="45021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309760" y="389556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09760" y="328140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9760" y="2674800"/>
              <a:ext cx="5002200" cy="1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09760" y="2068560"/>
              <a:ext cx="500220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554200" y="2805120"/>
              <a:ext cx="4505400" cy="779400"/>
            </a:xfrm>
            <a:custGeom>
              <a:avLst/>
              <a:gdLst/>
              <a:ahLst/>
              <a:rect l="l" t="t" r="r" b="b"/>
              <a:pathLst>
                <a:path w="2838" h="491">
                  <a:moveTo>
                    <a:pt x="0" y="150"/>
                  </a:moveTo>
                  <a:lnTo>
                    <a:pt x="569" y="177"/>
                  </a:lnTo>
                  <a:lnTo>
                    <a:pt x="1137" y="213"/>
                  </a:lnTo>
                  <a:lnTo>
                    <a:pt x="1706" y="0"/>
                  </a:lnTo>
                  <a:lnTo>
                    <a:pt x="2274" y="259"/>
                  </a:lnTo>
                  <a:lnTo>
                    <a:pt x="2838" y="491"/>
                  </a:lnTo>
                </a:path>
              </a:pathLst>
            </a:custGeom>
            <a:noFill/>
            <a:ln w="14400">
              <a:solidFill>
                <a:srgbClr val="5d61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236196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istribution of cas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057400" y="2590920"/>
          <a:ext cx="5334120" cy="347004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380880"/>
                <a:gridCol w="1295280"/>
                <a:gridCol w="106704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me differential (day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,03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s – Aggregated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of five brand metrics measured exhibited evidence of dec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ys since last OTS” contributed a significant coefficient at 95%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ided Brand Awareness, Message Association, Brand Favorability, and Purchase Intent were not significantly predicted by recency of O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lear evidence of decay in this data 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685800" y="1851120"/>
          <a:ext cx="701028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51120"/>
                    <a:ext cx="701028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2971800" y="3429000"/>
            <a:ext cx="327672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j. r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0.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4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5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6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7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ecay of Aided Ad Awarenes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6386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very day since last OTS, aggregate aided online advertising awareness decreases 0.8 percentage poi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3189240" y="3505320"/>
                <a:ext cx="2892600" cy="35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17</m:t>
                    </m:r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8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SO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nclusions/Implic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2133360"/>
            <a:ext cx="79246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analytical methods suggest effects of decay on advertising effectiveness are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aggregated analysis using logistic regression indicates that recency and frequency alone offers poor predictive ability; Aggregated data also shows limited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rate of decay is not dramatic, decay may not significantly impact fairness of Internet-based ad effectiveness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commendation for future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 can be applied to any brand for situation-specific insigh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recruit respondents at various points since last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ation is that any number of variables influence rate of and magnitude of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 could be replicated within cross-media research study frame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cay dynamics are known, media planner should create scenarios to inform 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ank you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1371600" y="3657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ristian Kugel, Starcom I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 Havlena, Ph.D.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effrey Graham, 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com IP/Dynamic Logic Partne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2209680"/>
            <a:ext cx="8610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ave collaborated on more than 50 advertising effectiveness studies measuring the effects of both Internet and Television 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com 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ding interactive agency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ynamic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research company specializing in measuring marketing effective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s conducted studies for 47 out of Top 50 U.S. Adverti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urpose of this resear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quantify the decay dynamics of brand metrics following OTS of online adverti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gnitud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te of dec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d metrics of interest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Brand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ded Online Advertising Awar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ssage Assoc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nd Favor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rchase I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come will infor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dia planning decisions such as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act of decay on Internet-based ad effectiveness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earch hypo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ectation is that as time since last exposure increases, branding scores will decre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minimal literature exists, analysis was a discovery process designed to unco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of decay (How fast the decay occu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ature of decay (Which metrics are most affect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pproaches explor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2133720"/>
            <a:ext cx="84582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ary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cally designed to measure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rand in relatively static sit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y AdIndex methodology to capture exposed respondents at some point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controlled environment, homogenous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cost and timing; limited data 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tive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e Dynamic Logic MarketNorms data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time stamp field, identify cases which represent various periods of times between OTS and survey comple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: large amount of data readily available, cost, t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: Heterogeneous data could limit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ata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tified sample of 2003 MarketNorm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ases where difference between OTS and survey completion is greater than one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ndom sample of 5,200 cases where survey occurred immediately following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s gathered from surveys across CPG, Auto, and Pharmaceutical vertic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tal sample n=28,41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s contained multiple controls, including frequ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066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rketNorms overvie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lvl="1" marL="631440" indent="-242640">
              <a:lnSpc>
                <a:spcPct val="14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vast normative database designed to be used as a strategic research, decision support and comparative tool for measuring online advertising and marketing effective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4+ years of data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4,000+ creativ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1200+ campaigns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- 1,200,000+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Data collected using a control/exposed research design which isolates the effects of online advertising from other variables; most data collected shortly after last ad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12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Times New Roman"/>
              </a:rPr>
              <a:t>Variables measured that are relevant to the stud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Time since last exposure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Frequency (electronic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Demographics (survey dat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-194040">
              <a:lnSpc>
                <a:spcPct val="12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Times New Roman"/>
              </a:rPr>
              <a:t>Industry category (study classif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280" indent="0">
              <a:lnSpc>
                <a:spcPct val="12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alytical approach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2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ondent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gistic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s: Frequency and recency of OTS, age, gender, inco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s: Binomial indication of awareness or persua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d-level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-tab brand metrics with time (in days) since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LS regression against the tabb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pendent variable: Recency of 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endent variable: Percent of respondents at Day X who indicate affirmative response to brand metr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05120" cy="1143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7010280" y="0"/>
            <a:ext cx="1752840" cy="9129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2514600" y="0"/>
            <a:ext cx="3657600" cy="10159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1143000"/>
            <a:ext cx="9144000" cy="152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1905120" y="-36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4920" y="2285640"/>
            <a:ext cx="8534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esults: Respondent Level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7391520" y="6373800"/>
            <a:ext cx="914400" cy="4842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8375760" y="6095880"/>
            <a:ext cx="691920" cy="762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4T16:03:02Z</dcterms:created>
  <dc:creator/>
  <dc:description/>
  <dc:language>en-US</dc:language>
  <cp:lastModifiedBy>Christina Goodman</cp:lastModifiedBy>
  <dcterms:modified xsi:type="dcterms:W3CDTF">2004-07-27T14:36:06Z</dcterms:modified>
  <cp:revision>47</cp:revision>
  <dc:subject/>
  <dc:title>PowerPoint Presentation</dc:title>
</cp:coreProperties>
</file>