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7213-F32F-441E-9E21-40219BA9B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6262F-7AFD-4E15-BA8F-67D8EFAC2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4ED2-C273-4DCC-9097-4B38EBE5B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E9727-1085-4E50-A721-EF9CA8C47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8099-A43E-4358-AF7A-99303B3BE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32A7-79FF-4636-BF33-6C5A3AF5C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E483-B1A7-46AC-A996-A240512D8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2589-DA2F-4CAC-8544-C6268E79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7AD0-5686-4CBF-9DCD-6E7911D7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0FFC-83C9-4371-9EB5-3812087A0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52E3-6DFF-474D-B0DC-236E55FB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3AC9-7F5B-4872-8EEE-BE15B496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E6834-557C-48E5-8387-F4E3B33F9A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a macro slideshow!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4-11T01:57:03Z</dcterms:created>
  <dc:creator>Javen ONeal</dc:creator>
  <dc:description/>
  <dc:language>en-US</dc:language>
  <cp:lastModifiedBy>Javen ONeal</cp:lastModifiedBy>
  <dcterms:modified xsi:type="dcterms:W3CDTF">2016-04-11T02:11:13Z</dcterms:modified>
  <cp:revision>6</cp:revision>
  <dc:subject/>
  <dc:title>This is a macro slideshow</dc:title>
</cp:coreProperties>
</file>