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2143080" y="69516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37F26-FB12-4474-A672-9FE4EA52DF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ABB0B-8DED-45BC-A854-09E8FA0E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CCD0CE-6759-47FD-9998-A5EF775E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95324-A8CA-4E71-851C-9B135D4804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B49E1-7204-4653-A161-0FC6F0C6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EA13A-DDAF-444F-AD68-296100E40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8BE84-1D03-49E2-9721-39015BC9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ED6E3-DD53-4CBB-B1F1-C2D5996C4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EE8CD-9F24-476D-846A-806A3AAA5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30333-2AC6-4D8D-94E5-9B6C496A2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B59CB-C080-43B8-ACB0-A87299994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F0FFE-3382-4D06-9E15-A6F0B5EA1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49D9C-2126-4DFF-8C87-D45331B4A7F5}" type="slidenum">
              <a:rPr b="0" lang="en-US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0" y="2413080"/>
            <a:ext cx="203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/>
          <p:nvPr/>
        </p:nvSpPr>
        <p:spPr>
          <a:xfrm>
            <a:off x="5616720" y="1219320"/>
            <a:ext cx="296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5616720" y="20448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5597640" y="2808360"/>
            <a:ext cx="8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