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8AA62-7503-4A48-9288-B2EB99FB84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BCCDA-49AF-47E6-98CC-F0EC3CDCA5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F64AF-C9C8-48A4-B8FC-0687BEC503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F05CB-9124-41F9-B620-00CA6ED56C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8C166-2E55-43F5-9F06-AC083F489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2597D-0759-4062-9255-8A2A9FCC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FF0EA-8A48-47A3-81E5-AC13DB11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F0111-F4AF-4404-9923-78956A40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94AE8-6EFD-487D-A860-C06DFE7C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0BC50-F184-4217-BDE3-01727382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DABEF-00BD-482C-B078-9B6F073A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4A9DE-6ED1-44C6-8D63-DDD6975C70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58B39-1A4D-4E1C-BB79-12E18CA9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3AF8D-EF4F-47CB-93DD-70A7E338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CA158-0936-4FC2-B284-32D78FAB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AF47E-E251-4573-804E-1E53E5AA5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957DE-3CC7-4616-BFBA-46033F85C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5A1F3-D2E1-4030-9ACB-90ACFA18D5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081E5-FC1F-4AA2-96F5-B34329CAB1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DC064-0626-4DC0-98E8-5DCC85A29E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CF101-A9BB-48FE-8FEA-CAC94FABB4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E3C71-10A3-4A03-8BB2-344E41D983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32D3D-8FB5-4DF0-8B5C-21AF72997B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745F9-2D2C-4E45-94CC-7D5119CF5D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1913-F6E0-4DF0-ABDC-048ACB2F59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8381880" y="6248520"/>
            <a:ext cx="609840" cy="457200"/>
            <a:chOff x="8381880" y="6248520"/>
            <a:chExt cx="609840" cy="457200"/>
          </a:xfrm>
        </p:grpSpPr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8381880" y="6248520"/>
              <a:ext cx="6098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PlaceHolder 4"/>
            <p:cNvSpPr>
              <a:spLocks noGrp="1"/>
            </p:cNvSpPr>
            <p:nvPr>
              <p:ph type="ftr" idx="2"/>
            </p:nvPr>
          </p:nvSpPr>
          <p:spPr>
            <a:xfrm>
              <a:off x="8381880" y="6248520"/>
              <a:ext cx="609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lstStyle>
              <a:lvl1pPr indent="0" algn="ctr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  <a:defRPr b="0" lang="en-US" sz="1400" spc="-1" strike="noStrike">
                  <a:solidFill>
                    <a:srgbClr val="000000"/>
                  </a:solidFill>
                  <a:latin typeface="Tahoma"/>
                </a:defRPr>
              </a:lvl1pPr>
            </a:lstStyle>
            <a:p>
              <a:pPr indent="0" algn="ctr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lt;foot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828800" y="2438280"/>
            <a:ext cx="6172200" cy="4648320"/>
            <a:chOff x="1828800" y="2438280"/>
            <a:chExt cx="6172200" cy="4648320"/>
          </a:xfrm>
        </p:grpSpPr>
        <p:pic>
          <p:nvPicPr>
            <p:cNvPr id="44" name="" descr="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1828800" y="2438280"/>
              <a:ext cx="6172200" cy="46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 txBox="1"/>
            <p:nvPr/>
          </p:nvSpPr>
          <p:spPr>
            <a:xfrm>
              <a:off x="1828800" y="2438280"/>
              <a:ext cx="6172200" cy="464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lt;foot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D060-C150-4791-A19B-0A060D2FD10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aint" descr=""/>
          <p:cNvPicPr/>
          <p:nvPr/>
        </p:nvPicPr>
        <p:blipFill>
          <a:blip r:embed="rId3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für Anfäng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haos Communication Congres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erlin, 27.-29. Dezember 1998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h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 oder 100 Mbit/s: Gleiches Protoko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me-Typ: Ethernet-I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 Byte Adressen, weltweit eindeutig (in der Hardware festgeleg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SMA/CD, “Shared media”, nicht kollisionsfrei, stochastisches Verhal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uerdings auch “switched Ethernet”, kollisionsfrei (gleiches Protoko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E92E9-F0FA-4C77-BF2C-E2100DFDB1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692280" y="1606680"/>
            <a:ext cx="7302600" cy="3788640"/>
            <a:chOff x="692280" y="1606680"/>
            <a:chExt cx="7302600" cy="3788640"/>
          </a:xfrm>
        </p:grpSpPr>
        <p:sp>
          <p:nvSpPr>
            <p:cNvPr id="163" name=""/>
            <p:cNvSpPr/>
            <p:nvPr/>
          </p:nvSpPr>
          <p:spPr>
            <a:xfrm>
              <a:off x="692280" y="1606680"/>
              <a:ext cx="368280" cy="749160"/>
            </a:xfrm>
            <a:prstGeom prst="rect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20760" y="4937040"/>
              <a:ext cx="587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 Byte Zieladresse (destination addres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2120" y="2362320"/>
              <a:ext cx="0" cy="274320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5105520"/>
              <a:ext cx="1523880" cy="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149480" y="1606680"/>
            <a:ext cx="5829120" cy="3255480"/>
            <a:chOff x="1149480" y="1606680"/>
            <a:chExt cx="5829120" cy="3255480"/>
          </a:xfrm>
        </p:grpSpPr>
        <p:sp>
          <p:nvSpPr>
            <p:cNvPr id="168" name=""/>
            <p:cNvSpPr/>
            <p:nvPr/>
          </p:nvSpPr>
          <p:spPr>
            <a:xfrm>
              <a:off x="1149480" y="1606680"/>
              <a:ext cx="368280" cy="749160"/>
            </a:xfrm>
            <a:prstGeom prst="rect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65840" y="4403880"/>
              <a:ext cx="4712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 Byte Quelladresse (source addres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95280" y="2209680"/>
              <a:ext cx="0" cy="24386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95280" y="4648320"/>
              <a:ext cx="990720" cy="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606680" y="1606680"/>
            <a:ext cx="6528960" cy="2721960"/>
            <a:chOff x="1606680" y="1606680"/>
            <a:chExt cx="6528960" cy="2721960"/>
          </a:xfrm>
        </p:grpSpPr>
        <p:sp>
          <p:nvSpPr>
            <p:cNvPr id="173" name=""/>
            <p:cNvSpPr/>
            <p:nvPr/>
          </p:nvSpPr>
          <p:spPr>
            <a:xfrm>
              <a:off x="1606680" y="1606680"/>
              <a:ext cx="215640" cy="749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84560" y="3870360"/>
              <a:ext cx="5851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 Byte Typ: 0800=IP,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806=ARP, 0835=RAR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76520" y="2209680"/>
              <a:ext cx="0" cy="190512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1676160" y="4114800"/>
              <a:ext cx="609480" cy="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911240" y="1600200"/>
            <a:ext cx="6738840" cy="1509120"/>
            <a:chOff x="1911240" y="1600200"/>
            <a:chExt cx="6738840" cy="1509120"/>
          </a:xfrm>
        </p:grpSpPr>
        <p:sp>
          <p:nvSpPr>
            <p:cNvPr id="178" name=""/>
            <p:cNvSpPr/>
            <p:nvPr/>
          </p:nvSpPr>
          <p:spPr>
            <a:xfrm>
              <a:off x="1911240" y="1606680"/>
              <a:ext cx="6616800" cy="749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38480" y="1600200"/>
              <a:ext cx="533520" cy="45720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4114800" y="2057400"/>
              <a:ext cx="457200" cy="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14800" y="2057400"/>
              <a:ext cx="533520" cy="30492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48560" y="2651040"/>
              <a:ext cx="6401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6 - 1500 Bytes Nutzdaten 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MTU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=1500 byt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09680" y="1981080"/>
              <a:ext cx="0" cy="8384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214000" y="1606680"/>
            <a:ext cx="6618960" cy="2112480"/>
            <a:chOff x="2214000" y="1606680"/>
            <a:chExt cx="6618960" cy="2112480"/>
          </a:xfrm>
        </p:grpSpPr>
        <p:sp>
          <p:nvSpPr>
            <p:cNvPr id="185" name=""/>
            <p:cNvSpPr/>
            <p:nvPr/>
          </p:nvSpPr>
          <p:spPr>
            <a:xfrm>
              <a:off x="8616960" y="1606680"/>
              <a:ext cx="216000" cy="7491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14000" y="3260880"/>
              <a:ext cx="3749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 Byte CRC (Prüfsumme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38680" y="3505320"/>
              <a:ext cx="304812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8686800" y="2209320"/>
              <a:ext cx="0" cy="12956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66560" y="5516640"/>
            <a:ext cx="712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 Datenteil muß notfalls auf 46 Bytes aufgefüll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hernet (RFC894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A1E45-8586-4E30-8731-585997AA4A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kurs: Ethernet-Kab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10Base-2, 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G58 Kabel, 50 O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-Verkabelung, T-Stüc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bel muß mit je 50 Ohm terminiert se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85 m /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 Mbit/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10Base-T us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drillte Pa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568 Cat.3/4/5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Adernpaare (2 genutz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rn-Verkabelung vo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. 90+10 m/Stra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hlertolera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 und 100 Mbit/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BABF6-4216-4698-8437-4FEAD36D49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762120" y="3276720"/>
            <a:ext cx="4343400" cy="1066680"/>
            <a:chOff x="762120" y="3276720"/>
            <a:chExt cx="4343400" cy="1066680"/>
          </a:xfrm>
        </p:grpSpPr>
        <p:sp>
          <p:nvSpPr>
            <p:cNvPr id="195" name=""/>
            <p:cNvSpPr/>
            <p:nvPr/>
          </p:nvSpPr>
          <p:spPr>
            <a:xfrm>
              <a:off x="762120" y="3276720"/>
              <a:ext cx="609480" cy="1066680"/>
            </a:xfrm>
            <a:prstGeom prst="ellipse">
              <a:avLst/>
            </a:prstGeom>
            <a:noFill/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66680" y="3276720"/>
              <a:ext cx="3962520" cy="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66680" y="4343400"/>
              <a:ext cx="4038840" cy="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267080" y="2743200"/>
            <a:ext cx="4565520" cy="2718000"/>
            <a:chOff x="4267080" y="2743200"/>
            <a:chExt cx="4565520" cy="2718000"/>
          </a:xfrm>
        </p:grpSpPr>
        <p:sp>
          <p:nvSpPr>
            <p:cNvPr id="199" name=""/>
            <p:cNvSpPr/>
            <p:nvPr/>
          </p:nvSpPr>
          <p:spPr>
            <a:xfrm flipH="1">
              <a:off x="4267080" y="3733560"/>
              <a:ext cx="977760" cy="292320"/>
            </a:xfrm>
            <a:prstGeom prst="parallelogram">
              <a:avLst>
                <a:gd name="adj" fmla="val 83605"/>
              </a:avLst>
            </a:prstGeom>
            <a:solidFill>
              <a:srgbClr val="eaeaea"/>
            </a:solidFill>
            <a:ln w="1260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5400000">
              <a:off x="3848040" y="3695760"/>
              <a:ext cx="2425680" cy="520560"/>
            </a:xfrm>
            <a:prstGeom prst="parallelogram">
              <a:avLst>
                <a:gd name="adj" fmla="val 76390"/>
              </a:avLst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33760" y="3124080"/>
              <a:ext cx="3035520" cy="204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62560" y="32763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62560" y="35049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62560" y="37335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62560" y="39621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62560" y="41907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62560" y="44193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62560" y="46479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62560" y="48765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59560" y="3195360"/>
              <a:ext cx="473040" cy="22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799880" y="2743200"/>
              <a:ext cx="3568680" cy="368280"/>
            </a:xfrm>
            <a:prstGeom prst="parallelogram">
              <a:avLst>
                <a:gd name="adj" fmla="val 135617"/>
              </a:avLst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768960" y="1736640"/>
            <a:ext cx="3002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A 568A-Beleg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514240" y="2895120"/>
            <a:ext cx="4648680" cy="686160"/>
            <a:chOff x="2514240" y="2895120"/>
            <a:chExt cx="4648680" cy="686160"/>
          </a:xfrm>
        </p:grpSpPr>
        <p:sp>
          <p:nvSpPr>
            <p:cNvPr id="214" name=""/>
            <p:cNvSpPr/>
            <p:nvPr/>
          </p:nvSpPr>
          <p:spPr>
            <a:xfrm flipH="1">
              <a:off x="5028840" y="3352680"/>
              <a:ext cx="2133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4419360" y="2895480"/>
              <a:ext cx="609480" cy="457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2514240" y="289548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028840" y="3352680"/>
              <a:ext cx="2133720" cy="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4419360" y="2895120"/>
              <a:ext cx="533160" cy="38124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2514240" y="2895480"/>
              <a:ext cx="1981080" cy="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4876920" y="3581280"/>
              <a:ext cx="2286000" cy="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4495320" y="3200400"/>
              <a:ext cx="381240" cy="380880"/>
            </a:xfrm>
            <a:prstGeom prst="line">
              <a:avLst/>
            </a:prstGeom>
            <a:ln w="507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514240" y="3200400"/>
              <a:ext cx="1981080" cy="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62600" y="2590920"/>
            <a:ext cx="2117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iß-grü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ü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iß-o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iß-bl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iß-bra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514240" y="3962520"/>
            <a:ext cx="4648320" cy="380880"/>
            <a:chOff x="2514240" y="3962520"/>
            <a:chExt cx="4648320" cy="380880"/>
          </a:xfrm>
        </p:grpSpPr>
        <p:sp>
          <p:nvSpPr>
            <p:cNvPr id="225" name=""/>
            <p:cNvSpPr/>
            <p:nvPr/>
          </p:nvSpPr>
          <p:spPr>
            <a:xfrm>
              <a:off x="2514600" y="3962520"/>
              <a:ext cx="19810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4647960" y="4038480"/>
              <a:ext cx="251460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95680" y="3962520"/>
              <a:ext cx="152640" cy="7596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4647960" y="4267080"/>
              <a:ext cx="25146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4495680" y="4267080"/>
              <a:ext cx="152640" cy="76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2514240" y="434340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4647960" y="4267080"/>
              <a:ext cx="2514600" cy="0"/>
            </a:xfrm>
            <a:prstGeom prst="line">
              <a:avLst/>
            </a:prstGeom>
            <a:ln w="7632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4495680" y="4267080"/>
              <a:ext cx="152640" cy="76320"/>
            </a:xfrm>
            <a:prstGeom prst="line">
              <a:avLst/>
            </a:prstGeom>
            <a:ln w="507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2514240" y="4343400"/>
              <a:ext cx="1981080" cy="0"/>
            </a:xfrm>
            <a:prstGeom prst="line">
              <a:avLst/>
            </a:prstGeom>
            <a:ln w="7632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514240" y="3580920"/>
            <a:ext cx="4648680" cy="1143360"/>
            <a:chOff x="2514240" y="3580920"/>
            <a:chExt cx="4648680" cy="1143360"/>
          </a:xfrm>
        </p:grpSpPr>
        <p:sp>
          <p:nvSpPr>
            <p:cNvPr id="235" name=""/>
            <p:cNvSpPr/>
            <p:nvPr/>
          </p:nvSpPr>
          <p:spPr>
            <a:xfrm flipH="1">
              <a:off x="4647960" y="3809880"/>
              <a:ext cx="25146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4495680" y="3580920"/>
              <a:ext cx="152640" cy="2286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2514240" y="358128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4647960" y="3809880"/>
              <a:ext cx="2514600" cy="0"/>
            </a:xfrm>
            <a:prstGeom prst="line">
              <a:avLst/>
            </a:prstGeom>
            <a:ln w="76320">
              <a:solidFill>
                <a:srgbClr val="ff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flipV="1">
              <a:off x="4495680" y="3580920"/>
              <a:ext cx="152640" cy="228600"/>
            </a:xfrm>
            <a:prstGeom prst="line">
              <a:avLst/>
            </a:prstGeom>
            <a:ln w="50760">
              <a:solidFill>
                <a:srgbClr val="ff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2514240" y="3581280"/>
              <a:ext cx="1981080" cy="0"/>
            </a:xfrm>
            <a:prstGeom prst="line">
              <a:avLst/>
            </a:prstGeom>
            <a:ln w="76320">
              <a:solidFill>
                <a:srgbClr val="ff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4724280" y="4495680"/>
              <a:ext cx="2438640" cy="0"/>
            </a:xfrm>
            <a:prstGeom prst="line">
              <a:avLst/>
            </a:prstGeom>
            <a:ln w="7632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4495320" y="4495680"/>
              <a:ext cx="228600" cy="228600"/>
            </a:xfrm>
            <a:prstGeom prst="line">
              <a:avLst/>
            </a:prstGeom>
            <a:ln w="507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2514240" y="4724280"/>
              <a:ext cx="1981080" cy="0"/>
            </a:xfrm>
            <a:prstGeom prst="line">
              <a:avLst/>
            </a:prstGeom>
            <a:ln w="7632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514240" y="4724280"/>
            <a:ext cx="4648680" cy="762120"/>
            <a:chOff x="2514240" y="4724280"/>
            <a:chExt cx="4648680" cy="762120"/>
          </a:xfrm>
        </p:grpSpPr>
        <p:sp>
          <p:nvSpPr>
            <p:cNvPr id="245" name=""/>
            <p:cNvSpPr/>
            <p:nvPr/>
          </p:nvSpPr>
          <p:spPr>
            <a:xfrm flipH="1">
              <a:off x="4876920" y="4724280"/>
              <a:ext cx="228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4495320" y="4724280"/>
              <a:ext cx="381240" cy="3812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514240" y="510552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4876920" y="4724280"/>
              <a:ext cx="2286000" cy="0"/>
            </a:xfrm>
            <a:prstGeom prst="line">
              <a:avLst/>
            </a:prstGeom>
            <a:ln w="7632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4495320" y="4724280"/>
              <a:ext cx="381240" cy="381240"/>
            </a:xfrm>
            <a:prstGeom prst="line">
              <a:avLst/>
            </a:prstGeom>
            <a:ln w="5076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2514240" y="5105520"/>
              <a:ext cx="1981080" cy="0"/>
            </a:xfrm>
            <a:prstGeom prst="line">
              <a:avLst/>
            </a:prstGeom>
            <a:ln w="7632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4952520" y="4952880"/>
              <a:ext cx="2210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4495680" y="4952880"/>
              <a:ext cx="457200" cy="53352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2514240" y="5486400"/>
              <a:ext cx="19810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kurs: RJ45-Steck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"/>
          <p:cNvSpPr/>
          <p:nvPr/>
        </p:nvSpPr>
        <p:spPr>
          <a:xfrm>
            <a:off x="4800600" y="1295280"/>
            <a:ext cx="3962520" cy="1600200"/>
          </a:xfrm>
          <a:prstGeom prst="wedgeRoundRectCallout">
            <a:avLst>
              <a:gd name="adj1" fmla="val -53805"/>
              <a:gd name="adj2" fmla="val 109125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J45-Steck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ick auf die Kontakt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 Rastfeder zeigt nach un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9AB22-F23B-4AD8-9D44-344043AA36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- Internet Protoco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ketvermittel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gesich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indungs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2 bit Adressen, meist als 1.2.3.4 (dezimal) geschrieb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3C775-2CB3-433B-96D0-788B673019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- Adress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Adresse gehört jeweils zu einem Interface. D.h. ein Rechner mit mehreren Netzwerkkarten hat auch mehrere Adress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Daten zu groß für den nächsten Hop, werden sie zerlegt (fragmentier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hr Details spä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EBA88-8400-444C-A969-3DA0EA0925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378600" y="571500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 Byte Header, plus Op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692280" y="2062080"/>
            <a:ext cx="7226280" cy="2966760"/>
            <a:chOff x="692280" y="2062080"/>
            <a:chExt cx="7226280" cy="2966760"/>
          </a:xfrm>
        </p:grpSpPr>
        <p:sp>
          <p:nvSpPr>
            <p:cNvPr id="262" name=""/>
            <p:cNvSpPr/>
            <p:nvPr/>
          </p:nvSpPr>
          <p:spPr>
            <a:xfrm>
              <a:off x="692280" y="2062080"/>
              <a:ext cx="8254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06680" y="2062080"/>
              <a:ext cx="8254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21080" y="2062080"/>
              <a:ext cx="17398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49880" y="2062080"/>
              <a:ext cx="35686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92280" y="2663640"/>
              <a:ext cx="35686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49880" y="2663640"/>
              <a:ext cx="52056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92280" y="3269880"/>
              <a:ext cx="1739880" cy="53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521080" y="3269880"/>
              <a:ext cx="1739880" cy="53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49880" y="3269880"/>
              <a:ext cx="3568680" cy="53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4959360" y="2644560"/>
              <a:ext cx="2959200" cy="550800"/>
              <a:chOff x="4959360" y="2644560"/>
              <a:chExt cx="2959200" cy="550800"/>
            </a:xfrm>
          </p:grpSpPr>
          <p:sp>
            <p:nvSpPr>
              <p:cNvPr id="272" name=""/>
              <p:cNvSpPr/>
              <p:nvPr/>
            </p:nvSpPr>
            <p:spPr>
              <a:xfrm>
                <a:off x="4959360" y="2663640"/>
                <a:ext cx="2959200" cy="53172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241960" y="2644560"/>
                <a:ext cx="183960" cy="3636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692280" y="4497120"/>
              <a:ext cx="72262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2280" y="3887640"/>
              <a:ext cx="72262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54840" y="2038320"/>
            <a:ext cx="895320" cy="544680"/>
            <a:chOff x="654840" y="2038320"/>
            <a:chExt cx="895320" cy="544680"/>
          </a:xfrm>
        </p:grpSpPr>
        <p:sp>
          <p:nvSpPr>
            <p:cNvPr id="277" name=""/>
            <p:cNvSpPr/>
            <p:nvPr/>
          </p:nvSpPr>
          <p:spPr>
            <a:xfrm>
              <a:off x="692280" y="2057400"/>
              <a:ext cx="8254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4840" y="2038320"/>
              <a:ext cx="895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V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1499400" y="2038320"/>
            <a:ext cx="1014120" cy="528840"/>
            <a:chOff x="1499400" y="2038320"/>
            <a:chExt cx="1014120" cy="528840"/>
          </a:xfrm>
        </p:grpSpPr>
        <p:sp>
          <p:nvSpPr>
            <p:cNvPr id="280" name=""/>
            <p:cNvSpPr/>
            <p:nvPr/>
          </p:nvSpPr>
          <p:spPr>
            <a:xfrm>
              <a:off x="1606680" y="2057400"/>
              <a:ext cx="8254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99400" y="2038320"/>
              <a:ext cx="101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.L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521080" y="2038320"/>
            <a:ext cx="1739880" cy="528840"/>
            <a:chOff x="2521080" y="2038320"/>
            <a:chExt cx="1739880" cy="528840"/>
          </a:xfrm>
        </p:grpSpPr>
        <p:sp>
          <p:nvSpPr>
            <p:cNvPr id="283" name=""/>
            <p:cNvSpPr/>
            <p:nvPr/>
          </p:nvSpPr>
          <p:spPr>
            <a:xfrm>
              <a:off x="2521080" y="2057400"/>
              <a:ext cx="17398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067560" y="2038320"/>
              <a:ext cx="759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4349880" y="2038320"/>
            <a:ext cx="3686400" cy="544680"/>
            <a:chOff x="4349880" y="2038320"/>
            <a:chExt cx="3686400" cy="544680"/>
          </a:xfrm>
        </p:grpSpPr>
        <p:sp>
          <p:nvSpPr>
            <p:cNvPr id="286" name=""/>
            <p:cNvSpPr/>
            <p:nvPr/>
          </p:nvSpPr>
          <p:spPr>
            <a:xfrm>
              <a:off x="4349880" y="2057400"/>
              <a:ext cx="35686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11680" y="2038320"/>
              <a:ext cx="3324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Gesamtlänge (in byt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06880" y="2666880"/>
            <a:ext cx="3769920" cy="544320"/>
            <a:chOff x="506880" y="2666880"/>
            <a:chExt cx="3769920" cy="544320"/>
          </a:xfrm>
        </p:grpSpPr>
        <p:sp>
          <p:nvSpPr>
            <p:cNvPr id="289" name=""/>
            <p:cNvSpPr/>
            <p:nvPr/>
          </p:nvSpPr>
          <p:spPr>
            <a:xfrm>
              <a:off x="708120" y="2685960"/>
              <a:ext cx="35686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6880" y="2666880"/>
              <a:ext cx="3580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ufende Nr. des Pak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215240" y="2647800"/>
            <a:ext cx="3695400" cy="544320"/>
            <a:chOff x="4215240" y="2647800"/>
            <a:chExt cx="3695400" cy="544320"/>
          </a:xfrm>
        </p:grpSpPr>
        <p:sp>
          <p:nvSpPr>
            <p:cNvPr id="292" name=""/>
            <p:cNvSpPr/>
            <p:nvPr/>
          </p:nvSpPr>
          <p:spPr>
            <a:xfrm>
              <a:off x="4341960" y="2666880"/>
              <a:ext cx="52056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15240" y="2647800"/>
              <a:ext cx="872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la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4951440" y="2647800"/>
              <a:ext cx="2959200" cy="544320"/>
              <a:chOff x="4951440" y="2647800"/>
              <a:chExt cx="2959200" cy="544320"/>
            </a:xfrm>
          </p:grpSpPr>
          <p:sp>
            <p:nvSpPr>
              <p:cNvPr id="295" name=""/>
              <p:cNvSpPr/>
              <p:nvPr/>
            </p:nvSpPr>
            <p:spPr>
              <a:xfrm>
                <a:off x="4951440" y="2666880"/>
                <a:ext cx="2959200" cy="5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149080" y="2647800"/>
                <a:ext cx="25578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Fragment-Off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7" name=""/>
          <p:cNvGrpSpPr/>
          <p:nvPr/>
        </p:nvGrpSpPr>
        <p:grpSpPr>
          <a:xfrm>
            <a:off x="622800" y="3257640"/>
            <a:ext cx="1829520" cy="543960"/>
            <a:chOff x="622800" y="3257640"/>
            <a:chExt cx="1829520" cy="543960"/>
          </a:xfrm>
        </p:grpSpPr>
        <p:sp>
          <p:nvSpPr>
            <p:cNvPr id="298" name=""/>
            <p:cNvSpPr/>
            <p:nvPr/>
          </p:nvSpPr>
          <p:spPr>
            <a:xfrm>
              <a:off x="684360" y="3276360"/>
              <a:ext cx="17398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2800" y="3257640"/>
              <a:ext cx="1829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ime to l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513160" y="3257640"/>
            <a:ext cx="1739880" cy="543960"/>
            <a:chOff x="2513160" y="3257640"/>
            <a:chExt cx="1739880" cy="543960"/>
          </a:xfrm>
        </p:grpSpPr>
        <p:sp>
          <p:nvSpPr>
            <p:cNvPr id="301" name=""/>
            <p:cNvSpPr/>
            <p:nvPr/>
          </p:nvSpPr>
          <p:spPr>
            <a:xfrm>
              <a:off x="2513160" y="3276360"/>
              <a:ext cx="17398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55000" y="3257640"/>
              <a:ext cx="1480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rotoko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4229640" y="3257640"/>
            <a:ext cx="3700800" cy="543960"/>
            <a:chOff x="4229640" y="3257640"/>
            <a:chExt cx="3700800" cy="543960"/>
          </a:xfrm>
        </p:grpSpPr>
        <p:sp>
          <p:nvSpPr>
            <p:cNvPr id="304" name=""/>
            <p:cNvSpPr/>
            <p:nvPr/>
          </p:nvSpPr>
          <p:spPr>
            <a:xfrm>
              <a:off x="4341960" y="3276360"/>
              <a:ext cx="35686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29640" y="3257640"/>
              <a:ext cx="3700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rüfsumme ü. d. H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692280" y="3889440"/>
            <a:ext cx="7226280" cy="522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ll-IP-Adresse (sour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92280" y="4498920"/>
            <a:ext cx="7226280" cy="522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el-IP-Adresse (destin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5334120"/>
            <a:ext cx="2590920" cy="1143000"/>
          </a:xfrm>
          <a:prstGeom prst="wedgeRoundRectCallout">
            <a:avLst>
              <a:gd name="adj1" fmla="val -19731"/>
              <a:gd name="adj2" fmla="val -315277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snu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 Protoko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24080" y="5334120"/>
            <a:ext cx="2590920" cy="1143000"/>
          </a:xfrm>
          <a:prstGeom prst="wedgeRoundRectCallout">
            <a:avLst>
              <a:gd name="adj1" fmla="val -87254"/>
              <a:gd name="adj2" fmla="val -310833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änge des Head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67280" y="5334120"/>
            <a:ext cx="2819520" cy="1066680"/>
          </a:xfrm>
          <a:prstGeom prst="wedgeRoundRectCallout">
            <a:avLst>
              <a:gd name="adj1" fmla="val -144314"/>
              <a:gd name="adj2" fmla="val -325000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C6CC4-34D3-42B2-87E9-D4A1E1B8BC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CMP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ernet Control Message Protoco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ür Status- und Fehlermel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st unreach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unreach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NG nutzt ICMP echo request/rep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il von IP (network layer), nutzt aber IP-Pakete zur Datenübertrag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8CBD6-0A29-4EDD-B6A3-6F27728F13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P: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ddress Resolution Protoc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ur Zustellung von IP-Paketen im LAN wird die physische (z.B. Ethernet-) Adresse benötig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hernet-Adressen (48 bit) sind weltweit eindeutig in der Hardware “eingebrannt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sche IP-Adressen (32 bit) sind vom Netzverwalter festgele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P erlaubt Umsetzu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3B6F0-6A57-4562-A1C4-9120196CEC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55120" y="1736640"/>
            <a:ext cx="119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733880" y="1736640"/>
            <a:ext cx="1014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p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905120" y="2041560"/>
            <a:ext cx="5486400" cy="824040"/>
            <a:chOff x="1905120" y="2041560"/>
            <a:chExt cx="5486400" cy="824040"/>
          </a:xfrm>
        </p:grpSpPr>
        <p:sp>
          <p:nvSpPr>
            <p:cNvPr id="321" name=""/>
            <p:cNvSpPr/>
            <p:nvPr/>
          </p:nvSpPr>
          <p:spPr>
            <a:xfrm>
              <a:off x="1905120" y="243828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949040" y="2041560"/>
              <a:ext cx="4946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RP-Request (broadcas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er hat hier IP-Adresse 1.2.3.4?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1750680" y="3641760"/>
            <a:ext cx="5868000" cy="1189800"/>
            <a:chOff x="1750680" y="3641760"/>
            <a:chExt cx="5868000" cy="1189800"/>
          </a:xfrm>
        </p:grpSpPr>
        <p:sp>
          <p:nvSpPr>
            <p:cNvPr id="324" name=""/>
            <p:cNvSpPr/>
            <p:nvPr/>
          </p:nvSpPr>
          <p:spPr>
            <a:xfrm>
              <a:off x="1905120" y="4038480"/>
              <a:ext cx="533376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750680" y="3641760"/>
              <a:ext cx="58680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RP-Reply (unicas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ch habe IP-Adresse 1.2.3.4, und me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thernet-Adresse ist a.b.c.d.e.f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533880" y="4268880"/>
            <a:ext cx="3041280" cy="1973160"/>
            <a:chOff x="533880" y="4268880"/>
            <a:chExt cx="3041280" cy="1973160"/>
          </a:xfrm>
        </p:grpSpPr>
        <p:sp>
          <p:nvSpPr>
            <p:cNvPr id="327" name=""/>
            <p:cNvSpPr/>
            <p:nvPr/>
          </p:nvSpPr>
          <p:spPr>
            <a:xfrm>
              <a:off x="1073160" y="5264280"/>
              <a:ext cx="2502000" cy="97776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72400" y="5546880"/>
              <a:ext cx="1721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RP-Cac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33880" y="4268880"/>
              <a:ext cx="13708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797440" y="2440080"/>
            <a:ext cx="3043080" cy="5486040"/>
            <a:chOff x="5797440" y="2440080"/>
            <a:chExt cx="3043080" cy="5486040"/>
          </a:xfrm>
        </p:grpSpPr>
        <p:sp>
          <p:nvSpPr>
            <p:cNvPr id="331" name=""/>
            <p:cNvSpPr/>
            <p:nvPr/>
          </p:nvSpPr>
          <p:spPr>
            <a:xfrm>
              <a:off x="5797440" y="5264280"/>
              <a:ext cx="2502000" cy="97776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96680" y="5546880"/>
              <a:ext cx="1721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RP-Cac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469280" y="2440080"/>
              <a:ext cx="1371240" cy="548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04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042"/>
                </a:path>
              </a:pathLst>
            </a:custGeom>
            <a:noFill/>
            <a:ln cap="rnd" w="25560">
              <a:solidFill>
                <a:srgbClr val="ff66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58193-61BA-41C6-A732-CE1B483690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47FB1-35C8-4791-9107-E4BFB71493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 -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elstes Internet-Protokoll auf Transportebene (Ebene 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indungs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gesichert - “fire and forget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: z.B. DNS, NF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usätzlich zum 20 Byte IP-Header noch zwei 16 bit Portnummern, 16 bit Länge und eine 16 bit Prüfsum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C085B-A96F-48EF-9066-128BEF3378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692280" y="1758960"/>
            <a:ext cx="7226280" cy="596880"/>
            <a:chOff x="692280" y="1758960"/>
            <a:chExt cx="7226280" cy="596880"/>
          </a:xfrm>
        </p:grpSpPr>
        <p:sp>
          <p:nvSpPr>
            <p:cNvPr id="338" name=""/>
            <p:cNvSpPr/>
            <p:nvPr/>
          </p:nvSpPr>
          <p:spPr>
            <a:xfrm>
              <a:off x="692280" y="1758960"/>
              <a:ext cx="722628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12800" y="1828800"/>
              <a:ext cx="461232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 Header (20 Byte + Option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92280" y="2444760"/>
            <a:ext cx="7226280" cy="2425680"/>
            <a:chOff x="692280" y="2444760"/>
            <a:chExt cx="7226280" cy="2425680"/>
          </a:xfrm>
        </p:grpSpPr>
        <p:sp>
          <p:nvSpPr>
            <p:cNvPr id="341" name=""/>
            <p:cNvSpPr/>
            <p:nvPr/>
          </p:nvSpPr>
          <p:spPr>
            <a:xfrm>
              <a:off x="692280" y="2444760"/>
              <a:ext cx="35686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49880" y="2444760"/>
              <a:ext cx="35686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280" y="3206880"/>
              <a:ext cx="35686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349880" y="3206880"/>
              <a:ext cx="35686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92280" y="3968640"/>
              <a:ext cx="7226280" cy="901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681120" y="2422440"/>
            <a:ext cx="3571920" cy="695520"/>
            <a:chOff x="681120" y="2422440"/>
            <a:chExt cx="3571920" cy="695520"/>
          </a:xfrm>
        </p:grpSpPr>
        <p:sp>
          <p:nvSpPr>
            <p:cNvPr id="347" name=""/>
            <p:cNvSpPr/>
            <p:nvPr/>
          </p:nvSpPr>
          <p:spPr>
            <a:xfrm>
              <a:off x="681120" y="2444760"/>
              <a:ext cx="3571920" cy="673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78400" y="2422440"/>
              <a:ext cx="3086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ource por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208400" y="2438280"/>
            <a:ext cx="3752640" cy="695520"/>
            <a:chOff x="4208400" y="2438280"/>
            <a:chExt cx="3752640" cy="695520"/>
          </a:xfrm>
        </p:grpSpPr>
        <p:sp>
          <p:nvSpPr>
            <p:cNvPr id="350" name=""/>
            <p:cNvSpPr/>
            <p:nvPr/>
          </p:nvSpPr>
          <p:spPr>
            <a:xfrm>
              <a:off x="4343400" y="2460600"/>
              <a:ext cx="3571920" cy="673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208400" y="2438280"/>
              <a:ext cx="375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estination por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92280" y="3184560"/>
            <a:ext cx="3571920" cy="695160"/>
            <a:chOff x="692280" y="3184560"/>
            <a:chExt cx="3571920" cy="695160"/>
          </a:xfrm>
        </p:grpSpPr>
        <p:sp>
          <p:nvSpPr>
            <p:cNvPr id="353" name=""/>
            <p:cNvSpPr/>
            <p:nvPr/>
          </p:nvSpPr>
          <p:spPr>
            <a:xfrm>
              <a:off x="692280" y="3206880"/>
              <a:ext cx="3571920" cy="6728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46560" y="3184560"/>
              <a:ext cx="1773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DP Län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338720" y="3184560"/>
            <a:ext cx="3571920" cy="695160"/>
            <a:chOff x="4338720" y="3184560"/>
            <a:chExt cx="3571920" cy="695160"/>
          </a:xfrm>
        </p:grpSpPr>
        <p:sp>
          <p:nvSpPr>
            <p:cNvPr id="356" name=""/>
            <p:cNvSpPr/>
            <p:nvPr/>
          </p:nvSpPr>
          <p:spPr>
            <a:xfrm>
              <a:off x="4338720" y="3206880"/>
              <a:ext cx="3571920" cy="6728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796280" y="3184560"/>
              <a:ext cx="2576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DP Prüfsum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81120" y="3946680"/>
            <a:ext cx="7237440" cy="923760"/>
            <a:chOff x="681120" y="3946680"/>
            <a:chExt cx="7237440" cy="923760"/>
          </a:xfrm>
        </p:grpSpPr>
        <p:sp>
          <p:nvSpPr>
            <p:cNvPr id="359" name=""/>
            <p:cNvSpPr/>
            <p:nvPr/>
          </p:nvSpPr>
          <p:spPr>
            <a:xfrm>
              <a:off x="681120" y="3973680"/>
              <a:ext cx="7237440" cy="8967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363840" y="3946680"/>
              <a:ext cx="16876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utzdat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1752480"/>
            <a:ext cx="7226280" cy="596880"/>
            <a:chOff x="685800" y="1752480"/>
            <a:chExt cx="7226280" cy="596880"/>
          </a:xfrm>
        </p:grpSpPr>
        <p:sp>
          <p:nvSpPr>
            <p:cNvPr id="363" name=""/>
            <p:cNvSpPr/>
            <p:nvPr/>
          </p:nvSpPr>
          <p:spPr>
            <a:xfrm>
              <a:off x="685800" y="1752480"/>
              <a:ext cx="722628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6320" y="1822320"/>
              <a:ext cx="4612320" cy="458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 Header (20 Byte + Option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5ED8D-0EA6-496B-B01A-ECA69079B4D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r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DP und TCP verwenden “Ports” als Erweiterung der IP-Adres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Datenübertragung ist durch 4 Adressen gekennzeichne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l-Adresse, Quell-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el-Adresse, Ziel-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rts beschreiben einen Prozess auf einem Rechn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E518A-9EAB-43F9-9242-296126CD46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: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indungsorientiert (wie Telef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sicherte Verbindung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es kommt an, in der richtigen Reihenfolge, und nicht doppe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meisten Internet-Anwendungen verwenden TC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itaus komplexer als UD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-Server Modell übli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sucht, Netzüberlast zu vermei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E7199-3F22-4289-83DD-B988A6326C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692280" y="1758960"/>
            <a:ext cx="7226280" cy="444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92280" y="2292480"/>
            <a:ext cx="7226280" cy="3797280"/>
            <a:chOff x="692280" y="2292480"/>
            <a:chExt cx="7226280" cy="3797280"/>
          </a:xfrm>
        </p:grpSpPr>
        <p:sp>
          <p:nvSpPr>
            <p:cNvPr id="371" name=""/>
            <p:cNvSpPr/>
            <p:nvPr/>
          </p:nvSpPr>
          <p:spPr>
            <a:xfrm>
              <a:off x="692280" y="22924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49880" y="22924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92280" y="2825640"/>
              <a:ext cx="72262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2280" y="3359160"/>
              <a:ext cx="72262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349880" y="38926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2280" y="38926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2280" y="4425840"/>
              <a:ext cx="35686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49880" y="4425840"/>
              <a:ext cx="35686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2280" y="4959360"/>
              <a:ext cx="72262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92280" y="5492880"/>
              <a:ext cx="7226280" cy="596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692280" y="2270160"/>
            <a:ext cx="7270560" cy="466560"/>
            <a:chOff x="692280" y="2270160"/>
            <a:chExt cx="7270560" cy="466560"/>
          </a:xfrm>
        </p:grpSpPr>
        <p:grpSp>
          <p:nvGrpSpPr>
            <p:cNvPr id="382" name=""/>
            <p:cNvGrpSpPr/>
            <p:nvPr/>
          </p:nvGrpSpPr>
          <p:grpSpPr>
            <a:xfrm>
              <a:off x="692280" y="2270160"/>
              <a:ext cx="3571920" cy="466560"/>
              <a:chOff x="692280" y="2270160"/>
              <a:chExt cx="3571920" cy="466560"/>
            </a:xfrm>
          </p:grpSpPr>
          <p:sp>
            <p:nvSpPr>
              <p:cNvPr id="383" name=""/>
              <p:cNvSpPr/>
              <p:nvPr/>
            </p:nvSpPr>
            <p:spPr>
              <a:xfrm>
                <a:off x="692280" y="2287440"/>
                <a:ext cx="3571920" cy="449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89560" y="2270160"/>
                <a:ext cx="3086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ource port numb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4210200" y="2270160"/>
              <a:ext cx="3752640" cy="466560"/>
              <a:chOff x="4210200" y="2270160"/>
              <a:chExt cx="3752640" cy="466560"/>
            </a:xfrm>
          </p:grpSpPr>
          <p:sp>
            <p:nvSpPr>
              <p:cNvPr id="386" name=""/>
              <p:cNvSpPr/>
              <p:nvPr/>
            </p:nvSpPr>
            <p:spPr>
              <a:xfrm>
                <a:off x="4344840" y="2287440"/>
                <a:ext cx="3571920" cy="449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210200" y="2270160"/>
                <a:ext cx="3752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Destination port numb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8" name=""/>
          <p:cNvGrpSpPr/>
          <p:nvPr/>
        </p:nvGrpSpPr>
        <p:grpSpPr>
          <a:xfrm>
            <a:off x="692280" y="2803680"/>
            <a:ext cx="7226280" cy="466560"/>
            <a:chOff x="692280" y="2803680"/>
            <a:chExt cx="7226280" cy="466560"/>
          </a:xfrm>
        </p:grpSpPr>
        <p:sp>
          <p:nvSpPr>
            <p:cNvPr id="389" name=""/>
            <p:cNvSpPr/>
            <p:nvPr/>
          </p:nvSpPr>
          <p:spPr>
            <a:xfrm>
              <a:off x="692280" y="2820960"/>
              <a:ext cx="72262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08720" y="2803680"/>
              <a:ext cx="2809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692280" y="3336840"/>
            <a:ext cx="7226280" cy="466920"/>
            <a:chOff x="692280" y="3336840"/>
            <a:chExt cx="7226280" cy="466920"/>
          </a:xfrm>
        </p:grpSpPr>
        <p:sp>
          <p:nvSpPr>
            <p:cNvPr id="392" name=""/>
            <p:cNvSpPr/>
            <p:nvPr/>
          </p:nvSpPr>
          <p:spPr>
            <a:xfrm>
              <a:off x="692280" y="3354480"/>
              <a:ext cx="72262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174040" y="3336840"/>
              <a:ext cx="4084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nowledgemen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551880" y="3870360"/>
            <a:ext cx="1014120" cy="466560"/>
            <a:chOff x="551880" y="3870360"/>
            <a:chExt cx="1014120" cy="466560"/>
          </a:xfrm>
        </p:grpSpPr>
        <p:sp>
          <p:nvSpPr>
            <p:cNvPr id="395" name=""/>
            <p:cNvSpPr/>
            <p:nvPr/>
          </p:nvSpPr>
          <p:spPr>
            <a:xfrm>
              <a:off x="692280" y="3887640"/>
              <a:ext cx="74916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1880" y="3870360"/>
              <a:ext cx="101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.L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1319400" y="3870360"/>
            <a:ext cx="1506240" cy="466560"/>
            <a:chOff x="1319400" y="3870360"/>
            <a:chExt cx="1506240" cy="466560"/>
          </a:xfrm>
        </p:grpSpPr>
        <p:sp>
          <p:nvSpPr>
            <p:cNvPr id="398" name=""/>
            <p:cNvSpPr/>
            <p:nvPr/>
          </p:nvSpPr>
          <p:spPr>
            <a:xfrm>
              <a:off x="1509840" y="3887640"/>
              <a:ext cx="115092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319400" y="3870360"/>
              <a:ext cx="1506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eserv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727360" y="3870360"/>
            <a:ext cx="1539720" cy="466560"/>
            <a:chOff x="2727360" y="3870360"/>
            <a:chExt cx="1539720" cy="466560"/>
          </a:xfrm>
        </p:grpSpPr>
        <p:grpSp>
          <p:nvGrpSpPr>
            <p:cNvPr id="401" name=""/>
            <p:cNvGrpSpPr/>
            <p:nvPr/>
          </p:nvGrpSpPr>
          <p:grpSpPr>
            <a:xfrm>
              <a:off x="2728800" y="3870360"/>
              <a:ext cx="1532160" cy="466560"/>
              <a:chOff x="2728800" y="3870360"/>
              <a:chExt cx="1532160" cy="466560"/>
            </a:xfrm>
          </p:grpSpPr>
          <p:sp>
            <p:nvSpPr>
              <p:cNvPr id="402" name=""/>
              <p:cNvSpPr/>
              <p:nvPr/>
            </p:nvSpPr>
            <p:spPr>
              <a:xfrm>
                <a:off x="2728800" y="3887640"/>
                <a:ext cx="1532160" cy="449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351240" y="3870360"/>
                <a:ext cx="2444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2727360" y="3870360"/>
              <a:ext cx="1539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la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4349880" y="3870360"/>
            <a:ext cx="3568680" cy="466560"/>
            <a:chOff x="4349880" y="3870360"/>
            <a:chExt cx="3568680" cy="466560"/>
          </a:xfrm>
        </p:grpSpPr>
        <p:sp>
          <p:nvSpPr>
            <p:cNvPr id="406" name=""/>
            <p:cNvSpPr/>
            <p:nvPr/>
          </p:nvSpPr>
          <p:spPr>
            <a:xfrm>
              <a:off x="4349880" y="3887640"/>
              <a:ext cx="35686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127120" y="3870360"/>
              <a:ext cx="1923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indow si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92280" y="4403880"/>
            <a:ext cx="3568680" cy="466560"/>
            <a:chOff x="692280" y="4403880"/>
            <a:chExt cx="3568680" cy="466560"/>
          </a:xfrm>
        </p:grpSpPr>
        <p:sp>
          <p:nvSpPr>
            <p:cNvPr id="409" name=""/>
            <p:cNvSpPr/>
            <p:nvPr/>
          </p:nvSpPr>
          <p:spPr>
            <a:xfrm>
              <a:off x="692280" y="4421160"/>
              <a:ext cx="35686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309320" y="4403880"/>
              <a:ext cx="2247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CP checks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4349880" y="4403880"/>
            <a:ext cx="3568680" cy="466560"/>
            <a:chOff x="4349880" y="4403880"/>
            <a:chExt cx="3568680" cy="466560"/>
          </a:xfrm>
        </p:grpSpPr>
        <p:sp>
          <p:nvSpPr>
            <p:cNvPr id="412" name=""/>
            <p:cNvSpPr/>
            <p:nvPr/>
          </p:nvSpPr>
          <p:spPr>
            <a:xfrm>
              <a:off x="4349880" y="4421160"/>
              <a:ext cx="35686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945680" y="4403880"/>
              <a:ext cx="2286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rgent poin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692280" y="4937040"/>
            <a:ext cx="7226280" cy="466920"/>
            <a:chOff x="692280" y="4937040"/>
            <a:chExt cx="7226280" cy="466920"/>
          </a:xfrm>
        </p:grpSpPr>
        <p:sp>
          <p:nvSpPr>
            <p:cNvPr id="415" name=""/>
            <p:cNvSpPr/>
            <p:nvPr/>
          </p:nvSpPr>
          <p:spPr>
            <a:xfrm>
              <a:off x="692280" y="4954680"/>
              <a:ext cx="72262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34360" y="4937040"/>
              <a:ext cx="4362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ptionen (sofern vorhand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692280" y="5470560"/>
            <a:ext cx="7226280" cy="619200"/>
            <a:chOff x="692280" y="5470560"/>
            <a:chExt cx="7226280" cy="619200"/>
          </a:xfrm>
        </p:grpSpPr>
        <p:sp>
          <p:nvSpPr>
            <p:cNvPr id="418" name=""/>
            <p:cNvSpPr/>
            <p:nvPr/>
          </p:nvSpPr>
          <p:spPr>
            <a:xfrm>
              <a:off x="692280" y="5491080"/>
              <a:ext cx="7226280" cy="598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59120" y="5470560"/>
              <a:ext cx="4516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utzdaten (sofern vorhand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85800" y="1676520"/>
            <a:ext cx="7226280" cy="824040"/>
            <a:chOff x="685800" y="1676520"/>
            <a:chExt cx="7226280" cy="824040"/>
          </a:xfrm>
        </p:grpSpPr>
        <p:sp>
          <p:nvSpPr>
            <p:cNvPr id="422" name=""/>
            <p:cNvSpPr/>
            <p:nvPr/>
          </p:nvSpPr>
          <p:spPr>
            <a:xfrm>
              <a:off x="685800" y="1676520"/>
              <a:ext cx="7226280" cy="5270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38080" y="1676520"/>
              <a:ext cx="4513320" cy="8240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 Header (20 Byte + Option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5D7BA-FA09-4A47-8749-C98FD59AC60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quence / Ack numb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quence number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mer des ersten Bytes in diesem Segment (Flags zählen m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knowledgement numb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e Sequence number, die als nächste erwartet w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4DEBD-780C-4935-B216-EE08DB891BC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Flag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G - urgent pointer ist gült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K - acknowledgement number ist gült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SH - Empfänger soll sofort verarbeiten (pus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ST - Reset der Verbind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 - Verbindungsaufba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 - Verbindungsabba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E0FB8-5124-40B4-9C5B-0944CDAED9E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Window siz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 siz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 Empfänger bestimmt, wieviel Daten er noch aufnehmen will (z.B. Puffergröß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nn der Empfänger (wieder) mehr Daten verarbeiten kann, sendet er ein “Window updat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i Window size 0 kann nichts mehr gesendet werden, bis der Empfänger sein Window wieder öffnet (window updat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7B709-5F08-4C6E-8E5C-3DA0E273BB4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59440" y="17366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727040" y="1736640"/>
            <a:ext cx="11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981080" y="2193840"/>
            <a:ext cx="5486400" cy="824040"/>
            <a:chOff x="1981080" y="2193840"/>
            <a:chExt cx="5486400" cy="824040"/>
          </a:xfrm>
        </p:grpSpPr>
        <p:sp>
          <p:nvSpPr>
            <p:cNvPr id="435" name=""/>
            <p:cNvSpPr/>
            <p:nvPr/>
          </p:nvSpPr>
          <p:spPr>
            <a:xfrm>
              <a:off x="1981080" y="259092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94120" y="2193840"/>
              <a:ext cx="4818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Y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eine initial sequence no. ist..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1981080" y="3413160"/>
            <a:ext cx="5472720" cy="824040"/>
            <a:chOff x="1981080" y="3413160"/>
            <a:chExt cx="5472720" cy="824040"/>
          </a:xfrm>
        </p:grpSpPr>
        <p:sp>
          <p:nvSpPr>
            <p:cNvPr id="438" name=""/>
            <p:cNvSpPr/>
            <p:nvPr/>
          </p:nvSpPr>
          <p:spPr>
            <a:xfrm>
              <a:off x="1981080" y="38098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056680" y="3413160"/>
              <a:ext cx="5397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YN + 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K. Meine initial sequence no. ist..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981080" y="4632480"/>
            <a:ext cx="5486400" cy="824040"/>
            <a:chOff x="1981080" y="4632480"/>
            <a:chExt cx="5486400" cy="824040"/>
          </a:xfrm>
        </p:grpSpPr>
        <p:sp>
          <p:nvSpPr>
            <p:cNvPr id="441" name=""/>
            <p:cNvSpPr/>
            <p:nvPr/>
          </p:nvSpPr>
          <p:spPr>
            <a:xfrm>
              <a:off x="1981080" y="502920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079520" y="4632480"/>
              <a:ext cx="831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K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Verbindungs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03A96-224D-43C9-90A5-16016E85965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59440" y="17366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27040" y="1736640"/>
            <a:ext cx="11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1981080" y="1812960"/>
            <a:ext cx="5486400" cy="824040"/>
            <a:chOff x="1981080" y="1812960"/>
            <a:chExt cx="5486400" cy="824040"/>
          </a:xfrm>
        </p:grpSpPr>
        <p:sp>
          <p:nvSpPr>
            <p:cNvPr id="449" name=""/>
            <p:cNvSpPr/>
            <p:nvPr/>
          </p:nvSpPr>
          <p:spPr>
            <a:xfrm>
              <a:off x="1981080" y="220968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416320" y="18129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1981080" y="2727360"/>
            <a:ext cx="5334120" cy="824040"/>
            <a:chOff x="1981080" y="2727360"/>
            <a:chExt cx="5334120" cy="824040"/>
          </a:xfrm>
        </p:grpSpPr>
        <p:sp>
          <p:nvSpPr>
            <p:cNvPr id="452" name=""/>
            <p:cNvSpPr/>
            <p:nvPr/>
          </p:nvSpPr>
          <p:spPr>
            <a:xfrm>
              <a:off x="1981080" y="31240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70120" y="27273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1981080" y="3641760"/>
            <a:ext cx="5486400" cy="824040"/>
            <a:chOff x="1981080" y="3641760"/>
            <a:chExt cx="5486400" cy="824040"/>
          </a:xfrm>
        </p:grpSpPr>
        <p:sp>
          <p:nvSpPr>
            <p:cNvPr id="455" name=""/>
            <p:cNvSpPr/>
            <p:nvPr/>
          </p:nvSpPr>
          <p:spPr>
            <a:xfrm>
              <a:off x="1981080" y="403848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416320" y="36417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1981080" y="4556160"/>
            <a:ext cx="5334120" cy="824040"/>
            <a:chOff x="1981080" y="4556160"/>
            <a:chExt cx="5334120" cy="824040"/>
          </a:xfrm>
        </p:grpSpPr>
        <p:sp>
          <p:nvSpPr>
            <p:cNvPr id="458" name=""/>
            <p:cNvSpPr/>
            <p:nvPr/>
          </p:nvSpPr>
          <p:spPr>
            <a:xfrm>
              <a:off x="1981080" y="49528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670120" y="45561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Verbindung ste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C2BC1-B4D9-47EB-B9C9-134CCA82ED5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und da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dware-unabhäng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wicklung seit 1983 (DARP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ine zentrale Verwalt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in zentraler Knoten (im Gegensatz zu SN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sfallsicherheit als Designziel (DO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Paket-per-Pake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8CD78-C195-4C40-B82D-C6D2E40422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59440" y="17366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727040" y="1736640"/>
            <a:ext cx="11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1406880" y="1812960"/>
            <a:ext cx="6194160" cy="824040"/>
            <a:chOff x="1406880" y="1812960"/>
            <a:chExt cx="6194160" cy="824040"/>
          </a:xfrm>
        </p:grpSpPr>
        <p:sp>
          <p:nvSpPr>
            <p:cNvPr id="466" name=""/>
            <p:cNvSpPr/>
            <p:nvPr/>
          </p:nvSpPr>
          <p:spPr>
            <a:xfrm>
              <a:off x="1981080" y="2209680"/>
              <a:ext cx="5486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06880" y="1812960"/>
              <a:ext cx="6194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ch bin fertig und will nicht mehr se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1981080" y="2727360"/>
            <a:ext cx="5334120" cy="824040"/>
            <a:chOff x="1981080" y="2727360"/>
            <a:chExt cx="5334120" cy="824040"/>
          </a:xfrm>
        </p:grpSpPr>
        <p:sp>
          <p:nvSpPr>
            <p:cNvPr id="469" name=""/>
            <p:cNvSpPr/>
            <p:nvPr/>
          </p:nvSpPr>
          <p:spPr>
            <a:xfrm>
              <a:off x="1981080" y="31240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99680" y="2727360"/>
              <a:ext cx="3102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 des 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nke, versta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1660680" y="4175280"/>
            <a:ext cx="6194160" cy="824040"/>
            <a:chOff x="1660680" y="4175280"/>
            <a:chExt cx="6194160" cy="824040"/>
          </a:xfrm>
        </p:grpSpPr>
        <p:sp>
          <p:nvSpPr>
            <p:cNvPr id="472" name=""/>
            <p:cNvSpPr/>
            <p:nvPr/>
          </p:nvSpPr>
          <p:spPr>
            <a:xfrm>
              <a:off x="1981080" y="457200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660680" y="4175280"/>
              <a:ext cx="6194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ch bin fertig und will nicht mehr se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1981080" y="5089680"/>
            <a:ext cx="5486400" cy="824040"/>
            <a:chOff x="1981080" y="5089680"/>
            <a:chExt cx="5486400" cy="824040"/>
          </a:xfrm>
        </p:grpSpPr>
        <p:sp>
          <p:nvSpPr>
            <p:cNvPr id="475" name=""/>
            <p:cNvSpPr/>
            <p:nvPr/>
          </p:nvSpPr>
          <p:spPr>
            <a:xfrm>
              <a:off x="1981080" y="5486400"/>
              <a:ext cx="5486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945520" y="5089680"/>
              <a:ext cx="3102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 des 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nke, versta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Verbindungsab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FE366-81F9-44AA-B00E-AD307BDE1A2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17B03-FF96-41B3-B441-447F727B60A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-Adressen sind 32 bit organisier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gibt Class-A, Class-B und Class-C Netze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se unterscheiden sich durch die Netzmaske, die angibt, welcher Teil der Adresse das Netz und welcher den Rechner innerhalb des Netzes bezeichn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-Entscheidungen werden nur nach dem Netz-Teil der Adresse getroffe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236D2-FD10-4F40-9C38-0CF52BC3C8B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723240" y="1682640"/>
            <a:ext cx="8033400" cy="596880"/>
            <a:chOff x="723240" y="1682640"/>
            <a:chExt cx="8033400" cy="596880"/>
          </a:xfrm>
        </p:grpSpPr>
        <p:sp>
          <p:nvSpPr>
            <p:cNvPr id="483" name=""/>
            <p:cNvSpPr/>
            <p:nvPr/>
          </p:nvSpPr>
          <p:spPr>
            <a:xfrm>
              <a:off x="723240" y="1736640"/>
              <a:ext cx="1193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ass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139840" y="168264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816360" y="168264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492880" y="1682640"/>
              <a:ext cx="158724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69040" y="168264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720000" y="2374920"/>
            <a:ext cx="8036640" cy="596880"/>
            <a:chOff x="720000" y="2374920"/>
            <a:chExt cx="8036640" cy="596880"/>
          </a:xfrm>
        </p:grpSpPr>
        <p:sp>
          <p:nvSpPr>
            <p:cNvPr id="489" name=""/>
            <p:cNvSpPr/>
            <p:nvPr/>
          </p:nvSpPr>
          <p:spPr>
            <a:xfrm>
              <a:off x="720000" y="2428920"/>
              <a:ext cx="1197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ass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39840" y="2374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16360" y="2374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492880" y="2374920"/>
              <a:ext cx="158724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169040" y="237492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724680" y="3060720"/>
            <a:ext cx="8031960" cy="596880"/>
            <a:chOff x="724680" y="3060720"/>
            <a:chExt cx="8031960" cy="596880"/>
          </a:xfrm>
        </p:grpSpPr>
        <p:sp>
          <p:nvSpPr>
            <p:cNvPr id="495" name=""/>
            <p:cNvSpPr/>
            <p:nvPr/>
          </p:nvSpPr>
          <p:spPr>
            <a:xfrm>
              <a:off x="724680" y="3114720"/>
              <a:ext cx="1190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ass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139840" y="30607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16360" y="30607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492880" y="3060720"/>
              <a:ext cx="158724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169040" y="306072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685800" y="4495680"/>
            <a:ext cx="80773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 gibt nur wenige Class B und noch weniger Class A Net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 C-Netze, oder Blöcke davon, sind das Üblich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e Klassen wurden eingeführt, um die Tabellen in den Rou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lein zu hal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 ist möglich, die Netzmaske unabhängig von der Klasse frei z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zen, um ein Netz weiter zu unterteilen (subnett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zmask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718560" y="3733920"/>
            <a:ext cx="8044560" cy="596880"/>
            <a:chOff x="718560" y="3733920"/>
            <a:chExt cx="8044560" cy="596880"/>
          </a:xfrm>
        </p:grpSpPr>
        <p:sp>
          <p:nvSpPr>
            <p:cNvPr id="503" name=""/>
            <p:cNvSpPr/>
            <p:nvPr/>
          </p:nvSpPr>
          <p:spPr>
            <a:xfrm>
              <a:off x="718560" y="3787920"/>
              <a:ext cx="1539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ubn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z.B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146320" y="3733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22840" y="3733920"/>
              <a:ext cx="158724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99000" y="3733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924680" y="3733920"/>
              <a:ext cx="83844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162920" y="3733920"/>
              <a:ext cx="76176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-161625"/>
              <a:gd name="adj2" fmla="val 172398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0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-89717"/>
              <a:gd name="adj2" fmla="val 286981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255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-17944"/>
              <a:gd name="adj2" fmla="val 414324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255.25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14851"/>
              <a:gd name="adj2" fmla="val 501824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255.255.2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02E82-DFD8-4F4B-8A45-35B98F0E256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zmask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8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zmas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4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se &amp; Netzmas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8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bitweises UN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Netz-Teil der Adresse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92.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68.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53.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Host-Teil der Adresse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0.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0.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0.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34ADB-0AD3-46E7-BEAF-5F573547D54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-Ablauf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fspalten der Zieladresse in Netz- und Host-Teil (durch AND mit der Netzmask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rchsuchen der Routing-Tabelle nach dem errechneten Netzte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gefunden: An das in der Tabelle eingetragene Interface senden (next ho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nst: Zur Default-Route, falls vorhan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sonsten: ICMP “Network unreach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581FE-1AA2-4164-81C7-1DBC277A1D8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-Protokol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-Protokolle dienen dazu, die Routingtabellen automatisch zu pflegen, wenn z.B. Wege unpassierbar wer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gibt verschiedene 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P: Fuer LAN geeignet, vie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GP, BGP: Fuer WAN / ASN zu AS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ter UNIX in routed (nur RIP) bzw. gated implemen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797DD-C69A-4CFE-B450-B3776205BCE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me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ür Menschen sind numerische Adressen schwer merkb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her sorgt das DNS (Domain Name System) dafür, daß leichter merkbare Namen verwendet werden kön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server bilden eine weltweit verteilte Datenban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2771B-25CA-4C10-A6D2-0FE7870809D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me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Namen sind hierarchisch organisiert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.B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box.congress.ccc.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Anfrage fragt n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? Deutschland!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s.nic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c.de? Chaos!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s.ccc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ress.ccc.de?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s.congress.ccc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at: 195.21.208.2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70494-8B28-4307-BBB5-A53D068351D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ermeidung von Überla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das Netz an einer Stelle stark belastet ist (z.B. Übergang vom LAN ins langsamere WAN), gehen Pakete verlor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nun der Sender weiter mit voller Kapazität sendet, wird die Situation nur schlimm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FCFBE-834A-4D26-BAEB-776937B8B86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und da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kationsunabhäng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: “RFC” (Request for Comment), numeriert - auf vielen Servern verfügbar, z.B. ftp://rtfm.mit.ed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ch auf der Chaos-CD enthal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 Gegensatz zu den ISO/OSI-Protokollen kein “offizieller” Standard, aber weithin akzep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66ED8-B3E2-437C-8B25-B69BDBF01C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ermeidung von Überla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 hat zwei Mechanismen zur Vermeidung von Überlast: Slow Start und Congestion Avoida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C85AB-7C50-4D74-9849-57536F30BD1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low Star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TCP-Verbindung beginnt nicht, mit der Window-Größe zu senden, die die Gegenseite annonciert, sondern sendet zunächst nur ein Seg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effektive Window-Groesse wird nun mit jedem eingetroffenen ACK um ein weiteres Segment erhöht, bis die Windowgröße erreicht i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B1EB6-E326-48D4-BE74-35520211F24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gestion Avoid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zwischendurch Pakete verlorengehen (erkennbar daran, daß doppelte ACK-Nachrichten eintreffen), wird das fehlende Paket erneut gesendet (retransmit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Datenrate wird dann vermindert und steigt langsam wieder 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6DE3A-4C6A-436E-8484-194AB5867D5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45E1A-588E-4C96-8F81-20C680FFED1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meisten Anwendungen basieren auf TCP, nur wenige auf UD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DP-basierend sind NFS (Network File System) und D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E8D40-1E0E-4D6D-85A6-3A9BD77A158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-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FS: Network File System, entwickelt von Su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v langsam, aber extrem stabil. Das Protokoll ist “stateless”, d.h. alle Status-information liegt nur auf dem Client. Der Server kann zwischendurch neu starten, ohne daß der Client dies normalerweise merk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FS Version 2 kann auch TCP verwend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8C510-C29F-4B5A-BA9D-9CC9CAC0AEC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-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NS: Domain Name syst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fragen über UDP bei den Name Servern a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Server antworten ihrerseits per UD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ceroute: Feststellen, wie meine Daten zum Empfänger komme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r aktuelles Bild, das nächste Paket kann schon einen anderen Weg nehm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44EDD-9B48-4F12-8FB5-6DB947D7D26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-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net: Terminal-Emulation, log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SH: Das “bessere Telnet”, verschlüsse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TP: Dateitrans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 Übertragungsprotokoll des WW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TP, POP3: Electronic 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014BD-FB98-4FD8-ADA3-85E1A3112DA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FE724-536C-4679-9378-634FB095C92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griffspunk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ses Thema bildet einen besonderen Schwerpunkt morg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her hier nur ein knapper Überbli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4A851-6385-44BD-A72D-CB976357651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D8CB1-DD16-46F1-A658-B30D777D50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griffspunk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nial of Service: Berechtigte Nutzer können nicht arbei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sspähen von Daten durch passives Mitle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fälschen von Daten unterwe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ktiver Eingriff in Netzknoten (Rechner, Rout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 Spoo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7F8C5-5247-451D-8242-C2C93053B8F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nial of Servi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ood ping usw.: Überlasten eines Netzes oder Rechn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ng mit zu großen Pake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-floo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egale Fragm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uht meist auf Fehlern in der IP-Implementierung des angegriffene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8BE2E-E119-4276-89FD-06BC23FF665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usspähen von Da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tlesen (Sniffer) im 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i Ethernet einfa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ur Fehleranalyse oder Spio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find, tcpdump, RMON-Pro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tlesen in WAN-Zwischenstationen, z.B. beim Internet-Prov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-Dateien, z.B. WWW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902BE-AD26-4AF6-BCEE-769EA96B7BE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inschleusen von Da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schleusen anderer Daten (unter falscher Identitä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Übernahme (hijacking) bestehender Verbindungen, z.B. juggerna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 bei applikationsspezifischen Client-Server-Systemen, z.B. Datenban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AA305-EA73-4B1F-958A-E6D18DD7DCA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Spoof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zen der Quell-Adresse im IP-Header auf eine andere Adres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 eine Adresse im angegriffenen 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s für weitere Attac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ine Antwort mögli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fache Protokolle, wie SMTP, funktionieren auch ohne Antwort (Antwort vorhersehbar) -&gt; E-Mail Sp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27778-B5D1-4A5C-9AD4-ED4F0ED00B2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teratu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.Richard Stevens, TCP/IP Illustrated, Addison-Wesley (besonders Vol.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laf Kirch, Linux Network Administrators Guide, LDP bzw. O’Rei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uglas Comer, Internetworking with TCP/IP, Prentice-H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E0AF5-BB54-4A25-ABF2-8A46126CC2E2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tokol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ketorien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sier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F2482-61C9-4639-BBA1-52D55612E8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92480" y="5264280"/>
            <a:ext cx="6006960" cy="901440"/>
            <a:chOff x="2292480" y="5264280"/>
            <a:chExt cx="6006960" cy="901440"/>
          </a:xfrm>
        </p:grpSpPr>
        <p:sp>
          <p:nvSpPr>
            <p:cNvPr id="101" name=""/>
            <p:cNvSpPr/>
            <p:nvPr/>
          </p:nvSpPr>
          <p:spPr>
            <a:xfrm>
              <a:off x="2292480" y="52642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95360" y="5470560"/>
              <a:ext cx="4545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ink: Hardware, Gerätetreib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259720" y="4273560"/>
            <a:ext cx="6039720" cy="901800"/>
            <a:chOff x="2259720" y="4273560"/>
            <a:chExt cx="6039720" cy="901800"/>
          </a:xfrm>
        </p:grpSpPr>
        <p:sp>
          <p:nvSpPr>
            <p:cNvPr id="104" name=""/>
            <p:cNvSpPr/>
            <p:nvPr/>
          </p:nvSpPr>
          <p:spPr>
            <a:xfrm>
              <a:off x="2292480" y="427356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59720" y="4479840"/>
              <a:ext cx="5147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work: Paketzustellung, Rou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292480" y="3282840"/>
            <a:ext cx="6006960" cy="901800"/>
            <a:chOff x="2292480" y="3282840"/>
            <a:chExt cx="6006960" cy="901800"/>
          </a:xfrm>
        </p:grpSpPr>
        <p:sp>
          <p:nvSpPr>
            <p:cNvPr id="107" name=""/>
            <p:cNvSpPr/>
            <p:nvPr/>
          </p:nvSpPr>
          <p:spPr>
            <a:xfrm>
              <a:off x="2292480" y="328284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93920" y="3489480"/>
              <a:ext cx="3981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ransport: Paketsicher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261880" y="2292480"/>
            <a:ext cx="6037560" cy="901440"/>
            <a:chOff x="2261880" y="2292480"/>
            <a:chExt cx="6037560" cy="901440"/>
          </a:xfrm>
        </p:grpSpPr>
        <p:sp>
          <p:nvSpPr>
            <p:cNvPr id="110" name=""/>
            <p:cNvSpPr/>
            <p:nvPr/>
          </p:nvSpPr>
          <p:spPr>
            <a:xfrm>
              <a:off x="2292480" y="22924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61880" y="2575080"/>
              <a:ext cx="4533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pplication: Benutzerprozes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hichtenmodel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DBB39-9348-42BD-AE9D-A54ED7FD8C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2282400" y="5264280"/>
            <a:ext cx="6017040" cy="901440"/>
            <a:chOff x="2282400" y="5264280"/>
            <a:chExt cx="6017040" cy="901440"/>
          </a:xfrm>
        </p:grpSpPr>
        <p:sp>
          <p:nvSpPr>
            <p:cNvPr id="114" name=""/>
            <p:cNvSpPr/>
            <p:nvPr/>
          </p:nvSpPr>
          <p:spPr>
            <a:xfrm>
              <a:off x="2292480" y="52642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82400" y="5470560"/>
              <a:ext cx="5977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ink: Netzwerkkarte, Gerätetreiber (AR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292480" y="4273560"/>
            <a:ext cx="6006960" cy="901800"/>
            <a:chOff x="2292480" y="4273560"/>
            <a:chExt cx="6006960" cy="901800"/>
          </a:xfrm>
        </p:grpSpPr>
        <p:sp>
          <p:nvSpPr>
            <p:cNvPr id="117" name=""/>
            <p:cNvSpPr/>
            <p:nvPr/>
          </p:nvSpPr>
          <p:spPr>
            <a:xfrm>
              <a:off x="2292480" y="427356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68440" y="4479840"/>
              <a:ext cx="1411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292480" y="3282840"/>
            <a:ext cx="6006960" cy="901800"/>
            <a:chOff x="2292480" y="3282840"/>
            <a:chExt cx="6006960" cy="901800"/>
          </a:xfrm>
        </p:grpSpPr>
        <p:sp>
          <p:nvSpPr>
            <p:cNvPr id="120" name=""/>
            <p:cNvSpPr/>
            <p:nvPr/>
          </p:nvSpPr>
          <p:spPr>
            <a:xfrm>
              <a:off x="2292480" y="328284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66640" y="3489480"/>
              <a:ext cx="1594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292480" y="2292480"/>
            <a:ext cx="6006960" cy="901440"/>
            <a:chOff x="2292480" y="2292480"/>
            <a:chExt cx="6006960" cy="901440"/>
          </a:xfrm>
        </p:grpSpPr>
        <p:sp>
          <p:nvSpPr>
            <p:cNvPr id="123" name=""/>
            <p:cNvSpPr/>
            <p:nvPr/>
          </p:nvSpPr>
          <p:spPr>
            <a:xfrm>
              <a:off x="2292480" y="22924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51520" y="2575080"/>
              <a:ext cx="1792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292480" y="5264280"/>
            <a:ext cx="6006960" cy="901440"/>
            <a:chOff x="2292480" y="5264280"/>
            <a:chExt cx="6006960" cy="901440"/>
          </a:xfrm>
        </p:grpSpPr>
        <p:sp>
          <p:nvSpPr>
            <p:cNvPr id="126" name=""/>
            <p:cNvSpPr/>
            <p:nvPr/>
          </p:nvSpPr>
          <p:spPr>
            <a:xfrm>
              <a:off x="2292480" y="52642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98680" y="5470560"/>
              <a:ext cx="77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578480" y="5416560"/>
            <a:ext cx="1739880" cy="673200"/>
            <a:chOff x="4578480" y="5416560"/>
            <a:chExt cx="1739880" cy="673200"/>
          </a:xfrm>
        </p:grpSpPr>
        <p:sp>
          <p:nvSpPr>
            <p:cNvPr id="129" name=""/>
            <p:cNvSpPr/>
            <p:nvPr/>
          </p:nvSpPr>
          <p:spPr>
            <a:xfrm>
              <a:off x="4578480" y="5416560"/>
              <a:ext cx="17398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29960" y="5470560"/>
              <a:ext cx="142236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th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330960" y="5416560"/>
            <a:ext cx="1847520" cy="673200"/>
            <a:chOff x="6330960" y="5416560"/>
            <a:chExt cx="1847520" cy="673200"/>
          </a:xfrm>
        </p:grpSpPr>
        <p:sp>
          <p:nvSpPr>
            <p:cNvPr id="132" name=""/>
            <p:cNvSpPr/>
            <p:nvPr/>
          </p:nvSpPr>
          <p:spPr>
            <a:xfrm>
              <a:off x="6330960" y="5416560"/>
              <a:ext cx="181620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91800" y="5470560"/>
              <a:ext cx="178668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oken 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578480" y="4425840"/>
            <a:ext cx="3568680" cy="673200"/>
            <a:chOff x="4578480" y="4425840"/>
            <a:chExt cx="3568680" cy="673200"/>
          </a:xfrm>
        </p:grpSpPr>
        <p:sp>
          <p:nvSpPr>
            <p:cNvPr id="135" name=""/>
            <p:cNvSpPr/>
            <p:nvPr/>
          </p:nvSpPr>
          <p:spPr>
            <a:xfrm>
              <a:off x="4578480" y="4425840"/>
              <a:ext cx="35686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83320" y="4479840"/>
              <a:ext cx="47304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7162920" y="4572000"/>
            <a:ext cx="884160" cy="824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C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578480" y="3435480"/>
            <a:ext cx="1739880" cy="672840"/>
            <a:chOff x="4578480" y="3435480"/>
            <a:chExt cx="1739880" cy="672840"/>
          </a:xfrm>
        </p:grpSpPr>
        <p:sp>
          <p:nvSpPr>
            <p:cNvPr id="139" name=""/>
            <p:cNvSpPr/>
            <p:nvPr/>
          </p:nvSpPr>
          <p:spPr>
            <a:xfrm>
              <a:off x="4578480" y="3435480"/>
              <a:ext cx="17398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75760" y="3489480"/>
              <a:ext cx="73080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C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407280" y="3435480"/>
            <a:ext cx="1739880" cy="672840"/>
            <a:chOff x="6407280" y="3435480"/>
            <a:chExt cx="1739880" cy="672840"/>
          </a:xfrm>
        </p:grpSpPr>
        <p:sp>
          <p:nvSpPr>
            <p:cNvPr id="142" name=""/>
            <p:cNvSpPr/>
            <p:nvPr/>
          </p:nvSpPr>
          <p:spPr>
            <a:xfrm>
              <a:off x="6407280" y="3435480"/>
              <a:ext cx="17398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85840" y="3489480"/>
              <a:ext cx="81432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578480" y="2444760"/>
            <a:ext cx="825480" cy="673200"/>
            <a:chOff x="4578480" y="2444760"/>
            <a:chExt cx="825480" cy="673200"/>
          </a:xfrm>
        </p:grpSpPr>
        <p:sp>
          <p:nvSpPr>
            <p:cNvPr id="145" name=""/>
            <p:cNvSpPr/>
            <p:nvPr/>
          </p:nvSpPr>
          <p:spPr>
            <a:xfrm>
              <a:off x="4578480" y="2444760"/>
              <a:ext cx="8254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55160" y="2498760"/>
              <a:ext cx="58752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492880" y="2444760"/>
            <a:ext cx="848160" cy="673200"/>
            <a:chOff x="5492880" y="2444760"/>
            <a:chExt cx="848160" cy="673200"/>
          </a:xfrm>
        </p:grpSpPr>
        <p:sp>
          <p:nvSpPr>
            <p:cNvPr id="148" name=""/>
            <p:cNvSpPr/>
            <p:nvPr/>
          </p:nvSpPr>
          <p:spPr>
            <a:xfrm>
              <a:off x="5492880" y="2444760"/>
              <a:ext cx="8254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60200" y="2498760"/>
              <a:ext cx="78084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t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407280" y="2444760"/>
            <a:ext cx="825480" cy="673200"/>
            <a:chOff x="6407280" y="2444760"/>
            <a:chExt cx="825480" cy="673200"/>
          </a:xfrm>
        </p:grpSpPr>
        <p:sp>
          <p:nvSpPr>
            <p:cNvPr id="151" name=""/>
            <p:cNvSpPr/>
            <p:nvPr/>
          </p:nvSpPr>
          <p:spPr>
            <a:xfrm>
              <a:off x="6407280" y="2444760"/>
              <a:ext cx="8254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89000" y="2498760"/>
              <a:ext cx="74268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F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7315200" y="2438280"/>
            <a:ext cx="878760" cy="673200"/>
            <a:chOff x="7315200" y="2438280"/>
            <a:chExt cx="878760" cy="673200"/>
          </a:xfrm>
        </p:grpSpPr>
        <p:sp>
          <p:nvSpPr>
            <p:cNvPr id="154" name=""/>
            <p:cNvSpPr/>
            <p:nvPr/>
          </p:nvSpPr>
          <p:spPr>
            <a:xfrm>
              <a:off x="7315200" y="2438280"/>
              <a:ext cx="8380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87200" y="2492280"/>
              <a:ext cx="806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hichtenmodel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5638680"/>
            <a:ext cx="723960" cy="824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1D91A-0913-492D-960D-AED041C95D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k Lay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DLC (für WA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4E503-7E27-4A22-8727-A8F19ABC01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36:34Z</dcterms:created>
  <dc:creator>Jan H. Haul</dc:creator>
  <dc:description/>
  <dc:language>en-US</dc:language>
  <cp:lastModifiedBy>Hans-Joachim Haul</cp:lastModifiedBy>
  <cp:lastPrinted>1998-12-25T15:06:52Z</cp:lastPrinted>
  <dcterms:modified xsi:type="dcterms:W3CDTF">1998-12-25T15:07:46Z</dcterms:modified>
  <cp:revision>21</cp:revision>
  <dc:subject/>
  <dc:title>TCP/IP fuer Anfaenger</dc:title>
</cp:coreProperties>
</file>